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076-C36F-4ACC-90B8-DA383676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615-032A-4792-AB4E-AF3BC034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D186-43D2-4D46-B1F7-6197D6DE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27628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87240"/>
            <a:ext cx="264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7B5-5356-4B0D-93A7-52B40C64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091A-C227-4289-84BE-7A66DB13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39A-1A11-439B-905A-70C7A0B0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4C16-2416-4210-ABA2-5EA00753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C01-2693-44F5-ACDF-E584AD8A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8360" y="980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0231-0F80-4324-A86C-E8AE8372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E4E-1225-488A-9E33-A301AE29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8724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2E4-2779-4BF9-8230-90E3A6A6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76280"/>
            <a:ext cx="40158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87240"/>
            <a:ext cx="822960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1820-DF40-4BB2-BC7D-AC88FE06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53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05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053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053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3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3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3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53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5506-EFB4-456C-B7CA-A5D75CAB9148}" type="slidenum">
              <a:rPr b="0" lang="en-US" sz="1400" spc="-1" strike="noStrike">
                <a:solidFill>
                  <a:srgbClr val="0005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7747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867280" y="6521400"/>
            <a:ext cx="244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532"/>
                </a:solidFill>
                <a:latin typeface="Book Antiqua"/>
              </a:rPr>
              <a:t>TEEB Train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317080" y="6354720"/>
            <a:ext cx="501480" cy="503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bd.int/incentives/meetings/" TargetMode="External"/><Relationship Id="rId2" Type="http://schemas.openxmlformats.org/officeDocument/2006/relationships/hyperlink" Target="http://www.cbd.int/incentives/meetings/" TargetMode="External"/><Relationship Id="rId3" Type="http://schemas.openxmlformats.org/officeDocument/2006/relationships/hyperlink" Target="http://www.cbd.int/incentives/meetings/" TargetMode="External"/><Relationship Id="rId4" Type="http://schemas.openxmlformats.org/officeDocument/2006/relationships/hyperlink" Target="http://www.eea.europa.eu/atlas/teeb.%20Last%20accessed%20November%202012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artoYpK1yI" TargetMode="External"/><Relationship Id="rId2" Type="http://schemas.openxmlformats.org/officeDocument/2006/relationships/hyperlink" Target="http://www.youtube.com/watch?v=bXXsvEKpciI" TargetMode="External"/><Relationship Id="rId3" Type="http://schemas.openxmlformats.org/officeDocument/2006/relationships/hyperlink" Target="http://www.youtube.com/watch?v=QkkKZgKmdP4" TargetMode="External"/><Relationship Id="rId4" Type="http://schemas.openxmlformats.org/officeDocument/2006/relationships/hyperlink" Target="http://www.youtube.com/watch?v=XXyxD0JTJFU" TargetMode="External"/><Relationship Id="rId5" Type="http://schemas.openxmlformats.org/officeDocument/2006/relationships/hyperlink" Target="http://www.youtube.com/watch?v=GX2QnoPuc5s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-351000"/>
            <a:ext cx="9648720" cy="7209000"/>
          </a:xfrm>
          <a:prstGeom prst="rect">
            <a:avLst/>
          </a:prstGeom>
          <a:solidFill>
            <a:srgbClr val="3233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468360" y="5877000"/>
            <a:ext cx="867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c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969000" cy="3818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91636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  <a:ea typeface="SimSun"/>
              </a:rPr>
              <a:t>Bibliography</a:t>
            </a:r>
            <a:endParaRPr b="0" lang="en-US" sz="40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421000"/>
            <a:ext cx="763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49780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, 2011/12. Sub-regional Workshop on Valuation and Incentive Measures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2"/>
              </a:rPr>
              <a:t>www.cbd.int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3"/>
              </a:rPr>
              <a:t>/incentives/meetings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st accessed November 20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 Online Training, 2012/13. Valuation and mainstreaming. Forthcoming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an Environment Agency, 2012. The Economics of Ecosystem and Biodiversity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4"/>
              </a:rPr>
              <a:t>http://www.eea.europa.eu/atlas/teeb. Last accessed November 20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Z, 2012. Integrating Ecosystem Services into Development Planning; A stepwise approach for practitioners based on the TEEB approach. GIZ, Germany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mar, P. (ed), 2010. The Economics of Ecosystems and Biodiversity. Ecological and Economic Foundations. Earthscan, London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lennium Ecosystem Assessment, 2005. Millennium Ecosystem Assessment. http://www.millenniumassessment.org/en/index.html. Last accessed November 2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msar, 1997. Wetland Loss. http://www.ramsar.org/about/about_wetland_loss.htm. 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 Brink, P. (ed), 2010. The Economics of Ecosystem and Biodiversity in national and International Policy making. Earthscan, London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United Nations Forest and Agriculture Organisation, 2001.Global Forest Resources Assessment 2000; United Nations Forest and Agriculture Organisation,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BCSD, 2012. Biodiversity and Ecosystems training. http://www.wbcsd.org/bet.aspx. Last Accessed November 20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Wilkinson C., 2004: Status of Coral Reefs of the World: 2004 report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tmer, H. and Gundimeda, H. (eds), 2010. The Economics of Ecosystems and Biodiversity. In Local and Regional Policy and Management Earthscan, London 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, 2008. Ecosystems and Human Well-being; A framework for Assessment. Island Press, Washington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le University, 2011. The Economics of Ecosystems and Biodiversity. http://environment.yale.edu/TEEB. Last accessed November 2012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91636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udio Visual Material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Environment, Minnesota, 2010: "Big Question: What Is Nature Worth?" YouTube. YouTube, 22 Nov. 2010. Web. 1 Nov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1"/>
              </a:rPr>
              <a:t>http://www.youtube.com/watch?v=TartoYpK1yI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view with Dr. Gretchen D. Daily." YouTube. YouTube, 17 Mar. 2010. Web. 2 Nov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bXXsvEKpciI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itute of Environment, Minnesota, 2010: "Big Question: Is Earth past the Tipping Point?" YouTube. YouTube, 15 Mar. 2010. Web. 10 Oct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QkkKZgKmdP4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EB4me. "Your Invoice - TEEB Mofilm 3rd Prize." YouTube. YouTube, 16 Mar. 2012. Web. 2 Nov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XXyxD0JTJFU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EB4me. "Little Things - Mofilm Winner 1st Prize." YouTube. YouTube, 07 Feb. 2011. Web. 3 Nov. 2012. </a:t>
            </a:r>
            <a:r>
              <a:rPr b="0" lang="en-US" sz="1400" spc="-1" strike="noStrike" u="sng">
                <a:solidFill>
                  <a:srgbClr val="66cc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GX2QnoPuc5s</a:t>
            </a: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366"/>
                </a:solidFill>
                <a:latin typeface="Arial"/>
                <a:ea typeface="SimSun"/>
              </a:rPr>
              <a:t>Bibliography </a:t>
            </a:r>
            <a:r>
              <a:rPr b="1" lang="en-US" sz="3200" spc="-1" strike="noStrike">
                <a:solidFill>
                  <a:srgbClr val="323366"/>
                </a:solidFill>
                <a:latin typeface="Arial"/>
                <a:ea typeface="SimSun"/>
              </a:rPr>
              <a:t>continued..</a:t>
            </a:r>
            <a:endParaRPr b="0" lang="en-US" sz="3200" spc="-1" strike="noStrike">
              <a:solidFill>
                <a:srgbClr val="00053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16360" y="6613560"/>
            <a:ext cx="360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TEEB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3T09:34:54Z</dcterms:created>
  <dc:creator>.</dc:creator>
  <dc:description/>
  <dc:language>en-US</dc:language>
  <cp:lastModifiedBy>.</cp:lastModifiedBy>
  <dcterms:modified xsi:type="dcterms:W3CDTF">2013-06-10T13:48:15Z</dcterms:modified>
  <cp:revision>788</cp:revision>
  <dc:subject/>
  <dc:title>Slide 1</dc:title>
</cp:coreProperties>
</file>