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E88-0A26-47D3-AFD4-87CAC2D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025-D822-484F-BD8E-65671E8F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B69-7543-4F73-9138-042D9C55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E0B-CB5F-4725-958B-9A5FFD7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FEE-D848-47AD-A284-FB1476E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12E-5345-4AFE-BB8F-E74BF62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B35-CB0C-4D2D-92BE-06CEB9E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58D-8930-41C9-8658-7164773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F2B-D272-4135-AC6E-210824FC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9C2-6375-4248-B737-622083C3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BB8-C1D4-4328-B961-637E3BD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012-EED7-404B-9FEC-E0845C9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3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3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70B7-D3D7-4EDF-9E4E-4B8CD0985475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bd.int/incentives/meetings/" TargetMode="External"/><Relationship Id="rId2" Type="http://schemas.openxmlformats.org/officeDocument/2006/relationships/hyperlink" Target="http://www.cbd.int/incentives/meetings/" TargetMode="External"/><Relationship Id="rId3" Type="http://schemas.openxmlformats.org/officeDocument/2006/relationships/hyperlink" Target="http://www.cbd.int/incentives/meetings/" TargetMode="External"/><Relationship Id="rId4" Type="http://schemas.openxmlformats.org/officeDocument/2006/relationships/hyperlink" Target="http://www.eea.europa.eu/atlas/teeb.%20Last%20accessed%20November%202012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artoYpK1yI" TargetMode="External"/><Relationship Id="rId2" Type="http://schemas.openxmlformats.org/officeDocument/2006/relationships/hyperlink" Target="http://www.youtube.com/watch?v=bXXsvEKpciI" TargetMode="External"/><Relationship Id="rId3" Type="http://schemas.openxmlformats.org/officeDocument/2006/relationships/hyperlink" Target="http://www.youtube.com/watch?v=QkkKZgKmdP4" TargetMode="External"/><Relationship Id="rId4" Type="http://schemas.openxmlformats.org/officeDocument/2006/relationships/hyperlink" Target="http://www.youtube.com/watch?v=XXyxD0JTJFU" TargetMode="External"/><Relationship Id="rId5" Type="http://schemas.openxmlformats.org/officeDocument/2006/relationships/hyperlink" Target="http://www.youtube.com/watch?v=GX2QnoPuc5s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351000"/>
            <a:ext cx="9648720" cy="720900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68360" y="5877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c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969000" cy="381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978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, 2011/12. Sub-regional Workshop on Valuation and Incentive Measures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www.cbd.int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/incentives/meetings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Online Training, 2012/13. Valuation and mainstreaming. Forthcoming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Environment Agency, 2012. The Economics of Ecosystem and Biodiversity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eea.europa.eu/atlas/teeb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ar, P. (ed), 2010. The Economics of Ecosystems and Biodiversity. Ecological and Economic Foundations. Earthscan, Lond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nnium Ecosystem Assessment, 2005. Millennium Ecosystem Assessment. http://www.millenniumassessment.org/en/index.html. Last accessed November 2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sar, 1997. Wetland Loss. http://www.ramsar.org/about/about_wetland_loss.htm. 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United Nations Forest and Agriculture Organisation, 2001.Global Forest Resources Assessment 2000; United Nations Forest and Agriculture Organisation,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Wilkinson C., 2004: Status of Coral Reefs of the World: 2004 report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tmer, H. and Gundimeda, H. (eds), 2010. The Economics of Ecosystems and Biodiversity. In Local and Regional Policy and Management Earthscan, London 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, 2008. Ecosystems and Human Well-being; A framework for Assessment. Island Press, Washingt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 Visual Material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Environment, Minnesota, 2010: "Big Question: What Is Nature Worth?" YouTube. YouTube, 22 Nov. 2010. Web. 1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watch?v=TartoYpK1yI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 with Dr. Gretchen D. Daily." YouTube. YouTube, 17 Mar. 2010. Web. 2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bXXsvEKpciI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Environment, Minnesota, 2010: "Big Question: Is Earth past the Tipping Point?" YouTube. YouTube, 15 Mar. 2010. Web. 10 Oct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QkkKZgKmdP4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4me. "Your Invoice - TEEB Mofilm 3rd Prize." YouTube. YouTube, 16 Mar. 2012. Web. 2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XXyxD0JTJFU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4me. "Little Things - Mofilm Winner 1st Prize." YouTube. YouTube, 07 Feb. 2011. Web. 3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GX2QnoPuc5s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 </a:t>
            </a:r>
            <a:r>
              <a:rPr b="1" lang="en-US" sz="3200" spc="-1" strike="noStrike">
                <a:solidFill>
                  <a:srgbClr val="323366"/>
                </a:solidFill>
                <a:latin typeface="Arial"/>
                <a:ea typeface="SimSun"/>
              </a:rPr>
              <a:t>continued..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9:34:54Z</dcterms:created>
  <dc:creator>.</dc:creator>
  <dc:description/>
  <dc:language>en-US</dc:language>
  <cp:lastModifiedBy>.</cp:lastModifiedBy>
  <dcterms:modified xsi:type="dcterms:W3CDTF">2013-06-10T13:48:15Z</dcterms:modified>
  <cp:revision>788</cp:revision>
  <dc:subject/>
  <dc:title>Slide 1</dc:title>
</cp:coreProperties>
</file>