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F6C-ABE8-41A0-8FD2-5F690CAED0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918B-2041-4B9F-9A89-937857E502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5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024-E175-4BFD-8452-8E87AF30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B84-AD7F-45A7-AAD0-9D0BD1F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0508D-981C-489B-A90A-A8702AFB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E47F2-55A2-403F-9763-2C9070D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15E6A-0AD6-403E-9C40-F0DA40A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C8646-45E4-4708-9783-3D9BD9B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3DE26-38C0-4CAC-87BA-6266160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207E-E7A5-4B0E-A30C-C50F4BF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038B-B7BF-44F6-9417-7A00A298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E5A1-1CB2-4828-BB4A-7A0F3EB8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E0CC8-5FAC-4E3D-8A3E-053A6301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82627-E4DB-4B28-933F-755A1218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38E-2E29-433F-84F6-11988266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9CD9E-BA85-4795-A307-BD7E6D8E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C073B-4EC4-4348-8013-506D802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5274F-08E2-4796-AA99-6C6CA02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2CAB4-F4EF-4C2D-86DE-4699A367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4EAB2-9816-40D9-B914-E300F25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820A8-111E-446E-BADC-238E5F2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80B14-E3B0-4AED-9E95-EBB11E3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9B3A6-7CFA-48BF-AE41-459B528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187C3-0713-41E6-85D9-DD41C9A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F26F-80D4-48C4-B0E3-8AD1E69F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FB1-33A5-4276-925E-9AC411FC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952AC-2DF1-41FB-AED5-180C368B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92EA2-25F2-451C-95E9-FFE6F88E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F2D94-F4D3-49FB-88E1-8F0E2FD0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156B6-D3FB-47BB-8EF1-5674506D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A3C92-BFC4-48CB-96DE-9A5964D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59DC8-D64F-4972-B1FA-98A4E72F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C21E-1B06-4BFB-9739-C436ECA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2A154-1E6E-4F7E-8391-F79C3C9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87319-23C9-4EAD-8FD3-6900DEC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CA7E-4641-4285-99A4-35E4B72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D7E0-56DE-45F5-9B59-54D1B7A2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47D12-31D7-47B9-A99F-12CA2BA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EB86E-4769-4B4B-BBC8-AC294ACE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378B-313F-4130-854B-C8D4C94A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85C86-3651-481E-AAEA-551C1D48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7894-1217-4A46-A0C6-7934A3D7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B9DDC-FD28-4DD4-956D-D99769B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0C49B-3E92-411F-A9EE-1B599768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2AD37-E452-4D3B-BCA4-DCB390F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5007A-424C-48E3-A5EA-DC6F86F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73B16-28B0-4172-A6CB-3DC17AB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082B-8E24-4031-BFCF-C68ECF4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02E98-3E40-42E1-BAEE-A9FF0F8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4EB5-5118-49A5-BB53-9EE859B6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CDD39-8946-47B7-9142-056FA41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2C590-4CBE-4EF8-8BB5-D73DECC4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E8E6F-84E6-460D-A93B-3078BE88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556A4-06F6-4116-A86B-2BC9437D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3CDB5-BC33-4964-B8F8-F389DAE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4349F-7E3F-4A21-888D-E703C36C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CFE2D-6FF3-47F0-8705-980B6A61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8F6FE-26FB-4B20-AA07-BC907C1C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7302-2A17-4C2B-9BFB-0E3898C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B2E2C-FE9F-47AB-A9E8-B4C92765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E2492-3652-4CFC-ACC3-1EA837C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6A3C8-FB60-4992-B083-C53E1831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9BBBC-1201-471F-9E75-BA2DAC44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A7B95-E509-4DCD-A1DC-47266AB0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5B8E0-680C-4CF7-958A-89CE6597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F0945-39D8-4E46-95FC-D840E2FE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48396-2F45-47DD-8EFE-B96B0717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64A4B-6C9A-4E49-8FFF-D1860FE2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7797E-7352-4CA2-9A0E-876E4A2A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9793-68F5-4D33-9CAA-A979364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B2FB0-1DBE-4B2A-AE33-249BA605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0986A-2F92-440D-9AB3-8DE765E7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A35F7-51FC-4FCB-8315-D6C6227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19A8D-CFA0-4F73-B19B-5F5283D0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708FE-E852-4952-BEA0-F4015CB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73601-0F11-49F0-9C68-375E4D1F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20277-E7E0-47E3-B22A-9255328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F8812-229B-4177-B70C-C8FD9F7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6AEB2-FEAF-4C05-813B-03C4DD42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E57-2193-4FD0-ACD4-D4D1956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11CC-C29D-4222-9DF8-D0FDB5E0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7C2C-BF97-4DB3-A71D-DC6AE2C2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ABC-69A4-4449-8F04-BA1F19BD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42B4-C241-4701-9531-5286DC4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BDD-328D-4046-B992-7551DB6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A2BD-99D3-4D61-BB36-39BE5AAB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CD3F-4644-40EA-9BDF-522214D1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137-4A51-417C-82A3-6B4ECB07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3F5F-0CFC-4043-871F-2C1C3196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82F1-2698-43FA-ABCF-3537AF01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9A0E-23E8-42CA-951C-B75DDBA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5DFA-CE23-40B7-8B70-9CBB8D82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D3B3-0223-41A3-A886-FEA7D59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0F4-9A93-459A-B362-17BC1777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A76A-FEF5-47F4-95FE-C77DCC8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44DE-14EA-44F9-96C9-BE2EF14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6B43-7905-412F-80D4-B98B838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8F04-0E83-4B7E-90E0-BAD8E89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E8F2-22B1-4BF9-9A81-472E7559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CB31-50E0-440D-978F-507E4545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E095-0D5A-4077-ADB9-8D482C9E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209D-9FD4-415A-BB2C-F056EC29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2EA2-436F-43D5-A82B-F23C3E0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E2AA-AE7D-4512-A98E-31A7CFC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542-E757-4FBD-9762-4B2E548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F244-A9D7-4DBC-A060-86B3C86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1F25-469B-4A76-8ECF-A2651990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2FCB-A584-4628-A94F-62B6DB2B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27BA-D4CE-48A4-AAD3-4D11DD5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6255-B26C-41DB-90B5-DEBB683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AB7A-F9B4-4B7C-9ECC-E299F617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1735-CC99-427D-AD9D-BBE26F2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2AAD-E6E1-4FE0-89AF-03E84B08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7A69-A3FD-4ABE-BA03-8E574762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D3DD-A253-41A3-85C6-20E23522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669-3FA4-4C4C-AE3F-0378051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40C2-0802-4AED-BB17-7EAA6EA0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23D74-277F-4D38-960E-7BACC943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1456-EB22-4823-BE27-26A0F2FC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F852-D843-4854-8666-41E0CD8E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4EBB-371A-4628-AE0A-39C4A515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4F5D-D675-4073-B8B8-D415279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01BE-9E9D-402F-9572-A719BC2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B44C-33D6-4FA9-AE5E-6EDB1D8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605D-92E4-41C4-80CC-CDE0EFA8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DE260-ADEE-4B56-A467-A61E98EB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473-F75F-4AB7-BEF6-026F2795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8DC4-7362-4911-B2FB-3723EB09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1728-E05D-49E6-9106-5D80978E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FF5BC-A969-4A91-A31A-4640A1F0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505D-8686-4300-966F-74EDD0BB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12CF-416C-49C0-9497-FD63B71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02512-F489-43B5-BCEA-D7B2BAC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D492-7B1C-438E-A3D4-8800D53C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EEF1-2572-4429-84EB-AE46DA64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00EA-ED14-49AE-882C-F7907D0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34BE0-7FCB-4E09-86D8-F16229A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CB5-A96F-4E38-B167-BF2DB94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2474-E422-4DC1-8866-78D24162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11427-F988-4728-95D7-03FD8720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5DC5-86FB-45BD-B203-7084581C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AE891-B509-4154-80B2-6F2421D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2082-4046-41B8-A239-DEE8646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4AD2-A9AD-40BF-A06A-92A2357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20D6-73A5-42B7-BD9C-7D3F6AD2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90081-F85D-490D-A793-8D2D3965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0843-92B8-45E3-9047-FC48E320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B42A8-4E9F-4F84-AC4D-43045C8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53A-E75B-4E4B-AEF2-EC58C2C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FDA2B-ED9F-4679-BE10-EFB1872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D6947-BC94-4DC9-AF38-399538A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487DB-F7B8-4CD1-95A4-148A91B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D3C3D-3BE3-4F93-A617-8DE8CF13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B10A5-5AA4-4742-A630-17EC2792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238D8-D95C-4A10-97CC-F019BD94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15BE-3BCF-47A1-9FA4-C6BDCC98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E9550-F67B-43E0-A8DC-7A68AAB2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31106-96C2-4503-AAB0-0366F7C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0EF5-4DBE-4567-AED5-C30B1B4E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CC3-5C87-4D7A-A982-4748729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9965-15C4-45EF-8651-750DED41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2F792-3C9C-4F30-9F87-6C03D4F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4C516-C20C-4ACB-B70D-8DA745C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5BDDB-7CFD-456E-B93E-9FE4940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DEC8-960B-404A-85A5-0E0A3F6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5F640-8B04-45F1-9EA5-A03B5C21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6FD5-9BDA-4C05-903E-F7F86574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AAB4-0AAE-4D49-B15D-6C74A3DC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569C0-0B04-461B-941B-43DD426D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03736-E1F5-4D65-A1E9-D63610F5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4844-F2C5-4B36-A0A7-CFDD1D1EA5DD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496-5871-4833-9CB7-089A277EDA8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A295-4CBF-45FF-992D-31BCED46CB63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0C4-1A6C-4C15-B610-A885ACF1A7D3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13DC-3119-42E8-8F80-1EB04C4B680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6FB-9EB2-4B51-A856-229847B2CDC5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FD44-D59B-4668-922D-9753D32101D9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AED-43AD-4980-8582-618FEAC5C23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B2BA-7B93-4BCA-8E1D-5FC1ADE37A0A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3FFD-8529-4762-830B-027A7B7F0829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6E0F-77AB-4603-BEEB-018ABC732C13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02D2-4E4B-4DA8-9E77-6CC9D185F8E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CA7C-9104-4012-8BCD-FF91B9B28675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B2C-5926-4489-B3BB-8570E03057D1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  <a:ea typeface="SimSun"/>
              </a:rPr>
              <a:t>Bibliography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BD, 2011/12. Sub-regional Workshop on Valuation and Incentive Measures. http://www.cbd.int/incentives/meetings/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C, 2007. Stakeholder Engagement: A Good Practice Handbook for Companies Doing Business in Emerging Markets. IFC, Washington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fery, N., 2009. Stakeholder Engagement: A Road Map to Meaningful Engagement. Cranfield Universit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keholder Forum, 2012. FAQs. http://www.stakeholderforum.org/sf/index.php/about-us/faqs#FAQ3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05. From Words To Action. The Stakeholder Engagement Manual. Volume 2 The Practitioners Handbook on Stakeholder Engagement. UNEP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10. The Economics of Ecosystems and Biodiversity. In Business and Enterprise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-ROLAC, 2011. TEEB Capacity Building Course, Caribbean. http://www.pnuma.org/english/comunicados/310311/1cpb35n_i_en.htm?DocumentID=659&amp;ArticleID=6912&amp;l=en&amp;t=long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BCSD, 2012. Biodiversity and Ecosystems Training. http://www.wbcsd.org/bet.aspx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. In Local and Regional Policy and Management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 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le University, 2011. The Economics of Ecosystems and Biodiversity. http://environment.yale.edu/TEEB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3:42:41Z</dcterms:created>
  <dc:creator>KREBS</dc:creator>
  <dc:description/>
  <dc:language>en-US</dc:language>
  <cp:lastModifiedBy>KREBS</cp:lastModifiedBy>
  <dcterms:modified xsi:type="dcterms:W3CDTF">2013-08-05T13:43:14Z</dcterms:modified>
  <cp:revision>1</cp:revision>
  <dc:subject/>
  <dc:title>Bibliography</dc:title>
</cp:coreProperties>
</file>