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F617-5B1C-4536-8FCC-D9274A32A58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583D-B869-4FA0-84B9-FEF2679586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5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0AB5-9EEA-45CE-8774-969FE09B6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2EC0-97E1-44C7-9D05-66897B033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38DD1-881B-4098-B28F-7E69F67A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B5B0A2-B975-4D5B-A236-AAFEDAE9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17B90-5ABB-451E-B595-0921D89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38061-7F2D-4E12-95F9-76923E6B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638D7-C394-4B44-81A0-EF90A07CB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9A2D03-5301-4D57-B971-1994D9A8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810A4-0114-4065-ACAE-F0F60C8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EF268-15FA-441E-A631-6D6B77C0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BD03E-2AD5-4948-BAAE-A790C9B1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6C654-2D47-448F-BA2D-7E411E55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0352-2499-4806-B93A-7FA8EF66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41D0-A9CA-438E-8F8B-838F1926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90E89-DF04-42E0-9ADF-758EC613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C6552-8314-48B4-8CC6-1A4CCE90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AA7C73-75C8-4E1B-993D-E2B0627F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3A07D-6E05-49B1-83D3-E83EC175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D37B3-2D1F-4693-B7BC-B6C9D0B1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2D055-0139-4083-83C4-3ADD13590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E2222-2DD3-4EC8-BC21-3FC9B556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F7DCC-F2DA-4826-8620-A05DD243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CD3FA-1D9E-49D7-B02F-B527582A6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0786-7DFA-455A-8142-3CC840B9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2DBAC-75EB-428E-A34D-E75C883F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D1CC9-312F-473C-9F1F-0FD0EFAF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19BA10-C686-4FF8-A8B4-920615A1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F9F78-C213-488F-92A4-A19AD213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BE9AC-5FF0-4F4D-95B1-FBAC82A2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F20FA-F040-460E-A45A-01381C536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57187-114A-4FA3-96A4-B1EC62E8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68825-5E89-437F-9CD8-7F678932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32CA6E-39BC-4192-8E98-FC439B9C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CE2E6-CB5A-4B66-86E2-48535D58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841E-2E83-4465-B936-35AD8E3E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67DB8-617E-4E95-AFF0-0E49FFFD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D21B2-C682-49F3-8587-480EE127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81745-F2D3-4F7D-BD6C-B1298CF0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B458A-7874-4BB7-960E-7D16CFAF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2E8B4A-D289-4ABC-85E5-0E233471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57A08-CF52-4A3D-951B-BFAFD42C2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76A191-87B9-4474-B6D8-2B1D92EF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0F97D-E4B9-4959-A70A-EA4143E9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BF190-1BDA-4261-8FB1-DCACF75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2EF4-AA68-4A7A-B6FD-2687E926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14E1-FD22-449D-B227-A120E5D7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54E35-D5A7-4AEF-AF11-3B389C45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08554-3730-4345-A86E-96D7D7BB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81689-3A65-4009-881E-4A35D575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3D326B-1D7C-43D2-A594-FEC46033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BBF2A-CA31-4B11-B366-C05EB128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EF5C5-5F92-4998-8419-20C63EAE6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28950D-3A49-4EA5-BB20-DAB474D17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8B06F-C1AB-44A3-8460-90F42ABD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F1E5D7-4CF4-483F-852A-066CD6A5D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4846A-ACED-44B3-BC7E-2D577FA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5AA3-5545-44AA-A468-6F9F6F5F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AFE022-1D94-4BE4-9045-998B2FC7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B23E5-C493-4491-8CB6-4BE36567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B4FA2-EC4A-487F-8471-05D0EF1D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67B618-34BE-40F1-82E6-AF1AE72B4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6DFE9-F874-4367-A4AC-59B4CC0B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1A9C31-1D34-4D3A-B3E3-43DF6515E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A38A2-82FB-46BF-9233-BCEF68C4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66E8DA-E84C-4FAF-A540-E8B35299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B192CC-47FC-406E-B5E8-6A68E1ED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464FB-1002-4BC7-938F-20D81C33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BF2C4-F547-4EF8-98BB-A9183D2B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F4F29-8995-48CA-8DEE-74FCCBF83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64E228-810C-41AD-A25C-F817F8D0D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0069D-BAA1-451B-A53D-AE1B19C4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78384-1CEC-450E-9A1E-050EB096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422391-5795-4040-BF61-B124178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369C6-344D-4DE6-B6F9-67A1237E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00EF8-49C0-45A3-9635-A4C2902D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00B44A-63EF-4DA3-8EDA-BBD6C152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FA45C-EF4E-47C5-993C-F8E14E4D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C9E3-012C-4DB0-A267-F6011F4F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C421-1F41-469E-A127-1F6D458F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6F999-6E8F-410A-BBB3-16098F6E1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CD23-2674-4C74-810D-1459DAF1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07C4-1E57-402A-AFBA-F3936447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4860-194F-47E3-B719-8627E35E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5410-00E5-4203-9133-17C1E2C6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6EFC-26D1-4E96-8DE9-84472F5A4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E0E-5FA3-4CF0-9150-9D4D15B6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5EEF9-3060-465A-8052-C34535438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9E01-F96F-444D-8A25-F4CC4C71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D3BC8-A547-46D7-B68A-B2E2D3F7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B2468-EF53-40E7-891B-73A2CED2C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3EE32-2CBF-4D81-AE1C-B261A93B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36C6-A472-4813-A869-74C8EEF9E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1FC2D-B33F-472C-B5CC-0C9399AF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A9C0-886B-4B29-8D0F-FBF24596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759B-1436-47BA-8119-3103BCC6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1149-7CB6-4350-B84D-069FDCB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18DB8-9710-4E52-A3BA-DBC92D1B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6BCA9-4377-4884-9730-BA1C70317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641B1-16F6-4C0E-B4E6-ED30972D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9D985-0B0A-45FD-97ED-922D96C1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4CC06-29F8-441D-B915-E9ED7A84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18980-E4A2-417C-BC5A-4A4D8972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DAE-9CD5-4015-8128-5AD02C23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9A76E-6BBE-41CA-A4FC-92086C9C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C9620-BF8A-438F-B4A5-5BE7DB6A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6F14-155C-4EBE-995C-A4F7A1520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FF41-35F7-44A5-9C26-81A933D3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FB03F-67B5-4533-8739-2832382E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D5244-9D9C-4786-B17C-DFED5FA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16CBC-8634-4C7B-913D-8508D9C0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63200-D53A-4B50-B580-0A1301C4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7C3AD-DFC7-459D-B545-926D0B1B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AA16B-26D8-44D7-A60B-04DE702BB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D5FF-BD75-41D6-96EC-7FC66A1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5F52F2-6C1A-4922-91DA-EE609E15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DBFA4-7A1F-4DF7-860E-44E33E73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0819A-2D6B-42D5-9426-53729ECB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736A4-FC26-4FB7-B0E8-46C3DD16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1856-C4B4-4D8A-A710-DF559C84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51CDA-AAB3-4550-AE4B-F29AE83F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02927-30D9-4E77-8BA5-17C04162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9E91A-C56E-4642-9D6F-934FD3AC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C4FDC-D6DA-40C8-9155-D2D8FE9A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EDF9-5906-4F29-B7F8-B70D6612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C6EC-1291-4E81-B638-B9C1002B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28360-E133-405B-A049-19923C562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9D92B-2641-4373-AFEB-A7AC9A6F8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0C3C-A5A0-40B7-85EB-2C9EAB24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47017-AA84-4D21-9753-728705B59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A9A0-CC89-4793-99E7-71406CE3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1BB1E-47F8-4545-8A24-3258D429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6EB68-A781-4FCD-A320-B8C9F931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B327E-46B5-43D0-8769-82D45AC1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C6E38-F26F-4106-A6F0-F61509FB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8703-2F2F-4BDF-AFD1-67CC548A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F765-F8D3-47C6-BE39-1402978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D9DF-8984-4457-8912-D312BD80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C0F82-6BC6-48DB-846C-9F1BE053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32A4-D5B6-494B-A7A3-6DBE5C9B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EADC6-2B00-425A-80CD-D0725F28E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9FC6B-00B4-4B17-8434-91068EF6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DF229-CC2A-4E8A-9D9D-E505FFE1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C9E8C-527A-4D1D-A8D2-05DD7AFD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7D9EBE-60DA-449D-840F-0CB3CA9F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576E9-11A1-4508-80F6-729E2A76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795A5-30D4-41B1-A426-B3BA9B4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3DEE-0592-4AD7-9799-2A29F613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813D6-65EC-4244-8ECD-3358C24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DA17B-F08C-482E-9396-C1718788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77A60-D551-449F-8C28-E4422739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0CD25-E446-48CB-AA73-3FD699E4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4CAD-254B-4E73-97FF-D2F08CDF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D64B9-B23F-41D1-8E47-24A0904B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B019-D02D-4999-8A6F-7EE15A26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1568A-676F-45A6-A80B-59EDEEA4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20396E-60B8-49C5-B504-2AD53DBB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9D247-8CEA-4880-8898-7E1A6A9A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6188-2E85-4478-BE22-3099B1FD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63E4-34BE-4B9E-A4AE-EF09FBC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342F-E3BD-4589-BE8D-3F32078C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BB1861-03C1-4627-A913-C7586DF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5ED61-D124-4659-8140-2FF0BF8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5254-D090-4620-A5FE-BFB3C643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CB499-8EC8-4ACD-8B1A-048AE795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1B0E5-A9DA-44C2-899E-C6497F8A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1CEDB-AAD4-4038-9045-767DE8AF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A9D1E-4AFA-4B42-AFC3-909D89CC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803FE-AA41-49E8-B299-5A6ECB4E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777-AF2C-405D-924E-062700D17476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3DFD-FC5A-45BA-A32A-394444B08E7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274E-3493-4235-BEBD-E53606AF442D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36AB-7077-4137-A576-EE2EED6BC32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605F-779B-4B97-802D-D86B9AD5896A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0481-9831-486B-BE2D-846E8DD49B8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F4F4-35BA-4033-BC9D-9074D7D56F3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1924-0A53-4785-967C-47AA348E71DE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C62D-2695-416A-89D9-2F6E7C61172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98C0-205E-4F1A-86BB-9BAE061B85E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DAD-BA69-4D94-ACE9-637E74A33D5B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9A00-C72F-4239-A44A-EA55A8C16179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A294-A4E1-4B89-ADB1-BDEFFC1045A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DF41-4F87-44F3-AA6D-1C64E42ED4C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97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, 2011/12. Sub-regional Workshop on Valuation and Incentive Measures. http://www.cbd.int/incentives/meetings/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C, 2007. Stakeholder Engagement: A Good Practice Handbook for Companies Doing Business in Emerging Markets. IFC, Washington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fery, N., 2009. Stakeholder Engagement: A Road Map to Meaningful Engagement. Cranfield Universit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, 2012. FAQs. http://www.stakeholderforum.org/sf/index.php/about-us/faqs#FAQ3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05. From Words To Action. The Stakeholder Engagement Manual. Volume 2 The Practitioners Handbook on Stakeholder Engagement. UNEP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, 2010. The Economics of Ecosystems and Biodiversity. In Business and Enterprise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EP-ROLAC, 2011. TEEB Capacity Building Course, Caribbean. http://www.pnuma.org/english/comunicados/310311/1cpb35n_i_en.htm?DocumentID=659&amp;ArticleID=6912&amp;l=en&amp;t=long. Last accessed November 2012.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42:41Z</dcterms:created>
  <dc:creator>KREBS</dc:creator>
  <dc:description/>
  <dc:language>en-US</dc:language>
  <cp:lastModifiedBy>KREBS</cp:lastModifiedBy>
  <dcterms:modified xsi:type="dcterms:W3CDTF">2013-08-05T13:43:14Z</dcterms:modified>
  <cp:revision>1</cp:revision>
  <dc:subject/>
  <dc:title>Bibliography</dc:title>
</cp:coreProperties>
</file>