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3EC9-6044-47C4-A8CD-5ADC6AE33CD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C1C3-D995-4588-AEFC-FAD62E7D073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049B-FEAB-41B4-A493-4816B63D38B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Welcom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articipants to Module 2;  Engaging Stakehold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  <a:ea typeface="SimSun"/>
              </a:rPr>
              <a:t>Explain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why it is important to get stakeholders on board by running through the points on the slid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-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To understa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stakeholder groups (e.g. local communities, municipalities, Ministries, NGOs, etc.)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-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To cultivat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execution of these studies (e.g. through strong capacity building and consultation processes)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- </a:t>
            </a: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To identify</a:t>
            </a: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 good governance structures and stakeholder dialogues that are fully particip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- To agree</a:t>
            </a: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 on ways forward among and between stakehold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- To instigate</a:t>
            </a: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 change from the bottom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- To gain</a:t>
            </a: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 community wide by-in and increase the longevity and success of the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9AB9-4BDD-48BA-9222-6127FF869EB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Emphasiz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hat the overall goal of the module is to demonstrate the importance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f stakeholder engagement within TEEB study processes, particularly from the outset (e.g. design phas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D908-2C9B-474E-97A3-D9B92490C6D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Expla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pecific objectives of the module (see objectives on slid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951D-864C-415D-AC49-742E7800D01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Elaborat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what each session of module 2 contains – see descriptions below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Session 1: Stakeholder Engag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ession introduces the concepts and key principles behind stakeholder engagement and reasons to engage. It also emphasizes its importance during the implementation of a TEEB stu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Session 2: Stakeholder analysis and mapp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ession discusses in detail who the potential stakeholder audience might be and what their individual interests are when conducting a TEEB study. The session also suggests ways that stakeholder interests could be prioritized within a TEEB study to encourage fair decision mak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Session 3: Mechanisms for engagement and coop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ession introduces the various mechanisms for engagement and cooperation once the stakeholders have been identified as well as strategies for how to get them, and keep them, on bo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EA37-CF90-43B3-9E1D-E674451F414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Explain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nda of module and timings of each session (this is a half day session onl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Highligh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rtance of time keeping so to keep course on sched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F036-EABA-4DB9-839C-7D91FD7977E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Highligh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in learning outcom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To be abl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o analyze and understand your audience – with whom to effectively engage and h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Underst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key the principles of stakeholder engag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Identif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key stakeholder groups and understand their interests in the context of ecosystem ser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Recogniz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various mechanisms of engagement and coop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D512-B0A8-4D50-A97B-78AB3CFFE1E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Organiz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articipants into pairs and ask each pair to brainstorm as many different groups, organizations, institutions, companies etc that may be interested in land which is covered in tropical for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Explai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, under each category, participants need to consider why these different groups may be interested in this land/ecosystem and then think how their interests may be prioritiz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Discus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he findings and add others, if necess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Not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wn the information accordingly – you will then return to this information in session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E08E-ADF6-4698-8E61-5F50C18A344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  <a:ea typeface="SimSun"/>
              </a:rPr>
              <a:t>Provid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participants with key list of useful resources for module 2 as a handout and highlight some of the most useful references for the training cour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TSHALA provide as a hand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E2D5-6AB2-4236-AE51-535C5FF08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673C-A5BF-44CA-BBEB-8AD47CAC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F9DE5-1EBB-401F-AED8-36B89DC6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7EE788-8650-4866-8612-9BB06D30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3431EA-4725-40CA-A533-AE4A108B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AB22B-D094-4B80-A26F-D1224A0F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790A10-6FDF-4788-8FED-86C57755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AA5287-E121-44EA-BCB8-F8158F21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03A4FF-0027-4D9A-9D9A-E0C5E676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2E2EEB-0991-485D-A6B8-5CC3E9FAA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13054C-F05B-4AF3-BEDB-26DF48DFB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4DBE3F-4A8F-4309-B528-2C03223AE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DBE1-5561-4167-A611-680DEB1C4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F6CA79-C592-4E49-B0FD-DDBCA76B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B34E59-3060-4826-ADB8-26D8C693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9E9079-C1FE-42CD-80F7-6C0643A1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A21404-97C6-478F-AC4F-85A8C22E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AC1B50-3DA5-4EB0-931D-E1E44920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43426C-47E9-42ED-8E70-EC0F5C48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3ED934-C17C-4959-9631-D5038CFD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E6E162-4A13-4767-8039-00598470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7C22B1-BAA6-4C1A-AEDD-93D5F975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C2D21E-A479-451C-B049-8671AB76E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C4BB-4545-4E04-A064-667C2AACA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F1454E-1A9B-429C-AEFC-6C0101D4A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29FCD-9284-4958-B151-06D475D15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E4FDC9-9F95-460D-B5B1-AA1B2744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274F3-58F3-4930-A1EA-4917EE24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74B80-501F-4B9A-874D-6DCB9E49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FF28D4-7C77-419A-AE61-CBE96B5E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8385F-F8FA-4486-A075-0748F55E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D3BC04-89EB-4ED9-98D3-AA496E86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F9F334-D9C8-42D3-9750-7CB6D003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70E14-B213-43D4-849D-E5E23D72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B330-6070-4C9A-98E8-189E42732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98FE42-BA2C-40BE-9087-BCF3928A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D2A4B7-FE38-429B-A815-F81F45153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9A7907-6D59-45AD-842E-D6EEA3568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7E4F51-B60B-48A1-A9B2-AD43E4B26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E8AC7A-A239-4595-869F-A8393759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155C94-DB83-4AEF-8DD5-AF4E4184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2E00E2-2860-4062-8F22-18CDAEBC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12BAB8-2322-41BC-A609-83655BB2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FC7556-F9F0-4CA5-AE85-176A28AD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3F7F57-43F4-45CB-A866-1BF84827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EC0E-9B7F-47A0-BB96-69473482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9485D9-7133-4071-979B-E9997E04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98680F-7FF3-46DB-B85D-C25A0086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151130-A7BB-4365-A222-628C6F0B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001726-E721-4D8C-B6B0-8574E374E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747414-E3C9-4894-8C0E-9414146AF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45C198-25C4-4BC3-BD88-D7F6A5F93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24297E-7AFA-4F39-B2B3-4F682CF8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A93E8A-37A9-47BF-93A1-F25C4F3E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686BA2-8AA1-42B4-9FAB-55E32927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17E82B-0731-4CF1-B7AA-1722A6C2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2BDA2-B20A-4837-A2F8-1D60A929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56EA64-59A6-4E8F-9FB5-1691653C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55351E-F79F-43BD-9238-475C653C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A446A9-362B-4558-8E1A-AF031FD1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24991D-E5A7-4354-A0C0-E564E075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92A2C7-27CA-4537-B15E-EC5D6B0D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D892F2-D24F-4DD6-90C1-2029523F6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0F0E42-84E8-4106-AB10-4BF7666D3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EE4E1E-79BE-4C6B-B8DA-509CE776E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17BEAA-89D4-48A8-8023-9C32BF53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450F94-1E1B-4DDD-AA3E-2931D6F2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3B0D-5FC9-4C91-8144-98E315C5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457990-AB44-4AFF-8912-31159BEF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AF88A7-0CD0-458D-B78A-5C572EA1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FE70CE-C7AF-4C9A-AC50-97F25113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26732C-21B2-4DF1-8010-5B741127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5FDCC8-6A5F-4605-B289-7663D836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C7A3CF-0BA4-4BE0-90B7-A583F5BE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22CE3A-6C48-44FD-9F77-DA44AE18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D78DEF-5B90-4EFB-AC5D-C75AE445D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5B8ED9-2358-4465-8416-FC0825718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82A8-4F0D-4EA4-AE6E-3B88EE8F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9960-66CF-45F7-B37F-73CC3BA3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F4AF-5EF6-4164-BE76-73DA6A5D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E2A3-E799-4F77-99F1-E5595502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4DA9-659B-40D4-85B6-784B190C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D03B-FADD-4E42-A623-5E2FCD2D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345B-2595-4D23-B500-14486068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1C654-3FA5-4208-895F-4788A5496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A2148-CA1F-4B3B-995F-B518903D4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B00D4-B4B7-43B1-A494-7DE94F6A2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D9C50-389C-47B7-A945-E519943A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204E0-AA03-4D78-8539-5342FDF0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02DAE-3B27-466F-9DA8-EDDFDB91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9DC0B-8B65-41FC-9559-421CDE2A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FB34-3DB3-42E8-91AF-C536EEEB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4378A-6AFA-4816-ACFD-54665FFF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CF827-EFCA-4A75-ADF1-01AC0EF2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B2A5E-60C1-44DB-B1B8-C843CE2B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FC4C0-69D0-4B9D-B9BF-328C2CC5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B19F7-4D3C-4387-B5D3-81B17B8C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0E815-5B63-40D8-BE50-0966380C6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2F974-B08F-427A-8BC6-8876BCA49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55374-6D84-4ABE-93C6-CF9A3F1A9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6786A-F33B-4936-860A-7E7F1EB3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C0D8C-B0EB-42A0-9D69-69E3E581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B0AE-09AF-4756-AB04-09A05DBB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BE748-4114-4817-93BD-5604F50D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0B63B-E43C-4F2E-9C15-48DACB6B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C92AE-2EAF-458D-BA4E-D6125A63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0A8D6-7E7A-43B2-B70C-991E743E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3A3B1-5497-48A0-A75C-ABD3D34C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2C999-D811-477F-BEEA-2E2583DF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33FE9-CEEF-495A-871B-6813BCEA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AA865-DDC3-4BE5-8826-3F7F19BD6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9ABCB-13DF-412A-B637-153FDC2D4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131AB-22CC-4253-8123-CF321F30D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8D27-8742-4B55-A3CA-071878D4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6E318-1FE2-416F-8259-EF65820B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B9C27-F10F-4125-BDA9-65380A58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DD0ED-C8D9-4D02-8B58-DF1ED8AD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AD028-BF23-4F17-B40F-00FA1545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827AA-9308-47F8-B681-58896CB5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36D77-AF95-4E3B-AFAF-F3E5BC9E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F67FC-923E-4C6E-B9DA-6582911F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C1BFE-78C1-4738-83A7-6E2A40E4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96988-8AD4-4838-852C-F27419E4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0FBE1-6098-45E1-AE9E-A255B5703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17EA-E830-4501-96BB-0617D2E5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FAD9F-0676-491D-B561-F10C95725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31A74-CA5D-4879-98AB-F93D4A21F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87A10-A359-49DE-8C69-512D8516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D227F-5328-49E3-8495-196AAA46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148F3-22C9-4066-A458-3D9603CE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29F1A-E7E0-4D20-A6F6-B1F8A0B8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7FBC2-1100-4F9E-BDD7-FA9F8F20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0C962-A6F1-4709-9875-5EF827EF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0CF81-4E54-43D0-9AD1-1C8C1717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8911D-C42C-46BA-B071-629F3148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6B46-EAC8-4505-AE8A-CD8AF400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BB647-3636-4542-B7E6-A4430A87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43EC5-D942-4497-8366-1D0D6B319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C8FFA-0262-46C2-B770-65169EF27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9A9A3-82FC-4CBF-AD2D-3B275D4D8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282C2-E404-4CF5-B99B-B736E464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023C7-035E-4B9B-8F8D-27A09AE4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550A4-0F5B-4AD7-B7C1-E91A1DE9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7C526-D860-40DE-A5E4-DD10125C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073DA-CE79-45C6-A18E-6BB04C6A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CEA22-237E-4218-A193-1E473CDB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B1A4-2E3D-4123-81E2-CE740BE9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ED972-F6CD-4CCF-B221-B8CF653A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E285A-4753-49AB-BB55-F127DF36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130FD-275B-410C-BA1F-442531BD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FF887-223D-47E0-B065-92C69532B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6D728-F8AC-406C-A5CF-EBDA432CF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96897-ACC6-42EC-936D-80C95909B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9665B-A550-4D64-9DE2-2E12F69B3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D8F1C-9853-4E62-ABF0-BE3B90D0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1DE61-3D1E-436D-9F6E-1CFB79B7F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2A3BB-1585-404C-98F5-7910D2C4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B639-26B4-4B9B-8EE9-221639A4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38682-E6D8-44A1-BF99-B7BF7E37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7F475-0304-4AB6-B562-4EA7640F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F83AA-7129-4250-98E7-229B125A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DE019-D871-4B18-AD85-993AABA5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FE1A2-9CCC-4EC8-8987-7A9FA0C2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E378C-E5C1-4169-925D-3266CBA02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F31DA-4B74-439C-98F8-CA93AC39F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6B541-90F8-4B08-95ED-BBBA7FA7B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CA4A17-8F24-48FE-A475-FFB35752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65FF86-47E6-4257-AD05-8BA1731B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A6F6-55DF-48EB-8991-11A7D310BFF1}" type="slidenum">
              <a:rPr b="0" lang="en-US" sz="1400" spc="-1" strike="noStrike">
                <a:solidFill>
                  <a:srgbClr val="00053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6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8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745F-5A42-4F0F-84EF-6E980A2E0394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2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741E-C512-4AE5-945A-A8C9142EB211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485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6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FDD5-D26C-4861-A19C-654C4E03B402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0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070B-6D17-4132-A006-4B3776AB30D1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4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2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24EA-CCA2-4E44-941C-41583E60F913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7F8F-640B-4BCA-9A34-8DC31F9983B4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610C-A87E-4AB2-8DE3-E48713AF2666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6AAB-DE45-4EB4-B8A5-CA09D934539F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2A3FF-B2B8-4BB2-A1B8-71D898563923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9C5A-068E-4B14-9016-C5C7451E7438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16B5-7DDF-4D1B-9969-9BD6F52C5F02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0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E546-956D-4D6C-89EE-D195C0432966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4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5A99-57F8-4245-9C6D-5102778E3148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1"/>
          <p:cNvSpPr/>
          <p:nvPr/>
        </p:nvSpPr>
        <p:spPr>
          <a:xfrm>
            <a:off x="-181080" y="-179280"/>
            <a:ext cx="9649080" cy="7208640"/>
          </a:xfrm>
          <a:prstGeom prst="rect">
            <a:avLst/>
          </a:prstGeom>
          <a:solidFill>
            <a:srgbClr val="3233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TextBox 2"/>
          <p:cNvSpPr/>
          <p:nvPr/>
        </p:nvSpPr>
        <p:spPr>
          <a:xfrm>
            <a:off x="1692360" y="5373720"/>
            <a:ext cx="626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c000"/>
                </a:solidFill>
                <a:latin typeface="Arial"/>
                <a:ea typeface="Arial"/>
              </a:rPr>
              <a:t>Module 2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c000"/>
                </a:solidFill>
                <a:latin typeface="Arial"/>
                <a:ea typeface="Arial"/>
              </a:rPr>
              <a:t>Engaging Stakehol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TextBox 2"/>
          <p:cNvSpPr/>
          <p:nvPr/>
        </p:nvSpPr>
        <p:spPr>
          <a:xfrm>
            <a:off x="1547640" y="189000"/>
            <a:ext cx="626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c000"/>
                </a:solidFill>
                <a:latin typeface="Tahoma"/>
                <a:ea typeface="Arial"/>
              </a:rPr>
              <a:t>TEEB Training for National Level Imple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6" name="Picture 6" descr="logo TEEB transparent print"/>
          <p:cNvPicPr/>
          <p:nvPr/>
        </p:nvPicPr>
        <p:blipFill>
          <a:blip r:embed="rId1"/>
          <a:stretch/>
        </p:blipFill>
        <p:spPr>
          <a:xfrm>
            <a:off x="2987640" y="1197000"/>
            <a:ext cx="3878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4"/>
          <p:cNvSpPr/>
          <p:nvPr/>
        </p:nvSpPr>
        <p:spPr>
          <a:xfrm>
            <a:off x="684360" y="2349360"/>
            <a:ext cx="7777080" cy="53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To understan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how different stakeholder groups can be involved in or affected by a national or sub-national TEEB stu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To cultivat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long term support and build cooperation for the execution of these studies as well as establishing a community of pract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To identif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good governance structures and stakeholder dialogues that are fully participat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To agre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on ways forward among and between stakehold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To instigat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change from the bottom 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To gai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community wide by-in and increase the longevity and success of the pro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3366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323366"/>
                </a:solidFill>
                <a:latin typeface="Arial"/>
              </a:rPr>
              <a:t>Getting stakeholders on board”</a:t>
            </a:r>
            <a:endParaRPr b="0" lang="en-US" sz="36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29" name="Text Box 8"/>
          <p:cNvSpPr/>
          <p:nvPr/>
        </p:nvSpPr>
        <p:spPr>
          <a:xfrm>
            <a:off x="-541440" y="177336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23366"/>
                </a:solidFill>
                <a:latin typeface="Arial"/>
                <a:ea typeface="Arial"/>
              </a:rPr>
              <a:t>Why is it importan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-360" y="764640"/>
            <a:ext cx="869796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3366"/>
                </a:solidFill>
                <a:latin typeface="Arial"/>
              </a:rPr>
              <a:t>Module Goal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755640" y="2349000"/>
            <a:ext cx="7632720" cy="2521080"/>
          </a:xfrm>
          <a:prstGeom prst="rect">
            <a:avLst/>
          </a:prstGeom>
          <a:solidFill>
            <a:srgbClr val="66ccff">
              <a:alpha val="3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53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monstr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mportance of stakeholder engagement particularly from the outset of TEEB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23640" y="1052280"/>
            <a:ext cx="806436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3366"/>
                </a:solidFill>
                <a:latin typeface="Arial"/>
              </a:rPr>
              <a:t>Objectives of Module</a:t>
            </a:r>
            <a:br>
              <a:rPr sz="4000"/>
            </a:br>
            <a:endParaRPr b="0" lang="en-US" sz="40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362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view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eaning and benefits of stakeholder engagement and provide its underlying principles</a:t>
            </a:r>
            <a:endParaRPr b="0" lang="en-US" sz="2800" spc="-1" strike="noStrike">
              <a:solidFill>
                <a:srgbClr val="000532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32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Identif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ey actors that would be engaged in TEEB national studies and outline their potential stakeholder interests</a:t>
            </a:r>
            <a:endParaRPr b="0" lang="en-US" sz="2800" spc="-1" strike="noStrike">
              <a:solidFill>
                <a:srgbClr val="000532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32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troduc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arious mechanisms of engagement and cooperation</a:t>
            </a:r>
            <a:endParaRPr b="0" lang="en-US" sz="2800" spc="-1" strike="noStrike">
              <a:solidFill>
                <a:srgbClr val="000532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32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0728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3366"/>
                </a:solidFill>
                <a:latin typeface="Arial"/>
              </a:rPr>
              <a:t>The Module is broken down into 3 sessions:</a:t>
            </a:r>
            <a:r>
              <a:rPr b="1" lang="en-US" sz="3200" spc="-1" strike="noStrike">
                <a:solidFill>
                  <a:srgbClr val="323366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32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ession 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Stakeholder engagement</a:t>
            </a:r>
            <a:endParaRPr b="0" lang="en-US" sz="2800" spc="-1" strike="noStrike">
              <a:solidFill>
                <a:srgbClr val="000532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32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ession 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Stakeholder analysis and mapping</a:t>
            </a:r>
            <a:endParaRPr b="0" lang="en-US" sz="2800" spc="-1" strike="noStrike">
              <a:solidFill>
                <a:srgbClr val="000532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32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ession 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Mechanisms for engagement and cooperation</a:t>
            </a:r>
            <a:endParaRPr b="0" lang="en-US" sz="2800" spc="-1" strike="noStrike">
              <a:solidFill>
                <a:srgbClr val="000532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3366"/>
                </a:solidFill>
                <a:latin typeface="Arial"/>
              </a:rPr>
              <a:t>Module Agenda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468360" y="1989000"/>
          <a:ext cx="8207280" cy="3926160"/>
        </p:xfrm>
        <a:graphic>
          <a:graphicData uri="http://schemas.openxmlformats.org/drawingml/2006/table">
            <a:tbl>
              <a:tblPr/>
              <a:tblGrid>
                <a:gridCol w="1876320"/>
                <a:gridCol w="6330960"/>
              </a:tblGrid>
              <a:tr h="328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Duration (min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468a4b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00193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Sess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001932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roduction and Icebreak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ession 1: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takeholder engagemen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ession 2: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Stakeholder analysis and mapp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ffee Brea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ession 3: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Mechanisms for engagement and cooperatio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Group Exerci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ummary and Ques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468a4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unch and Finish</a:t>
                      </a:r>
                      <a:r>
                        <a:rPr b="0" lang="en-US" sz="2800" spc="-1" strike="noStrike">
                          <a:solidFill>
                            <a:srgbClr val="000532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468a4b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3366"/>
                </a:solidFill>
                <a:latin typeface="Arial"/>
              </a:rPr>
              <a:t>Learning Outcomes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32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 be 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analyze and understand your audience</a:t>
            </a:r>
            <a:endParaRPr b="0" lang="en-US" sz="2800" spc="-1" strike="noStrike">
              <a:solidFill>
                <a:srgbClr val="000532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532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Understa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key principles of stakeholder engagement</a:t>
            </a:r>
            <a:endParaRPr b="0" lang="en-US" sz="2800" spc="-1" strike="noStrike">
              <a:solidFill>
                <a:srgbClr val="000532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32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dentif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ey stakeholder groups and understand their interests </a:t>
            </a:r>
            <a:endParaRPr b="0" lang="en-US" sz="2800" spc="-1" strike="noStrike">
              <a:solidFill>
                <a:srgbClr val="000532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32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gniz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various mechanisms of engagement and cooperation</a:t>
            </a:r>
            <a:endParaRPr b="0" lang="en-US" sz="2800" spc="-1" strike="noStrike">
              <a:solidFill>
                <a:srgbClr val="0005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3366"/>
                </a:solidFill>
                <a:latin typeface="Arial"/>
              </a:rPr>
              <a:t>Ice breaker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51228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23366"/>
                </a:solidFill>
                <a:latin typeface="Times New Roman"/>
              </a:rPr>
              <a:t>A tropical forest scenario</a:t>
            </a:r>
            <a:endParaRPr b="0" lang="en-US" sz="2800" spc="-1" strike="noStrike">
              <a:solidFill>
                <a:srgbClr val="000532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irs, brainstorm which groups, organizations, institutions, companies etc. may be interested in land which is covered in tropical forest. </a:t>
            </a:r>
            <a:endParaRPr b="0" lang="en-US" sz="2400" spc="-1" strike="noStrike">
              <a:solidFill>
                <a:srgbClr val="000532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 each group, consider why they may be interested in this land/ecosystem and then think how their interests may be prioritized.</a:t>
            </a:r>
            <a:endParaRPr b="0" lang="en-US" sz="2400" spc="-1" strike="noStrike">
              <a:solidFill>
                <a:srgbClr val="000532"/>
              </a:solidFill>
              <a:latin typeface="Times New Roman"/>
            </a:endParaRPr>
          </a:p>
        </p:txBody>
      </p:sp>
      <p:pic>
        <p:nvPicPr>
          <p:cNvPr id="642" name="Picture 9" descr=""/>
          <p:cNvPicPr/>
          <p:nvPr/>
        </p:nvPicPr>
        <p:blipFill>
          <a:blip r:embed="rId1"/>
          <a:stretch/>
        </p:blipFill>
        <p:spPr>
          <a:xfrm>
            <a:off x="5508720" y="2565360"/>
            <a:ext cx="3635280" cy="3024360"/>
          </a:xfrm>
          <a:prstGeom prst="rect">
            <a:avLst/>
          </a:prstGeom>
          <a:ln w="0">
            <a:noFill/>
          </a:ln>
        </p:spPr>
      </p:pic>
      <p:sp>
        <p:nvSpPr>
          <p:cNvPr id="643" name="Rectangle 10"/>
          <p:cNvSpPr/>
          <p:nvPr/>
        </p:nvSpPr>
        <p:spPr>
          <a:xfrm>
            <a:off x="5412240" y="5516640"/>
            <a:ext cx="1258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Arial"/>
              </a:rPr>
              <a:t>©UNEP/GRID-Arendal</a:t>
            </a: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3366"/>
                </a:solidFill>
                <a:latin typeface="Arial"/>
                <a:ea typeface="SimSun"/>
              </a:rPr>
              <a:t>Key Resources for Module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45" name="Text Box 3"/>
          <p:cNvSpPr/>
          <p:nvPr/>
        </p:nvSpPr>
        <p:spPr>
          <a:xfrm>
            <a:off x="900000" y="242100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497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Reports/documents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IZ, 2012. Integrating Ecosystem Services into Development Planning; A stepwise approach for practitioners based on the TEEB approach. GIZ, Germany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n Brink, P. (ed), 2010. The Economics of Ecosystem and Biodiversity in national and International Policy making. Earthscan, London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ttmer, H. and Gundimeda, H. (eds), 2010. The Economics of Ecosystems and Biodiversity. In Local and Regional Policy and Management Earthscan, London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, 2008. Ecosystems and Human Well-being; A framework for Assessment. Island Press, Washington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Websites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BD: http://www.cbd.int/incentives/overview.shtml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E: http://www.cseindia.org/content/eia-training-programme-understanding-eiafrom-screening-decision-making-0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list Benguela: http://www.dlist.org/courses/stakeholder-participation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SPA: http://www.espa.ac.uk/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keholder Forum: </a:t>
            </a:r>
            <a:r>
              <a:rPr b="0" lang="en-US" sz="1400" spc="-1" strike="noStrike">
                <a:solidFill>
                  <a:srgbClr val="000532"/>
                </a:solidFill>
                <a:latin typeface="Times New Roman"/>
              </a:rPr>
              <a:t>http://www.dlist.org/courses/stakeholder-participation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BCSD: http://www.wbcsd.org/bet.aspx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ale University: http://environment.yale.edu/TEEB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13:30:09Z</dcterms:created>
  <dc:creator>KREBS</dc:creator>
  <dc:description/>
  <dc:language>en-US</dc:language>
  <cp:lastModifiedBy>KREBS</cp:lastModifiedBy>
  <dcterms:modified xsi:type="dcterms:W3CDTF">2013-08-05T13:33:41Z</dcterms:modified>
  <cp:revision>1</cp:revision>
  <dc:subject/>
  <dc:title>PowerPoint Presentation</dc:title>
</cp:coreProperties>
</file>