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0117-3288-44A7-8006-A984DCB47F7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59CC-1EB3-4665-AF01-B6BD9B9779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4233-742E-41FB-A4C2-1E2FB9E0AF2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Welcom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rticipants to Module 2;  Engaging Stakeho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Expla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why it is important to get stakeholders on board by running through the points on the sl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o understan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takeholder groups (e.g. local communities, municipalities, Ministries, NGOs, etc.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-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o cultivat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ecution of these studies (e.g. through strong capacity building and consultation processe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-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To identify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good governance structures and stakeholder dialogues that are fully particip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- To agree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on ways forward among and between stakehold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- To instigate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change from the bottom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GB" sz="1200" spc="-1" strike="noStrike">
                <a:solidFill>
                  <a:srgbClr val="ffffff"/>
                </a:solidFill>
                <a:latin typeface="Calibri"/>
              </a:rPr>
              <a:t>- To gain</a:t>
            </a: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 community wide by-in and increase the longevity and success of the pro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D5D7-C8EB-43E4-A70F-38AAD0DCEEA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mphasiz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at the overall goal of the module is to demonstrate the importance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f stakeholder engagement within TEEB study processes, particularly from the outset (e.g. design pha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DD5C-62B6-418D-8286-0A0266C3DFD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pecific objectives of the module (see objectives on slid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3529-6F9A-4F13-B659-0232C211CF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laborat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hat each session of module 2 contains – see descriptions bel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ssion 1: Stakeholder Eng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ssion introduces the concepts and key principles behind stakeholder engagement and reasons to engage. It also emphasizes its importance during the implementation of a TEEB stu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ssion 2: Stakeholder analysis and map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ssion discusses in detail who the potential stakeholder audience might be and what their individual interests are when conducting a TEEB study. The session also suggests ways that stakeholder interests could be prioritized within a TEEB study to encourage fair decision m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ession 3: Mechanisms for engagement and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ession introduces the various mechanisms for engagement and cooperation once the stakeholders have been identified as well as strategies for how to get them, and keep them, on 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BD4E-2CE2-4C85-A155-C1E08CDC448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nda of module and timings of each session (this is a half day session onl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ighligh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ime keeping so to keep course on sched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A020-7F6E-4342-93F7-7B6CCF77F0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Highligh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in learning outcom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o be abl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o analyze and understand your audience – with whom to effectively engage and h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Underst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key the principles of stakeholder eng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Identif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key stakeholder groups and understand their interests in the context of ecosystem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ecogniz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various mechanisms of engagement and coop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867F-8180-4648-A6EE-E2C91D849B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rganiz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articipants into pairs and ask each pair to brainstorm as many different groups, organizations, institutions, companies etc that may be interested in land which is covered in tropical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Expl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, under each category, participants need to consider why these different groups may be interested in this land/ecosystem and then think how their interests may be prioritiz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Discu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the findings and add others, if 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Not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information accordingly – you will then return to this information in session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1B599-3133-4FFD-B9F0-E983FF48FBD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  <a:ea typeface="SimSun"/>
              </a:rPr>
              <a:t>Provid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participants with key list of useful resources for module 2 as a handout and highlight some of the most useful references for the training cour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SimSun"/>
              </a:rPr>
              <a:t>TSHALA provide as a han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E3A-AC9E-4351-9EE8-376D32493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F76-69E2-4086-B735-2D64787B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AE60B-51AA-4125-8198-F89FD1E4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1888E-DBF3-4482-AAF4-6B5AE344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F279-195B-4FF9-8493-1A3B8B0A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1DF05-B3E8-41EC-8919-76200C1B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EEE6E-68F0-4984-959D-FA1F22E2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B7F58-D12D-4AD1-A6B9-7EF20602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063E7-01C4-4E2C-8137-6B92DCE1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69492-E583-4470-80A1-B35E22773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BD452-5394-4D8B-8A6C-223BD543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1FA62-7C86-460D-9293-40CE76BD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E5EF-908E-4AA5-98C9-C3CA4514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4DAA1-7F82-4FE6-9C15-4C781DF4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51B79-46F6-4FC5-8C2E-C9CBCB41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76611-17BB-4D4B-8F5D-2A827A29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652EE-3DAD-4953-BA18-D50738FD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79510-D6F8-4384-8612-57BDD129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D83AD-1366-4793-A179-A8E60089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725F3-F84E-45A2-942F-65C12DA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6889A-814F-402E-A44D-5B97DEE6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F22A7C-C789-40C3-9441-0E6D7470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FB60D-D9B1-4926-BB20-148DC230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192-84D4-4320-B6F8-6F4813A68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9B8578-BAA9-4216-9840-CE457F03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F78E9-2A8E-445F-8EE7-31CCC444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66CBE-18B9-4254-A142-418BCBFE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8234F-9A5A-4E68-A626-3549A558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462A2-1D5A-4FB9-A349-03E542A4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A6B9C5-31E9-4BCE-B4DF-C18F26AF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12699-86FF-42A9-A5ED-0A738CFC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34EF9-D163-4F9D-A3D8-E96F39E7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8EBCB6-E052-45D0-B8F1-2B0BEEA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5BF45-D960-4275-BC75-54721581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A58B-D83B-4CD5-B66D-B5FBB100A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3C89A-E09E-4040-852D-581EFF70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E3E23-59FA-4029-BDF6-2AF0E41E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8C0C3-E239-4E50-8F67-FA549DB7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D02986-BFEF-4612-902A-7694413D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2C76C-28A2-41BE-9776-1252D28B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FECE5-E867-407B-98F6-6A4CDBDA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C4508-D842-4693-B52C-CD56DCD5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7DA5B-8FB2-41DD-8D5E-6265F2BD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641B97-C7C7-4734-88CF-D6FEE09F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40941-5B29-4F8E-A0F2-CF4D149F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7CD5-12A7-4304-BB9C-D0528767C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1D4A9-B68C-4913-8C60-0409156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73671-E9C2-4B57-BA54-046998D9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A4B99-FEB8-43B2-BD7A-FF048F3F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B30DA-C03B-4241-9B10-91D53600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A71C6-39D6-4AEC-9885-5769884C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B0AE4-0E65-422F-B17C-B7EBBE7E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5EEBEE-D75C-4D76-B5BA-50D4AC97D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C30A2-E412-46DD-8C5C-46B88B85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B67F73-CC76-451A-B1A1-23510914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3FDEBB-8A98-4977-B436-5E8A835F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B283-8F1E-48F6-B273-233DB45D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8CF8CE-6603-46DA-8C17-4720348D0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988C48-C470-47C1-8200-BB151171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CF921-24F1-4AD1-B7AE-BF3F697C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CBD1D-E07D-43CA-86C7-8731D7F4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89498-24E9-4A15-B588-E5357156E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C8815-4987-43AB-A9C5-F17513C6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89FC23-9F08-4158-A3C1-5DBF2026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27183-2DC2-4C3A-8B33-A402715E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D157B7-228C-435E-A462-7A78D0F9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C53D18-0438-479E-AE68-58E3D8F2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6915-FF5A-4DFF-86D9-F613F41A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E63FFA-DE4D-4AC9-A314-2F4D5A06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50F7E5-39CE-4C78-BB6D-6FE73E26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09BE97-5680-4BAB-8B5F-21C43568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C5E889-A4BC-46D0-A2EE-9FACD700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C3F23C-765B-4714-A14B-126E8A81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9DE706-1129-4419-AF7B-158E4000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61277-2B01-49CE-BBEE-A607421C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6D936-CF29-4435-A297-5EAAD8A3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21EB8-4B63-4F6B-AB29-97AC5A55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B648-EAD3-4917-8FED-274DE6C7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554E0-F8F9-4ACD-82E1-121D909A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64897-BCF1-410F-A24C-1A865E31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329-C416-4139-AF71-6E0871C2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F772-8C03-4678-A647-FFD78D62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3B014-6D26-44D5-9F32-BA641524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7646-6185-4C7C-AE80-06D6FE7ED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0335-53AE-432A-AF5B-59025A426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E653-54F0-416B-B445-84FC08D8A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CF848-372F-4C09-A2B5-0BD41F3F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3D4F-4EF7-4CD0-92AA-8959B385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6C04F-B031-46A6-B099-1EC1E231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1F71E-00B8-4E14-9AB7-2D7238FF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76ED4-E51E-4D33-B39F-179C3B04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1A43-5B2F-4896-962A-2A8BA104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88E25-C8DD-4E8B-9283-56F0BCC5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1B45A-A989-4954-97E5-7424CF6E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D1E35-7D91-4CB6-8545-34A6B24A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D6979-195F-473F-A353-8D15FAC9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59FBB-1027-4363-9258-8E596AD3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90347-F2D4-4D84-B446-6F2B1769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CEE73-96C2-4823-B98B-62DC59FD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4C03-E79B-416A-9AEC-63C9718C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C24D-D3A6-42D2-BBE7-A305C607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36433-BA7C-486C-BE9E-DF4D7137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1E6B-ED3C-429D-8308-74A95BDC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06053-9209-4061-8E9B-C050512C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3326FD-C22F-4C98-904E-3965FB2A8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4D0B8-F7B0-4BBA-A541-8844BD99F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FE621-37FA-4C73-8185-42844EAC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F286B-F235-4A2A-BB73-39629F6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4E48-7539-4420-A5FC-AD1A008D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3C94-6504-4CA9-A382-7A55B39D7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99A9-212E-4A64-9EA3-EC9AE9C8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90729-21C8-4BD6-962E-ABE7EC7C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2A781-282A-4A23-83C8-B385E32D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2F49-BEF4-4031-9178-86D84B76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E1FC8-125D-4B02-8C19-CACC4F27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E72B1-4736-430D-9507-B4BE3F11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23D8D-43CB-4079-8721-22843A16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FE6B1-59A6-499D-8C62-6B34D74A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CA915-A556-4AB2-B333-0AA051C3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481D2-41A0-4B5C-B213-FADE10F2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EF3D0-1F6B-4344-AEC0-1772866A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22572-E5C7-4706-88B4-00B525BA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29013-D733-4678-9BA2-9C2BDCCD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9984-5A32-41D7-AD3F-F11FDE58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278A-7F85-4DCD-8B8F-FE8CA9DF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CB5E6-9FF0-443E-8888-69DF9319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23288-07A4-4198-8E85-893DE46D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19946-551C-4445-A138-47AB3B7D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E6B3B-8768-4FEC-AD27-8E3CA86A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F6D12-34B4-4F87-BC4A-CAF59F9D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5272E-DCA2-419F-93D2-6F11FC76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271EE-F1B0-4632-8C49-AC23EFBD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9160F-91A4-40AB-907F-24FAE183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9E6A-3726-4296-BD4E-50818B7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96C37-494C-42C2-83C9-54D2B1EA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F6D-B6E8-4865-9133-E15B8F46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1954D-EFF3-48DF-BB18-67B53A57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9384-9A03-4164-A7FD-97E2C4D9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74CA0-AC31-45C2-8282-CAE5C6C0B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DFE22-009A-4CD7-A2F0-5444AA57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54234C-8330-41A6-A2EF-B98F205E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8A377-1848-4FC8-BE9C-9E45BD8A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FE29-CF54-467A-9F93-9DFE231A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B31EA-805E-4EA2-9B6B-4AC07096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6BD93-B825-4BEC-A115-6E095809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C0863-A2AF-41AB-8584-E83CD5F3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F54E-17CE-4BE1-8ACA-75A7BAD7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44A13-ADB6-4F8D-9242-998A517C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138C6-8597-4415-8577-CCA389ED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F5E34-FD99-476E-9E58-B9D5BC6D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AB59F-2B6A-42FB-AEE2-68F195D3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186D6-B047-4CC6-94E4-707F47164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89A6B-6469-45DD-9681-111214AC2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05730-7F2F-487A-B584-AE825F45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53C624-DEAF-4143-8BAF-FFAEBB85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B3DBE-0ACA-4E7B-BFD8-98388AE9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B48CC-2322-44DE-B3D7-941250DE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9B0-8F56-4E8D-8C3B-792578A0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EF714-319D-4433-B01C-E0A20690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C3AEB-D71C-49D4-A0C5-627F33D6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850B-25EC-4603-AD5C-EAB473CF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9AEF-114D-4AD5-8F28-3659ED8D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975FD-D76B-47B5-8F65-A783767D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E2D27-EA2F-4714-9D99-0027FCF4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7F036-D26E-4018-B96B-737F4573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39D8A-159F-4184-AE2E-B9F087BB4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68B12-74C5-473C-99ED-C557BDF7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95832-DF63-42C7-8E7F-BC0EA9DF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FFCD-91A5-47C6-88C1-A67C8E03A0F8}" type="slidenum">
              <a:rPr b="0" lang="en-US" sz="1400" spc="-1" strike="noStrike">
                <a:solidFill>
                  <a:srgbClr val="000532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9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B1DB-9A22-47FC-95AA-8C0893ED4334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F743-37DE-4217-B757-2B1EA8C6CE7B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DB7-8864-42FE-9F96-9C68986E3202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3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995D-7D63-4E73-8B39-86D977E3FD35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E17B-B341-4589-8931-AA5E1EBACA6D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B249-EF3F-4DC5-872C-BD5EA34B2567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2954-8AB1-46D4-A723-65D45DA5F9FB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1447-6945-4D2E-890A-AE2A8F3DB51D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4192-9C22-454C-9D3E-3AA8AC61C98E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EC8D-A008-42AB-8676-F3389C1C081F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7684-B4B7-448C-8124-DDD36989F08C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0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3C9D-8532-4DC6-B01F-6BF9B6067812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7" descr="TEEB header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8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  <a:ea typeface="Arial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4" name="Picture 9" descr="TEEB_Diamond_notext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30FE-CE36-4069-A19C-1D74FE8C8B03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1"/>
          <p:cNvSpPr/>
          <p:nvPr/>
        </p:nvSpPr>
        <p:spPr>
          <a:xfrm>
            <a:off x="-181080" y="-179280"/>
            <a:ext cx="9649080" cy="7208640"/>
          </a:xfrm>
          <a:prstGeom prst="rect">
            <a:avLst/>
          </a:prstGeom>
          <a:solidFill>
            <a:srgbClr val="3233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TextBox 2"/>
          <p:cNvSpPr/>
          <p:nvPr/>
        </p:nvSpPr>
        <p:spPr>
          <a:xfrm>
            <a:off x="1692360" y="5373720"/>
            <a:ext cx="626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c000"/>
                </a:solidFill>
                <a:latin typeface="Arial"/>
                <a:ea typeface="Arial"/>
              </a:rPr>
              <a:t>Module 2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c000"/>
                </a:solidFill>
                <a:latin typeface="Arial"/>
                <a:ea typeface="Arial"/>
              </a:rPr>
              <a:t>Engaging Stakehol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Box 2"/>
          <p:cNvSpPr/>
          <p:nvPr/>
        </p:nvSpPr>
        <p:spPr>
          <a:xfrm>
            <a:off x="1547640" y="189000"/>
            <a:ext cx="626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c000"/>
                </a:solidFill>
                <a:latin typeface="Tahoma"/>
                <a:ea typeface="Arial"/>
              </a:rPr>
              <a:t>TEEB Training for National Level Implement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6" name="Picture 6" descr="logo TEEB transparent print"/>
          <p:cNvPicPr/>
          <p:nvPr/>
        </p:nvPicPr>
        <p:blipFill>
          <a:blip r:embed="rId1"/>
          <a:stretch/>
        </p:blipFill>
        <p:spPr>
          <a:xfrm>
            <a:off x="2987640" y="1197000"/>
            <a:ext cx="3878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4"/>
          <p:cNvSpPr/>
          <p:nvPr/>
        </p:nvSpPr>
        <p:spPr>
          <a:xfrm>
            <a:off x="684360" y="2349360"/>
            <a:ext cx="7777080" cy="53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underst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how different stakeholder groups can be involved in or affected by a national or sub-national TEEB stu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cultiv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long term support and build cooperation for the execution of these studies as well as establishing a community of pract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identif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good governance structures and stakeholder dialogues that are fully participa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agre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n ways forward among and between stakehold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instigat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hange from the bottom u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 gai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community wide by-in and increase the longevity and success of the proj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0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23366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323366"/>
                </a:solidFill>
                <a:latin typeface="Arial"/>
              </a:rPr>
              <a:t>Getting stakeholders on board”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-541440" y="177336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23366"/>
                </a:solidFill>
                <a:latin typeface="Arial"/>
                <a:ea typeface="Arial"/>
              </a:rPr>
              <a:t>Why is it important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-360" y="764640"/>
            <a:ext cx="869796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</a:rPr>
              <a:t>Module Goal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55640" y="2349000"/>
            <a:ext cx="7632720" cy="2521080"/>
          </a:xfrm>
          <a:prstGeom prst="rect">
            <a:avLst/>
          </a:prstGeom>
          <a:solidFill>
            <a:srgbClr val="66ccff">
              <a:alpha val="3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3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monst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mportance of stakeholder engagement particularly from the outset of TEEB</a:t>
            </a:r>
            <a:endParaRPr b="0" lang="en-US" sz="32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0643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</a:rPr>
              <a:t>Objectives of Module</a:t>
            </a:r>
            <a:br>
              <a:rPr sz="4000"/>
            </a:br>
            <a:endParaRPr b="0" lang="en-US" sz="40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view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meaning and benefits of stakeholder engagement and provide its underlying principles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ntif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key actors that would be engaged in TEEB national studies and outline their potential stakeholder interests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rious mechanisms of engagement and cooperation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072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</a:rPr>
              <a:t>The Module is broken down into 3 sessions:</a:t>
            </a:r>
            <a:r>
              <a:rPr b="1" lang="en-US" sz="3200" spc="-1" strike="noStrike">
                <a:solidFill>
                  <a:srgbClr val="323366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ssion 1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Stakeholder engagement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ssion 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Stakeholder analysis and mapping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ession 3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: Mechanisms for engagement and cooperation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366"/>
                </a:solidFill>
                <a:latin typeface="Arial"/>
              </a:rPr>
              <a:t>Module Agenda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468360" y="1989000"/>
          <a:ext cx="8207280" cy="3926160"/>
        </p:xfrm>
        <a:graphic>
          <a:graphicData uri="http://schemas.openxmlformats.org/drawingml/2006/table">
            <a:tbl>
              <a:tblPr/>
              <a:tblGrid>
                <a:gridCol w="1876320"/>
                <a:gridCol w="6330960"/>
              </a:tblGrid>
              <a:tr h="32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Duration (mins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468a4b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001932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SimSun"/>
                        </a:rPr>
                        <a:t>Sess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001932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roduction and Icebreak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1: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akeholder engagemen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2: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Stakeholder analysis and mapp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ffee Brea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ession 3: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chanisms for engagement and cooperatio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Group Exercis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ummary and Ques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00053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468a4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unch and Finish</a:t>
                      </a:r>
                      <a:r>
                        <a:rPr b="0" lang="en-US" sz="2800" spc="-1" strike="noStrike">
                          <a:solidFill>
                            <a:srgbClr val="000532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468a4b"/>
                      </a:solidFill>
                    </a:lnL>
                    <a:lnR w="5760">
                      <a:solidFill>
                        <a:srgbClr val="468a4b"/>
                      </a:solidFill>
                    </a:lnR>
                    <a:lnT w="5760">
                      <a:solidFill>
                        <a:srgbClr val="000532"/>
                      </a:solidFill>
                    </a:lnT>
                    <a:lnB w="5760">
                      <a:solidFill>
                        <a:srgbClr val="468a4b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366"/>
                </a:solidFill>
                <a:latin typeface="Arial"/>
              </a:rPr>
              <a:t>Learning Outcomes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 be 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nalyze and understand your audience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Understan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key principles of stakeholder engagement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dentif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 stakeholder groups and understand their interests 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gniz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various mechanisms of engagement and cooperation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366"/>
                </a:solidFill>
                <a:latin typeface="Arial"/>
              </a:rPr>
              <a:t>Ice breaker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5122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23366"/>
                </a:solidFill>
                <a:latin typeface="Times New Roman"/>
              </a:rPr>
              <a:t>A tropical forest scenario</a:t>
            </a:r>
            <a:endParaRPr b="0" lang="en-US" sz="28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irs, brainstorm which groups, organizations, institutions, companies etc. may be interested in land which is covered in tropical forest. </a:t>
            </a:r>
            <a:endParaRPr b="0" lang="en-US" sz="2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 each group, consider why they may be interested in this land/ecosystem and then think how their interests may be prioritized.</a:t>
            </a:r>
            <a:endParaRPr b="0" lang="en-US" sz="2400" spc="-1" strike="noStrike">
              <a:solidFill>
                <a:srgbClr val="000532"/>
              </a:solidFill>
              <a:latin typeface="Times New Roman"/>
            </a:endParaRPr>
          </a:p>
        </p:txBody>
      </p:sp>
      <p:pic>
        <p:nvPicPr>
          <p:cNvPr id="642" name="Picture 9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3635280" cy="302436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10"/>
          <p:cNvSpPr/>
          <p:nvPr/>
        </p:nvSpPr>
        <p:spPr>
          <a:xfrm>
            <a:off x="5412240" y="5516640"/>
            <a:ext cx="125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  <a:ea typeface="Arial"/>
              </a:rPr>
              <a:t>©UNEP/GRID-Arendal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3366"/>
                </a:solidFill>
                <a:latin typeface="Arial"/>
                <a:ea typeface="SimSun"/>
              </a:rPr>
              <a:t>Key Resources for Module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ports/documents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n Brink, P. (ed), 2010. The Economics of Ecosystem and Biodiversity in national and International Policy making.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tmer, H. and Gundimeda, H. (eds), 2010. The Economics of Ecosystems and Biodiversity. In Local and Regional Policy and Management Earthscan, Lond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, 2008. Ecosystems and Human Well-being; A framework for Assessment. Island Press, Washingt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Websites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BD: http://www.cbd.int/incentives/overview.shtml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SE: http://www.cseindia.org/content/eia-training-programme-understanding-eiafrom-screening-decision-making-0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list Benguela: http://www.dlist.org/courses/stakeholder-participati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PA: http://www.espa.ac.uk/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akeholder Forum: </a:t>
            </a:r>
            <a:r>
              <a:rPr b="0" lang="en-US" sz="1400" spc="-1" strike="noStrike">
                <a:solidFill>
                  <a:srgbClr val="000532"/>
                </a:solidFill>
                <a:latin typeface="Times New Roman"/>
              </a:rPr>
              <a:t>http://www.dlist.org/courses/stakeholder-participation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BCSD: http://www.wbcsd.org/bet.aspx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ale University: http://environment.yale.edu/TEEB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13:30:09Z</dcterms:created>
  <dc:creator>KREBS</dc:creator>
  <dc:description/>
  <dc:language>en-US</dc:language>
  <cp:lastModifiedBy>KREBS</cp:lastModifiedBy>
  <dcterms:modified xsi:type="dcterms:W3CDTF">2013-08-05T13:33:41Z</dcterms:modified>
  <cp:revision>1</cp:revision>
  <dc:subject/>
  <dc:title>PowerPoint Presentation</dc:title>
</cp:coreProperties>
</file>