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D557-AA8C-48F1-957E-7A6E337A66E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3864C-FC24-409D-A746-BF4E8A9639F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5" name="PlaceHolder 1"/>
          <p:cNvSpPr>
            <a:spLocks noGrp="1"/>
          </p:cNvSpPr>
          <p:nvPr>
            <p:ph type="sldImg"/>
          </p:nvPr>
        </p:nvSpPr>
        <p:spPr>
          <a:xfrm>
            <a:off x="1144440" y="687240"/>
            <a:ext cx="4569120" cy="3427560"/>
          </a:xfrm>
          <a:prstGeom prst="rect">
            <a:avLst/>
          </a:prstGeom>
          <a:ln w="0">
            <a:noFill/>
          </a:ln>
        </p:spPr>
      </p:sp>
      <p:sp>
        <p:nvSpPr>
          <p:cNvPr id="65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4DAE-7615-410A-952B-E8C4BB7BFAE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e group to the concept of stakeholder engagement by explaining that it </a:t>
            </a:r>
            <a:r>
              <a:rPr b="0" lang="en-GB" sz="1200" spc="-1" strike="noStrike">
                <a:solidFill>
                  <a:srgbClr val="ffffff"/>
                </a:solidFill>
                <a:latin typeface="Calibri"/>
              </a:rPr>
              <a:t>can be defined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A series</a:t>
            </a:r>
            <a:r>
              <a:rPr b="0" lang="en-GB" sz="1200" spc="-1" strike="noStrike">
                <a:solidFill>
                  <a:srgbClr val="ffffff"/>
                </a:solidFill>
                <a:latin typeface="Calibri"/>
              </a:rPr>
              <a:t> of activities that seek to inform, consult and ensure the participation of stakehold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Allowing</a:t>
            </a:r>
            <a:r>
              <a:rPr b="0" lang="en-GB" sz="1200" spc="-1" strike="noStrike">
                <a:solidFill>
                  <a:srgbClr val="ffffff"/>
                </a:solidFill>
                <a:latin typeface="Calibri"/>
              </a:rPr>
              <a:t> stakeholders to have an influence on the outcome on plans and pro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Ranges</a:t>
            </a:r>
            <a:r>
              <a:rPr b="0" lang="en-GB" sz="1200" spc="-1" strike="noStrike">
                <a:solidFill>
                  <a:srgbClr val="ffffff"/>
                </a:solidFill>
                <a:latin typeface="Calibri"/>
              </a:rPr>
              <a:t> from simply informing stakeholders to actively consulting them or even engaging in cooperative decision making.</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xplain</a:t>
            </a:r>
            <a:r>
              <a:rPr b="0" lang="en-GB" sz="1200" spc="-1" strike="noStrike">
                <a:solidFill>
                  <a:srgbClr val="ffffff"/>
                </a:solidFill>
                <a:latin typeface="Calibri"/>
              </a:rPr>
              <a:t> that this influence can be exerted at different levels along a continuum of engagement levels—from simply informing the stakeholders to actively consulting them or even engaging in cooperative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47DFD-7492-400B-9BF3-8BE38CBC139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why it is important to engage, emphasizing the multiple benefits of undertaking such an important activity by stating that engagement c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Lead</a:t>
            </a:r>
            <a:r>
              <a:rPr b="0" lang="en-GB" sz="1200" spc="-1" strike="noStrike" u="sng">
                <a:solidFill>
                  <a:srgbClr val="ffffff"/>
                </a:solidFill>
                <a:uFillTx/>
                <a:latin typeface="Calibri"/>
              </a:rPr>
              <a:t> </a:t>
            </a:r>
            <a:r>
              <a:rPr b="0" lang="en-GB" sz="1200" spc="-1" strike="noStrike">
                <a:solidFill>
                  <a:srgbClr val="ffffff"/>
                </a:solidFill>
                <a:latin typeface="Calibri"/>
              </a:rPr>
              <a:t>to more equitable and sustainable social development by giving those who have a right to be heard the opportunity to be considered in decision-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Give</a:t>
            </a:r>
            <a:r>
              <a:rPr b="1" lang="en-GB" sz="1200" spc="-1" strike="noStrike">
                <a:solidFill>
                  <a:srgbClr val="ffffff"/>
                </a:solidFill>
                <a:latin typeface="Calibri"/>
              </a:rPr>
              <a:t> </a:t>
            </a:r>
            <a:r>
              <a:rPr b="0" lang="en-GB" sz="1200" spc="-1" strike="noStrike">
                <a:solidFill>
                  <a:srgbClr val="ffffff"/>
                </a:solidFill>
                <a:latin typeface="Calibri"/>
              </a:rPr>
              <a:t>those who have a right to be heard the opportunity to be considered in decision-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Allow </a:t>
            </a:r>
            <a:r>
              <a:rPr b="0" lang="en-GB" sz="1200" spc="-1" strike="noStrike">
                <a:solidFill>
                  <a:srgbClr val="ffffff"/>
                </a:solidFill>
                <a:latin typeface="Calibri"/>
              </a:rPr>
              <a:t>for the pooling of resources (knowledge, people, money and technology) to solve problems and reach objectives that cannot be reached by single organisations/instit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u="sng">
                <a:solidFill>
                  <a:srgbClr val="ffffff"/>
                </a:solidFill>
                <a:uFillTx/>
                <a:latin typeface="Calibri"/>
              </a:rPr>
              <a:t>Inform</a:t>
            </a:r>
            <a:r>
              <a:rPr b="0" lang="en-GB" sz="1200" spc="-1" strike="noStrike">
                <a:solidFill>
                  <a:srgbClr val="ffffff"/>
                </a:solidFill>
                <a:latin typeface="Calibri"/>
              </a:rPr>
              <a:t>, educate, and influence stakeholders to improve their decision-making and actions that impact on society and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AE55-3835-4F17-8BC6-90B2F2C4F32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tress </a:t>
            </a:r>
            <a:r>
              <a:rPr b="0" lang="en-US" sz="1200" spc="-1" strike="noStrike">
                <a:solidFill>
                  <a:srgbClr val="000000"/>
                </a:solidFill>
                <a:latin typeface="Calibri"/>
              </a:rPr>
              <a:t>the fact that neglecting stakeholders in decision making processes can undermine the effectiveness of adopted policies (e.g. resistance, weak implementation and/or adverse side eff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Build</a:t>
            </a:r>
            <a:r>
              <a:rPr b="0" lang="en-GB" sz="1200" spc="-1" strike="noStrike">
                <a:solidFill>
                  <a:srgbClr val="ffffff"/>
                </a:solidFill>
                <a:latin typeface="Calibri"/>
              </a:rPr>
              <a:t> trust among and between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nhances</a:t>
            </a:r>
            <a:r>
              <a:rPr b="0" lang="en-GB" sz="1200" spc="-1" strike="noStrike">
                <a:solidFill>
                  <a:srgbClr val="ffffff"/>
                </a:solidFill>
                <a:latin typeface="Calibri"/>
              </a:rPr>
              <a:t> cooperation and provides the potential to build consensus and avoid conflict among stakehol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Increases</a:t>
            </a:r>
            <a:r>
              <a:rPr b="0" lang="en-GB" sz="1200" spc="-1" strike="noStrike">
                <a:solidFill>
                  <a:srgbClr val="ffffff"/>
                </a:solidFill>
                <a:latin typeface="Calibri"/>
              </a:rPr>
              <a:t> transparency in project activities and legitimacy of decisions made within the context of a pro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Enhances</a:t>
            </a:r>
            <a:r>
              <a:rPr b="0" lang="en-GB" sz="1200" spc="-1" strike="noStrike">
                <a:solidFill>
                  <a:srgbClr val="ffffff"/>
                </a:solidFill>
                <a:latin typeface="Calibri"/>
              </a:rPr>
              <a:t> accountability in decision-making related to the issues in 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Creates </a:t>
            </a:r>
            <a:r>
              <a:rPr b="0" lang="en-GB" sz="1200" spc="-1" strike="noStrike">
                <a:solidFill>
                  <a:srgbClr val="ffffff"/>
                </a:solidFill>
                <a:latin typeface="Calibri"/>
              </a:rPr>
              <a:t>a greater sense of empowerment and social responsibil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67B-5F93-4B50-8F8B-335F8034373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how stakeholder engagement consists of several underlying key principles which, in order to be effective, need to be reflected in the stakeholder engagement process.  </a:t>
            </a:r>
            <a:r>
              <a:rPr b="1" lang="en-US" sz="1200" spc="-1" strike="noStrike" u="sng">
                <a:solidFill>
                  <a:srgbClr val="000000"/>
                </a:solidFill>
                <a:uFillTx/>
                <a:latin typeface="Calibri"/>
              </a:rPr>
              <a:t>Go through</a:t>
            </a:r>
            <a:r>
              <a:rPr b="0" lang="en-US" sz="1200" spc="-1" strike="noStrike">
                <a:solidFill>
                  <a:srgbClr val="000000"/>
                </a:solidFill>
                <a:latin typeface="Calibri"/>
              </a:rPr>
              <a:t> these key princi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a:t>
            </a:r>
            <a:r>
              <a:rPr b="1" lang="en-GB" sz="1200" spc="-1" strike="noStrike">
                <a:solidFill>
                  <a:srgbClr val="ffffff"/>
                </a:solidFill>
                <a:latin typeface="Calibri"/>
              </a:rPr>
              <a:t>- Information disclosure</a:t>
            </a:r>
            <a:r>
              <a:rPr b="0" lang="en-GB" sz="1200" spc="-1" strike="noStrike">
                <a:solidFill>
                  <a:srgbClr val="ffffff"/>
                </a:solidFill>
                <a:latin typeface="Calibri"/>
              </a:rPr>
              <a:t>: Provides participants with the information they need to have in order to participate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mmunication:</a:t>
            </a:r>
            <a:r>
              <a:rPr b="0" lang="en-GB" sz="1200" spc="-1" strike="noStrike">
                <a:solidFill>
                  <a:srgbClr val="ffffff"/>
                </a:solidFill>
                <a:latin typeface="Calibri"/>
              </a:rPr>
              <a:t> Demonstrates to participants how their input can affect the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nsultation and participation</a:t>
            </a:r>
            <a:r>
              <a:rPr b="0" lang="en-GB" sz="1200" spc="-1" strike="noStrike">
                <a:solidFill>
                  <a:srgbClr val="ffffff"/>
                </a:solidFill>
                <a:latin typeface="Calibri"/>
              </a:rPr>
              <a:t>:  Seeks input from participants in designing how they particip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a:t>
            </a:r>
            <a:r>
              <a:rPr b="1" lang="en-GB" sz="1200" spc="-1" strike="noStrike">
                <a:solidFill>
                  <a:srgbClr val="ffffff"/>
                </a:solidFill>
                <a:latin typeface="Calibri"/>
              </a:rPr>
              <a:t> Involvement</a:t>
            </a:r>
            <a:r>
              <a:rPr b="0" lang="en-GB" sz="1200" spc="-1" strike="noStrike">
                <a:solidFill>
                  <a:srgbClr val="ffffff"/>
                </a:solidFill>
                <a:latin typeface="Calibri"/>
              </a:rPr>
              <a:t>: Seeks out and facilitates the involvement of those potentially affected by or interested in a dec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 </a:t>
            </a:r>
            <a:r>
              <a:rPr b="0" lang="en-GB" sz="1200" spc="-1" strike="noStrike">
                <a:solidFill>
                  <a:srgbClr val="ffffff"/>
                </a:solidFill>
                <a:latin typeface="Calibri"/>
              </a:rPr>
              <a:t>- </a:t>
            </a:r>
            <a:r>
              <a:rPr b="1" lang="en-GB" sz="1200" spc="-1" strike="noStrike">
                <a:solidFill>
                  <a:srgbClr val="ffffff"/>
                </a:solidFill>
                <a:latin typeface="Calibri"/>
              </a:rPr>
              <a:t>Cooperation and partnerships</a:t>
            </a:r>
            <a:r>
              <a:rPr b="0" lang="en-GB" sz="1200" spc="-1" strike="noStrike">
                <a:solidFill>
                  <a:srgbClr val="ffffff"/>
                </a:solidFill>
                <a:latin typeface="Calibri"/>
              </a:rPr>
              <a:t>: Encourages formation of healthy partnerships whereby all parties interests are satis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EC38-A416-42BD-9138-63A5A268DB4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ilding on the previous slide – </a:t>
            </a:r>
            <a:r>
              <a:rPr b="1" lang="en-US" sz="1200" spc="-1" strike="noStrike" u="sng">
                <a:solidFill>
                  <a:srgbClr val="000000"/>
                </a:solidFill>
                <a:uFillTx/>
                <a:latin typeface="Calibri"/>
              </a:rPr>
              <a:t>make the link</a:t>
            </a:r>
            <a:r>
              <a:rPr b="0" lang="en-US" sz="1200" spc="-1" strike="noStrike">
                <a:solidFill>
                  <a:srgbClr val="000000"/>
                </a:solidFill>
                <a:latin typeface="Calibri"/>
              </a:rPr>
              <a:t> with TEEB and stress the importance of stakeholder engagement in the execution of national TEEB stu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stakeholder engagement is a continual process throughout the execution a TEEB study and is not only an activity which is undertaken at the beginning. Stakeholder engagement will also be considered therefore, albeit in a more condensed format, in the following modules e.g. valuation tools (module 4) and policy responses (module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the following points to demonstrate the importance of SE for the implementation of national TEEB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Consulting</a:t>
            </a:r>
            <a:r>
              <a:rPr b="0" lang="en-GB" sz="1300" spc="-1" strike="noStrike">
                <a:solidFill>
                  <a:srgbClr val="000000"/>
                </a:solidFill>
                <a:latin typeface="Calibri"/>
              </a:rPr>
              <a:t> with stakeholders from the outset helps to determine and prioritise the policy questions at stake</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Assists</a:t>
            </a:r>
            <a:r>
              <a:rPr b="1" lang="en-GB" sz="1300" spc="-1" strike="noStrike">
                <a:solidFill>
                  <a:srgbClr val="000000"/>
                </a:solidFill>
                <a:latin typeface="Calibri"/>
              </a:rPr>
              <a:t> </a:t>
            </a:r>
            <a:r>
              <a:rPr b="0" lang="en-GB" sz="1300" spc="-1" strike="noStrike">
                <a:solidFill>
                  <a:srgbClr val="000000"/>
                </a:solidFill>
                <a:latin typeface="Calibri"/>
              </a:rPr>
              <a:t>in the framing of the TEEB study correctly and then to respond more effectively to the study finding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Facilitates</a:t>
            </a:r>
            <a:r>
              <a:rPr b="0" lang="en-GB" sz="1300" spc="-1" strike="noStrike">
                <a:solidFill>
                  <a:srgbClr val="000000"/>
                </a:solidFill>
                <a:latin typeface="Calibri"/>
              </a:rPr>
              <a:t> the identification of which stakeholders should participate and how in a TEEB study</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a:t>
            </a:r>
            <a:r>
              <a:rPr b="1" lang="en-GB" sz="1300" spc="-1" strike="noStrike" u="sng">
                <a:solidFill>
                  <a:srgbClr val="000000"/>
                </a:solidFill>
                <a:uFillTx/>
                <a:latin typeface="Calibri"/>
              </a:rPr>
              <a:t>Helps</a:t>
            </a:r>
            <a:r>
              <a:rPr b="0" lang="en-GB" sz="1300" spc="-1" strike="noStrike" u="sng">
                <a:solidFill>
                  <a:srgbClr val="000000"/>
                </a:solidFill>
                <a:uFillTx/>
                <a:latin typeface="Calibri"/>
              </a:rPr>
              <a:t> </a:t>
            </a:r>
            <a:r>
              <a:rPr b="0" lang="en-GB" sz="1300" spc="-1" strike="noStrike">
                <a:solidFill>
                  <a:srgbClr val="000000"/>
                </a:solidFill>
                <a:latin typeface="Calibri"/>
              </a:rPr>
              <a:t>to avoid conflicts between those making and those being affected by decisions concerning ecosystems, their goods and services</a:t>
            </a: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AA9A3-E3A4-4957-8410-7F7096AF388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the following points to demonstrate the importance of SE for the implementation of national TEEB stu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a:t>
            </a:r>
            <a:r>
              <a:rPr b="0" lang="en-US" sz="1200" spc="-1" strike="noStrike">
                <a:solidFill>
                  <a:srgbClr val="000000"/>
                </a:solidFill>
                <a:latin typeface="Calibri"/>
                <a:ea typeface="SimSun"/>
              </a:rPr>
              <a:t>that stakeholders can often be the sources of important environmental knowledge and possibly data, particularly where the ecosystem has not been formally stud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Makes </a:t>
            </a:r>
            <a:r>
              <a:rPr b="0" lang="en-GB" sz="1200" spc="-1" strike="noStrike">
                <a:solidFill>
                  <a:srgbClr val="000000"/>
                </a:solidFill>
                <a:latin typeface="Calibri"/>
              </a:rPr>
              <a:t>use of local knowledge of ecosystems, biodiversity and plant properties in TEEB study pla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Promotes</a:t>
            </a:r>
            <a:r>
              <a:rPr b="0" lang="en-GB" sz="1200" spc="-1" strike="noStrike">
                <a:solidFill>
                  <a:srgbClr val="000000"/>
                </a:solidFill>
                <a:latin typeface="Calibri"/>
              </a:rPr>
              <a:t> and encourages effective implementation of policy responses e.g. the execution of PES schemes or strengthening of protected areas management (more on policy responses to TEEB finding in module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Ensures</a:t>
            </a:r>
            <a:r>
              <a:rPr b="0" lang="en-GB" sz="1200" spc="-1" strike="noStrike">
                <a:solidFill>
                  <a:srgbClr val="000000"/>
                </a:solidFill>
                <a:latin typeface="Calibri"/>
              </a:rPr>
              <a:t> for continual engagement throughout the whole process – from initial scoping studies to implementation of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Cultivates</a:t>
            </a:r>
            <a:r>
              <a:rPr b="0" lang="en-GB" sz="1200" spc="-1" strike="noStrike">
                <a:solidFill>
                  <a:srgbClr val="000000"/>
                </a:solidFill>
                <a:latin typeface="Calibri"/>
              </a:rPr>
              <a:t> good governance ethics from the ou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Encourages</a:t>
            </a:r>
            <a:r>
              <a:rPr b="0" lang="en-GB" sz="1200" spc="-1" strike="noStrike">
                <a:solidFill>
                  <a:srgbClr val="000000"/>
                </a:solidFill>
                <a:latin typeface="Calibri"/>
              </a:rPr>
              <a:t> fairness and equity when making decisions linked to ecosystem and their servi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4B8B5-E1BF-47CD-A674-19AE6111A53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using the example on the slide and the following slide, how effective stakeholder engagement can be when exerc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Wetlands health is communities wealth: collaborative management of Saiwa swamp in Ke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e Kipsaina</a:t>
            </a:r>
            <a:r>
              <a:rPr b="0" lang="en-GB" sz="1200" spc="-1" strike="noStrike">
                <a:solidFill>
                  <a:srgbClr val="000000"/>
                </a:solidFill>
                <a:latin typeface="Calibri"/>
              </a:rPr>
              <a:t> and wetlands Conservation Group was formed in 1990 as a partnership of local communities to conserve and restore the Saiwa swamp in national park in Keny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anks </a:t>
            </a:r>
            <a:r>
              <a:rPr b="0" lang="en-GB" sz="1200" spc="-1" strike="noStrike">
                <a:solidFill>
                  <a:srgbClr val="000000"/>
                </a:solidFill>
                <a:latin typeface="Calibri"/>
              </a:rPr>
              <a:t>to the group’s efforts, neighbouring communities have a reliable and clean water source all year round and community members are now engaged in new types of businesses such as beekeeping, eco-tourism, and agro-forest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1" lang="en-GB" sz="1200" spc="-1" strike="noStrike">
                <a:solidFill>
                  <a:srgbClr val="000000"/>
                </a:solidFill>
                <a:latin typeface="Calibri"/>
              </a:rPr>
              <a:t>There </a:t>
            </a:r>
            <a:r>
              <a:rPr b="0" lang="en-GB" sz="1200" spc="-1" strike="noStrike">
                <a:solidFill>
                  <a:srgbClr val="000000"/>
                </a:solidFill>
                <a:latin typeface="Calibri"/>
              </a:rPr>
              <a:t>has now been a fivefold increase in the grey-crowned crane population as well as increased income from fish and produce s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AB6CA-7D76-4DFB-BF7B-42A89B446A5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using the example on the slide and information provided below, how effective stakeholder engagement can be when exerc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Calibri"/>
              </a:rPr>
              <a:t>“</a:t>
            </a:r>
            <a:r>
              <a:rPr b="0" i="1" lang="en-US" sz="1200" spc="-1" strike="noStrike" u="sng">
                <a:solidFill>
                  <a:srgbClr val="000000"/>
                </a:solidFill>
                <a:uFillTx/>
                <a:latin typeface="Calibri"/>
              </a:rPr>
              <a:t>A fund for water: a link between nature and nature’s benefits to people”</a:t>
            </a:r>
            <a:r>
              <a:rPr b="0" lang="en-US" sz="1200" spc="-1" strike="noStrike" u="sng">
                <a:solidFill>
                  <a:srgbClr val="000000"/>
                </a:solidFill>
                <a:uFillTx/>
                <a:latin typeface="Calibri"/>
              </a:rPr>
              <a:t> </a:t>
            </a:r>
            <a:r>
              <a:rPr b="0" i="1" lang="en-US" sz="1200" spc="-1" strike="noStrike" u="sng">
                <a:solidFill>
                  <a:srgbClr val="000000"/>
                </a:solidFill>
                <a:uFillTx/>
                <a:latin typeface="Calibri"/>
              </a:rPr>
              <a:t>in Ecuador’s capital, Quito</a:t>
            </a:r>
            <a:r>
              <a:rPr b="0" lang="en-US" sz="1200" spc="-1" strike="noStrike" u="sng">
                <a:solidFill>
                  <a:srgbClr val="000000"/>
                </a:solidFill>
                <a:uFillTx/>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During the the 80’s</a:t>
            </a:r>
            <a:r>
              <a:rPr b="0" lang="en-US" sz="1200" spc="-1" strike="noStrike">
                <a:solidFill>
                  <a:srgbClr val="000000"/>
                </a:solidFill>
                <a:latin typeface="Calibri"/>
              </a:rPr>
              <a:t>,illegal logging and deforestation within the protected areas were putting Quito’s water supply at risk. Some of these land conversion pressures originated from people living in the watershed where they depend on natural resources and water sources for their livelihoods. Preventing watershed communities from living and working in the area, is of course,  unjust and unsustain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In the 90s</a:t>
            </a:r>
            <a:r>
              <a:rPr b="0" lang="en-US" sz="1200" spc="-1" strike="noStrike">
                <a:solidFill>
                  <a:srgbClr val="000000"/>
                </a:solidFill>
                <a:latin typeface="Calibri"/>
              </a:rPr>
              <a:t>, Quito city and The Nature Conservancy came up with an alternative and innovative way to protect Quito’s waters. They partnered together to establish a water fund, to pay land-users to maintain forests for providing fresh water and prevent soil ero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The Quito Water Conservation Fund</a:t>
            </a:r>
            <a:r>
              <a:rPr b="0" lang="en-US" sz="1200" spc="-1" strike="noStrike">
                <a:solidFill>
                  <a:srgbClr val="000000"/>
                </a:solidFill>
                <a:latin typeface="Calibri"/>
              </a:rPr>
              <a:t> (known as FONAG) receives money from the government, public utilities, electric companies, private companies and non-government organizations. The fund pays for activities for watershed protection like restoration of natural vegetation. Local communities receive permanent support from FONAG through different programs, from environmental education to community-based projects that invest in rural liveliho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4FAFB-444D-43CC-B654-3B41070576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7570E-FC6F-4FD6-9DF5-9FFE976D1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D2666F-88F7-470E-8496-1E9698169C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77A74-B249-462D-90A9-6163F9A4E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B3D7D-358E-488C-8A20-089D6E041C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D20455-CEFD-4401-A4BC-4CD9884AC6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DD2811-7D75-490C-AD0F-19CF8E4BA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D50C5FF-A44C-4375-B375-413EFE9A6F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0808D2-E066-4757-9287-E8B3B7406D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FFB3172-9A87-42A4-873E-FBE2035FD0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2CA61D-EE0F-4FEF-A533-A37BA520AA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894DD81-4B7E-4918-BF56-6A7670886BA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210FE-61F6-4B27-BFA2-4119DC2D9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5F8EFA-5964-4FBD-9171-B9CD162F3DD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8D72D2-CEE1-4D19-A0D3-3FC8B079726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A0C6AC-3E61-4ADE-BB84-525DFF6201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00F6E8-336B-45C2-B510-019BF85D03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DE65ED-5EF2-4E28-835D-F85EE96CD4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588DAF-34F0-4CB6-B294-29505C4241A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8E9D07-75C1-4859-B36E-A7E75C23D0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143613-E60A-4EB8-BB5D-71A44BFC35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CBBD70A-DD42-4C0E-B46F-D0FC63439DC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4F5E0B-94BF-49EA-968F-1CC64854A3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53F1B-3C6E-4433-8336-D574F0AC0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7F6761-1344-4A69-A892-64D16FFA402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1E76005-87F1-48F8-BFB4-2F1E58B8C6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B6BABC-F277-440D-B5A0-1CFED285863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C403C3-6C82-405E-AEDC-F16609F27E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DBF91-EAE8-4283-ADE6-55E5668246C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50EB2C-B131-418B-B2CD-7C9032A70F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958DBF3-4241-459B-B620-3C5945F672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C7A4FE-DD6D-4EC9-9432-6FA52318A43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4EFE73-C258-4D5F-9903-BCFBAF300C9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FC00EF-27D3-4543-96CA-F3435C3674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B414A-A9BF-464D-ABFA-64CA4E0EE7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89D9859-F4B8-48AC-AECB-E195F359F9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40F02A5-01D2-4058-AFB3-86BAFC7DCCE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93B9BD-E1B9-4437-8B1E-A43F8CD9F26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E2A5141-7DB3-46BB-A674-4CF69745B7E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9BEDEA-411F-48D2-B25E-A53BC42821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7C86D5F-3FFF-45C4-B675-B7543CA44F4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994366-F00F-4F03-8360-6099D755C5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8AEEE7-ABF7-44B6-895A-45528E0EF7A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8716393-C0E3-42DE-9BBD-14B0023166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A6A456-CC9B-41B5-AC55-5DC03F45B5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A63536-A54C-4050-8E04-6A9F0F4B86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2D2BE07-D400-4E62-8666-361ADF08BF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9DE5AA-513C-49C7-A9D8-A1FBA13B8A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B4A071-D0A9-4228-BD20-A4545701552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D1DA0A-2FCF-4462-8274-2B3A7E4330A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D77A58-6505-404C-A1A2-F9303CE1CD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A9FAE13-7742-45F9-8075-30B860EC332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E009CF0-DBE4-4DCD-AF47-305BED4209D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AA5080-D68D-4308-8C85-5DEC686939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FB156F-5E13-411B-B250-F72C534CCA7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0D45F1E-A5AA-4931-99CA-A32CADD4E1D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B47E4-19EA-4BE5-95B8-600AEEF942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E2FA27-B93F-466F-A47B-5DCAD1D83D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5A96AC-6E38-4512-AA18-6F8263D4414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CB61A8-4698-424C-BFD6-4D64B740CF5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E4C643-4337-4414-AC54-B5F7CEBAD7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0319FB-E464-4300-AB78-17AE9600AD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86FC3C1-9F5E-4750-AA37-F54064ED470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B040973-E7DE-45B7-A040-EFE4B70564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7312CFF-2FD3-4006-8920-00CDC3B2CC1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C092B7-E744-4365-9EA5-7A7752FC106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3533042-88DD-4068-A0A1-5DF2DCBA2C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F77980-C29E-4DCD-884C-DA7741A389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FEF8239-2945-4531-98F7-4B6CE5709D0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A035E97-B136-4B4E-B763-DD85A76AC73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78C046-CDD9-4011-BD30-F242ECAD5F1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C4E457-B547-4818-A1C5-97422138F7A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FA497D4-BC20-40B0-979B-62B6A41A1D8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6A6D19-FF8D-4987-BDD6-8539A3DF3AC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9A0D8EB-3B6D-4800-98FD-74C463C93F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CD8B16F-A371-427A-B68C-F7323D716CC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15A3494-76E0-49EC-8468-EFD81B46F3E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E5DA3-22EE-4C21-8BD7-D30BA44321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1E673-CEB8-4209-8945-F35630459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1D9ED-AAE5-44A9-8607-F737CCECC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976194-ACE8-43FF-A406-CF685B60F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52B45-D11E-4038-ADF4-1D04D7EDF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CCD83-FD1C-4ADE-BAAE-B6AE2BFB8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58DA1-CF9F-4973-86EC-12EFB1ADC5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80BA2C-052F-4F2D-B49D-72B80E9D3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50830-7086-4441-BC81-2B4C7BC119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18795-0649-44E3-B079-664313B220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08B5F-F5F4-451E-8E9F-553ABC9EA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3141C8-4902-4E76-9DC5-032D4CCCBE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623C37-6827-42F3-86BB-E8C8A330B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70B7C7-C06E-4600-9E3C-25788D6393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C0710-09DE-4BF9-BF5D-571269128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55535C-7C65-452F-81B9-FB9E5593E8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E2DF82-C949-4CDB-A35E-9632547E22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E19F28-80DC-4E22-A36A-42A79A6D0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75719-D33B-4810-B823-C864DDBEB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B8E757-39D6-4136-906E-2FAA7E3C7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80165F3-9784-43DA-9B6C-79EAC825FE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4BE453-D104-43EF-9EA5-AE5BB26C3C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32EDEE-81D1-4655-A229-0E96872789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F676D1-C321-461B-AE5D-5F96C9AD3C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5315E7-1036-4693-ADC3-363DD8ECA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DE2EE-A00B-4941-B669-25AFB47F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20A3F6-2A3F-4B74-9F05-F7ACC18DF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535BA-2EF0-46EF-B3DB-923664617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BE0BB5-7515-4205-8E92-AE9F0DD8B2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7A2EFA-218B-4E57-B298-BBEA2E6BB1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649CB7-563F-48D0-9540-1C4CDC918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D0289-92B9-41D7-9004-22AC8D62DB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BCC4FC-5595-4E79-8ACF-E85E63668D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3DFC4A-F97F-430B-977C-6F7FA9CCE8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E71D42-0E4D-4ADE-A76E-BCF086A5D1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EB3051-6391-43A4-A3A4-DA7E4646359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0A700-4853-449F-970C-556F0FE32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F6D15-FBB8-4555-BBCA-C8F960AF6C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686E90-0D8C-4A80-AFC3-7F0EE0DF60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673B46-AA98-4599-ABDE-58F827D07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506417-3DFB-43D1-B90C-57B0ED74DC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9689C-F4A4-486F-A2BB-3B1C42766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F90239-9376-4D28-8391-73CCA4FB8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650A74-27A7-4AE5-940C-FF328D19D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0AFA0-0479-4B49-BB55-2B1BBADE02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8862E8-F0F1-4E34-A636-4829A91E20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D1153-B7CD-4EF6-9B1D-E459C14F3A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71037-3A26-47F8-B4D9-C8281F63A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E75201-B338-4BC4-BEF0-F42EF43773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8E4803-6FCD-43DE-A980-5C2DF412F4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50C2C2-4938-4867-AB8A-90E31ECE6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6A05A3-4823-4705-976B-1C6887DB05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E01C30-BEF1-4B9C-81D0-B47D7A8430B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9E4D997-562D-4F36-BAB7-261275013B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01A1CE-6A4E-468F-A84E-A7094E8F9F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1A37C-DC1C-40A9-86C5-5803A2CFD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9D5EEA-2A67-485E-AFD1-87196B3F7C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9C6BF9-CFD9-476A-A15F-2998D1B5AA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2706D-E9BC-4AFE-9C78-2FAB67318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4ABB47-A474-415A-A266-2D49B9E9B1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F63C02-F1C1-4770-BB65-4CD316AEE6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836DCA-CC25-4BE5-BEDE-AF73CAEA4C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AA12A0-19C3-466E-8E67-93FDEF5F1F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67AAF9-BA6D-44F1-85A7-E1571C4730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A8E5A5-AD00-40AF-ACAC-B6CE95E8A1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3934354-A86F-47BB-941B-FD04664F0D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9D17D-A5A2-4283-936F-B29BDD19EF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0692F3-BEAD-4281-8912-029CBF50EB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8A3B7F-D814-48BD-B66C-9C9661BBEF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3F8E3-34BC-4285-AA1D-C8C62BE4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6F2340-0832-48E3-9C3B-F62EDDDDB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13EAD3-6096-44D6-8402-01669750C1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73A0C-9E6B-4289-BBBB-0CEBF4EADC2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5E6201-44D3-4E3A-AFEF-ED9BF87343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B7529F-A4CE-43B8-AB21-B9B59B9297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841D9D-A815-48B6-AFB0-1AC94B6092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4272C0-B80F-4B48-87C6-5080B4DE8A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09C4D9-66E0-4BBD-8F7A-F561F3CA8B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866302-7E7B-4913-A415-AD18950BC89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A8B49B-0720-430B-8A0E-8A0E9B29D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D8DA-DBDB-478F-B48A-909DC2F0B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1A3F6B-9395-44CC-9FE5-50C5B9074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290E7-CB9D-4491-910D-9EDE8DCF41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CD16E7-26A0-4F96-B9C3-2C881CA5B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53AD7-5D81-4C62-A97B-9B1BB24FAD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61F6EC-1547-4E1C-8E2D-78A09908E55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FAB7BC-818F-41B3-B9C5-2EE587C441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8043FB-BA14-4EC4-A105-4D495D6338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CDE000-6BFF-4F53-B131-9CB4D3A45E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919A80-800E-41CD-9AD4-11F2F29C05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4A8649-2FDA-48C5-8231-EB2D28F9BE4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EA5E-FCB0-4B86-94BF-B57CB315F05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6498-AE7D-4DFF-A719-368B6BBBD653}"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7B14-1636-4F0C-9801-32D6464C208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6804A-41C1-480B-869F-4D0FF9B0B98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1D769-E06F-49F8-A2E8-E686B4D0A8A4}"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DDF17-2217-4DE3-B0A8-11F82B60ED2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0E9BC-8DA4-4145-8CDD-35F3BF23BCD7}"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23107-52F4-4BB2-9DDF-841DC7B96B2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FCBA-E3E5-4FF4-B317-AED8A2550C8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EBCB-FDC6-4CA5-B6E1-B260FA4CBCB6}"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31A2-31A8-42CE-BEAC-94FB18C77CD4}"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14C4D-178C-496A-A74A-2EBA1C5322B6}"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5961-AE18-48A3-BC1D-255A2D75AE4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1870D-99BA-4DB1-B3F5-994D83EE011E}"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0"/>
                </a:solidFill>
                <a:latin typeface="Arial"/>
                <a:ea typeface="SimSun"/>
              </a:rPr>
              <a:t>Stakeholder engagement</a:t>
            </a:r>
            <a:r>
              <a:rPr b="1" lang="en-US" sz="2800" spc="-1" strike="noStrike">
                <a:solidFill>
                  <a:srgbClr val="ffc000"/>
                </a:solidFill>
                <a:latin typeface="Arial"/>
                <a:ea typeface="SimSun"/>
              </a:rPr>
              <a:t>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onstantia"/>
                <a:ea typeface="Arial"/>
              </a:rPr>
              <a:t> </a:t>
            </a:r>
            <a:endParaRPr b="0" lang="en-US" sz="2400" spc="-1" strike="noStrike">
              <a:solidFill>
                <a:srgbClr val="ffffff"/>
              </a:solidFill>
              <a:latin typeface="Times New Roman"/>
            </a:endParaRPr>
          </a:p>
        </p:txBody>
      </p:sp>
      <p:pic>
        <p:nvPicPr>
          <p:cNvPr id="625" name="Picture 8" descr="logo TEEB transparent print"/>
          <p:cNvPicPr/>
          <p:nvPr/>
        </p:nvPicPr>
        <p:blipFill>
          <a:blip r:embed="rId1"/>
          <a:stretch/>
        </p:blipFill>
        <p:spPr>
          <a:xfrm>
            <a:off x="2843280" y="333360"/>
            <a:ext cx="3900600" cy="458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Stakeholder Engagement; An introduction</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627" name="PlaceHolder 2"/>
          <p:cNvSpPr>
            <a:spLocks noGrp="1"/>
          </p:cNvSpPr>
          <p:nvPr>
            <p:ph/>
          </p:nvPr>
        </p:nvSpPr>
        <p:spPr>
          <a:xfrm>
            <a:off x="457200" y="2276280"/>
            <a:ext cx="4619520" cy="38494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at is stakeholder engagement?</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eries of activities that seek to inform, consult and ensure the participation of stakeholders. </a:t>
            </a:r>
            <a:endParaRPr b="0" lang="en-US" sz="20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ows stakeholders to have an influence on the outcome on plans and projects.</a:t>
            </a:r>
            <a:endParaRPr b="0" lang="en-US" sz="20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anges from informing stakeholders to actively consulting them in cooperative decision making.</a:t>
            </a:r>
            <a:endParaRPr b="0" lang="en-US" sz="2000" spc="-1" strike="noStrike">
              <a:solidFill>
                <a:srgbClr val="000532"/>
              </a:solidFill>
              <a:latin typeface="Times New Roman"/>
            </a:endParaRPr>
          </a:p>
        </p:txBody>
      </p:sp>
      <p:pic>
        <p:nvPicPr>
          <p:cNvPr id="628" name="Picture 4" descr="Local people's fishing boat, Anakao, South-West Madagascar"/>
          <p:cNvPicPr/>
          <p:nvPr/>
        </p:nvPicPr>
        <p:blipFill>
          <a:blip r:embed="rId1"/>
          <a:stretch/>
        </p:blipFill>
        <p:spPr>
          <a:xfrm>
            <a:off x="5292720" y="2492280"/>
            <a:ext cx="3600360" cy="2844720"/>
          </a:xfrm>
          <a:prstGeom prst="rect">
            <a:avLst/>
          </a:prstGeom>
          <a:ln w="0">
            <a:noFill/>
          </a:ln>
        </p:spPr>
      </p:pic>
      <p:sp>
        <p:nvSpPr>
          <p:cNvPr id="629" name="Rectangle 5"/>
          <p:cNvSpPr/>
          <p:nvPr/>
        </p:nvSpPr>
        <p:spPr>
          <a:xfrm>
            <a:off x="5196240" y="5300640"/>
            <a:ext cx="12582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GRID-Arendal</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y engage </a:t>
            </a:r>
            <a:r>
              <a:rPr b="1" lang="en-GB" sz="3600" spc="-1" strike="noStrike">
                <a:solidFill>
                  <a:srgbClr val="323366"/>
                </a:solidFill>
                <a:latin typeface="Arial"/>
              </a:rPr>
              <a:t>and what are the benefits?</a:t>
            </a:r>
            <a:endParaRPr b="0" lang="en-US" sz="3600" spc="-1" strike="noStrike">
              <a:solidFill>
                <a:srgbClr val="000532"/>
              </a:solidFill>
              <a:latin typeface="Arial"/>
            </a:endParaRPr>
          </a:p>
        </p:txBody>
      </p:sp>
      <p:sp>
        <p:nvSpPr>
          <p:cNvPr id="631" name="PlaceHolder 2"/>
          <p:cNvSpPr>
            <a:spLocks noGrp="1"/>
          </p:cNvSpPr>
          <p:nvPr>
            <p:ph/>
          </p:nvPr>
        </p:nvSpPr>
        <p:spPr>
          <a:xfrm>
            <a:off x="468360" y="1916280"/>
            <a:ext cx="813600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323366"/>
                </a:solidFill>
                <a:latin typeface="Times New Roman"/>
              </a:rPr>
              <a:t>Effective and strategically aligned stakeholder engagement can:</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Lead </a:t>
            </a:r>
            <a:r>
              <a:rPr b="0" lang="en-GB" sz="2800" spc="-1" strike="noStrike">
                <a:solidFill>
                  <a:srgbClr val="000000"/>
                </a:solidFill>
                <a:latin typeface="Times New Roman"/>
              </a:rPr>
              <a:t>to more equitable and sustainable social developme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Give</a:t>
            </a:r>
            <a:r>
              <a:rPr b="0" lang="en-GB" sz="2800" spc="-1" strike="noStrike">
                <a:solidFill>
                  <a:srgbClr val="000000"/>
                </a:solidFill>
                <a:latin typeface="Times New Roman"/>
              </a:rPr>
              <a:t> those who have a right to be heard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Allow </a:t>
            </a:r>
            <a:r>
              <a:rPr b="0" lang="en-GB" sz="2800" spc="-1" strike="noStrike">
                <a:solidFill>
                  <a:srgbClr val="000000"/>
                </a:solidFill>
                <a:latin typeface="Times New Roman"/>
              </a:rPr>
              <a:t>for the pooling of resources to solve problems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Times New Roman"/>
              </a:rPr>
              <a:t>Inform</a:t>
            </a:r>
            <a:r>
              <a:rPr b="0" lang="en-GB" sz="2800" spc="-1" strike="noStrike">
                <a:solidFill>
                  <a:srgbClr val="000000"/>
                </a:solidFill>
                <a:latin typeface="Times New Roman"/>
              </a:rPr>
              <a:t>, </a:t>
            </a:r>
            <a:r>
              <a:rPr b="1" lang="en-GB" sz="2800" spc="-1" strike="noStrike" u="sng">
                <a:solidFill>
                  <a:srgbClr val="000000"/>
                </a:solidFill>
                <a:uFillTx/>
                <a:latin typeface="Times New Roman"/>
              </a:rPr>
              <a:t>educate</a:t>
            </a:r>
            <a:r>
              <a:rPr b="0" lang="en-GB" sz="2800" spc="-1" strike="noStrike">
                <a:solidFill>
                  <a:srgbClr val="000000"/>
                </a:solidFill>
                <a:latin typeface="Times New Roman"/>
              </a:rPr>
              <a:t>, and </a:t>
            </a:r>
            <a:r>
              <a:rPr b="1" lang="en-GB" sz="2800" spc="-1" strike="noStrike" u="sng">
                <a:solidFill>
                  <a:srgbClr val="000000"/>
                </a:solidFill>
                <a:uFillTx/>
                <a:latin typeface="Times New Roman"/>
              </a:rPr>
              <a:t>influence</a:t>
            </a:r>
            <a:r>
              <a:rPr b="0" lang="en-GB" sz="2800" spc="-1" strike="noStrike">
                <a:solidFill>
                  <a:srgbClr val="000000"/>
                </a:solidFill>
                <a:latin typeface="Times New Roman"/>
              </a:rPr>
              <a:t> stakeholder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y engage </a:t>
            </a:r>
            <a:r>
              <a:rPr b="1" lang="en-GB" sz="3600" spc="-1" strike="noStrike">
                <a:solidFill>
                  <a:srgbClr val="323366"/>
                </a:solidFill>
                <a:latin typeface="Arial"/>
              </a:rPr>
              <a:t>and what are the benefits?</a:t>
            </a:r>
            <a:br>
              <a:rPr sz="3600"/>
            </a:br>
            <a:r>
              <a:rPr b="1" lang="en-GB" sz="1800" spc="-1" strike="noStrike">
                <a:solidFill>
                  <a:srgbClr val="323366"/>
                </a:solidFill>
                <a:latin typeface="Arial"/>
              </a:rPr>
              <a:t>Continued…</a:t>
            </a:r>
            <a:endParaRPr b="0" lang="en-US" sz="1800" spc="-1" strike="noStrike">
              <a:solidFill>
                <a:srgbClr val="000532"/>
              </a:solidFill>
              <a:latin typeface="Arial"/>
            </a:endParaRPr>
          </a:p>
        </p:txBody>
      </p:sp>
      <p:sp>
        <p:nvSpPr>
          <p:cNvPr id="633" name="PlaceHolder 2"/>
          <p:cNvSpPr>
            <a:spLocks noGrp="1"/>
          </p:cNvSpPr>
          <p:nvPr>
            <p:ph/>
          </p:nvPr>
        </p:nvSpPr>
        <p:spPr>
          <a:xfrm>
            <a:off x="468360" y="2420640"/>
            <a:ext cx="8229600" cy="384948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Build</a:t>
            </a:r>
            <a:r>
              <a:rPr b="0" lang="en-GB" sz="2400" spc="-1" strike="noStrike">
                <a:solidFill>
                  <a:srgbClr val="000000"/>
                </a:solidFill>
                <a:latin typeface="Times New Roman"/>
              </a:rPr>
              <a:t> trust among and between stakeholder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Enhances</a:t>
            </a:r>
            <a:r>
              <a:rPr b="0" lang="en-GB" sz="2400" spc="-1" strike="noStrike">
                <a:solidFill>
                  <a:srgbClr val="000000"/>
                </a:solidFill>
                <a:latin typeface="Times New Roman"/>
              </a:rPr>
              <a:t> cooperation and provides the potential to build consensus and avoid conflict among stakeholder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creases</a:t>
            </a:r>
            <a:r>
              <a:rPr b="0" lang="en-GB" sz="2400" spc="-1" strike="noStrike">
                <a:solidFill>
                  <a:srgbClr val="000000"/>
                </a:solidFill>
                <a:latin typeface="Times New Roman"/>
              </a:rPr>
              <a:t> transparency in project activities and legitimacy of decisions</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Enhances</a:t>
            </a:r>
            <a:r>
              <a:rPr b="0" lang="en-GB" sz="2400" spc="-1" strike="noStrike">
                <a:solidFill>
                  <a:srgbClr val="000000"/>
                </a:solidFill>
                <a:latin typeface="Times New Roman"/>
              </a:rPr>
              <a:t> accountability in decision-making related to the issues in stake</a:t>
            </a:r>
            <a:endParaRPr b="0" lang="en-US" sz="2400" spc="-1" strike="noStrike">
              <a:solidFill>
                <a:srgbClr val="000532"/>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39480" indent="-33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Creates </a:t>
            </a:r>
            <a:r>
              <a:rPr b="0" lang="en-GB" sz="2400" spc="-1" strike="noStrike">
                <a:solidFill>
                  <a:srgbClr val="000000"/>
                </a:solidFill>
                <a:latin typeface="Times New Roman"/>
              </a:rPr>
              <a:t>a greater sense of empowerment and social responsibility</a:t>
            </a:r>
            <a:endParaRPr b="0" lang="en-US" sz="2400" spc="-1" strike="noStrike">
              <a:solidFill>
                <a:srgbClr val="000532"/>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1052280"/>
            <a:ext cx="82296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The key principles of stakeholder engagement:</a:t>
            </a:r>
            <a:endParaRPr b="0" lang="en-US" sz="3600" spc="-1" strike="noStrike">
              <a:solidFill>
                <a:srgbClr val="000532"/>
              </a:solidFill>
              <a:latin typeface="Arial"/>
            </a:endParaRPr>
          </a:p>
        </p:txBody>
      </p:sp>
      <p:sp>
        <p:nvSpPr>
          <p:cNvPr id="635" name="PlaceHolder 2"/>
          <p:cNvSpPr>
            <a:spLocks noGrp="1"/>
          </p:cNvSpPr>
          <p:nvPr>
            <p:ph/>
          </p:nvPr>
        </p:nvSpPr>
        <p:spPr>
          <a:xfrm>
            <a:off x="456840" y="2276640"/>
            <a:ext cx="5194440" cy="458136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formation disclosure</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mmunication</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nsultation and participation</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Involvement</a:t>
            </a:r>
            <a:endParaRPr b="0" lang="en-US" sz="2800" spc="-1" strike="noStrike">
              <a:solidFill>
                <a:srgbClr val="000532"/>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operation and partnerships</a:t>
            </a:r>
            <a:endParaRPr b="0" lang="en-US" sz="2800" spc="-1" strike="noStrike">
              <a:solidFill>
                <a:srgbClr val="000532"/>
              </a:solidFill>
              <a:latin typeface="Times New Roman"/>
            </a:endParaRPr>
          </a:p>
        </p:txBody>
      </p:sp>
      <p:pic>
        <p:nvPicPr>
          <p:cNvPr id="636" name="Picture 4" descr=""/>
          <p:cNvPicPr/>
          <p:nvPr/>
        </p:nvPicPr>
        <p:blipFill>
          <a:blip r:embed="rId1"/>
          <a:stretch/>
        </p:blipFill>
        <p:spPr>
          <a:xfrm>
            <a:off x="5796000" y="2781360"/>
            <a:ext cx="3168720" cy="2952720"/>
          </a:xfrm>
          <a:prstGeom prst="rect">
            <a:avLst/>
          </a:prstGeom>
          <a:ln w="0">
            <a:noFill/>
          </a:ln>
        </p:spPr>
      </p:pic>
      <p:sp>
        <p:nvSpPr>
          <p:cNvPr id="637" name="Rectangle 5"/>
          <p:cNvSpPr/>
          <p:nvPr/>
        </p:nvSpPr>
        <p:spPr>
          <a:xfrm>
            <a:off x="5708880" y="5661000"/>
            <a:ext cx="1022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y is stakeholder engagement important for the implementation of national TEEB studies?</a:t>
            </a:r>
            <a:br>
              <a:rPr sz="2800"/>
            </a:br>
            <a:endParaRPr b="0" lang="en-US" sz="2800" spc="-1" strike="noStrike">
              <a:solidFill>
                <a:srgbClr val="000532"/>
              </a:solidFill>
              <a:latin typeface="Arial"/>
            </a:endParaRPr>
          </a:p>
        </p:txBody>
      </p:sp>
      <p:sp>
        <p:nvSpPr>
          <p:cNvPr id="639" name="PlaceHolder 2"/>
          <p:cNvSpPr>
            <a:spLocks noGrp="1"/>
          </p:cNvSpPr>
          <p:nvPr>
            <p:ph/>
          </p:nvPr>
        </p:nvSpPr>
        <p:spPr>
          <a:xfrm>
            <a:off x="178920" y="1916280"/>
            <a:ext cx="5256360" cy="47527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to determine and prioritise the policy questions at stak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ists in the framing of the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cilitates the identification of which stakeholders should participate and how in a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void conflicts between those making and those being affected by decisions concerning ecosystems.</a:t>
            </a:r>
            <a:endParaRPr b="0" lang="en-US" sz="2400" spc="-1" strike="noStrike">
              <a:solidFill>
                <a:srgbClr val="000532"/>
              </a:solidFill>
              <a:latin typeface="Times New Roman"/>
            </a:endParaRPr>
          </a:p>
        </p:txBody>
      </p:sp>
      <p:pic>
        <p:nvPicPr>
          <p:cNvPr id="640" name="Picture 15" descr=""/>
          <p:cNvPicPr/>
          <p:nvPr/>
        </p:nvPicPr>
        <p:blipFill>
          <a:blip r:embed="rId1"/>
          <a:stretch/>
        </p:blipFill>
        <p:spPr>
          <a:xfrm>
            <a:off x="5364000" y="2276640"/>
            <a:ext cx="3456000" cy="3456000"/>
          </a:xfrm>
          <a:prstGeom prst="rect">
            <a:avLst/>
          </a:prstGeom>
          <a:ln w="0">
            <a:noFill/>
          </a:ln>
        </p:spPr>
      </p:pic>
      <p:sp>
        <p:nvSpPr>
          <p:cNvPr id="641" name="Rectangle 16"/>
          <p:cNvSpPr/>
          <p:nvPr/>
        </p:nvSpPr>
        <p:spPr>
          <a:xfrm>
            <a:off x="4356000" y="5661000"/>
            <a:ext cx="43354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TEEB for Local and Regional Policy Makers Repor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y is stakeholder engagement important for the implementation of national TEEB studies?</a:t>
            </a:r>
            <a:br>
              <a:rPr sz="2800"/>
            </a:b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643" name="PlaceHolder 2"/>
          <p:cNvSpPr>
            <a:spLocks noGrp="1"/>
          </p:cNvSpPr>
          <p:nvPr>
            <p:ph/>
          </p:nvPr>
        </p:nvSpPr>
        <p:spPr>
          <a:xfrm>
            <a:off x="250920" y="2133360"/>
            <a:ext cx="4897440" cy="49402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kes use of local knowledge of ecosystems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motes and encourages effective implementation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sures for continual engagement throughout the whole process </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ltivates good governance ethics from the outset</a:t>
            </a:r>
            <a:endParaRPr b="0" lang="en-US" sz="2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courages fairness and equity when making decisions linked to ecosystem and their services</a:t>
            </a:r>
            <a:endParaRPr b="0" lang="en-US" sz="2400" spc="-1" strike="noStrike">
              <a:solidFill>
                <a:srgbClr val="000532"/>
              </a:solidFill>
              <a:latin typeface="Times New Roman"/>
            </a:endParaRPr>
          </a:p>
        </p:txBody>
      </p:sp>
      <p:pic>
        <p:nvPicPr>
          <p:cNvPr id="644" name="Picture 5" descr=""/>
          <p:cNvPicPr/>
          <p:nvPr/>
        </p:nvPicPr>
        <p:blipFill>
          <a:blip r:embed="rId1"/>
          <a:stretch/>
        </p:blipFill>
        <p:spPr>
          <a:xfrm>
            <a:off x="5076720" y="2349360"/>
            <a:ext cx="3851280" cy="3194280"/>
          </a:xfrm>
          <a:prstGeom prst="rect">
            <a:avLst/>
          </a:prstGeom>
          <a:ln w="0">
            <a:noFill/>
          </a:ln>
        </p:spPr>
      </p:pic>
      <p:sp>
        <p:nvSpPr>
          <p:cNvPr id="645" name="Rectangle 6"/>
          <p:cNvSpPr/>
          <p:nvPr/>
        </p:nvSpPr>
        <p:spPr>
          <a:xfrm>
            <a:off x="4996080" y="5445000"/>
            <a:ext cx="1364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a:t>
            </a:r>
            <a:r>
              <a:rPr b="0" lang="en-GB" sz="800" spc="-1" strike="noStrike">
                <a:solidFill>
                  <a:srgbClr val="000000"/>
                </a:solidFill>
                <a:latin typeface="Tahoma"/>
                <a:ea typeface="Arial"/>
              </a:rPr>
              <a:t>T EEB Manual for Cities</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323366"/>
                </a:solidFill>
                <a:latin typeface="Arial"/>
              </a:rPr>
              <a:t>Examples of Success; Collaborative management of The Kipsaina wetlands in Kenya</a:t>
            </a:r>
            <a:br>
              <a:rPr sz="2800"/>
            </a:br>
            <a:endParaRPr b="0" lang="en-US" sz="2800" spc="-1" strike="noStrike">
              <a:solidFill>
                <a:srgbClr val="000532"/>
              </a:solidFill>
              <a:latin typeface="Arial"/>
            </a:endParaRPr>
          </a:p>
        </p:txBody>
      </p:sp>
      <p:sp>
        <p:nvSpPr>
          <p:cNvPr id="647" name="PlaceHolder 2"/>
          <p:cNvSpPr>
            <a:spLocks noGrp="1"/>
          </p:cNvSpPr>
          <p:nvPr>
            <p:ph/>
          </p:nvPr>
        </p:nvSpPr>
        <p:spPr>
          <a:xfrm>
            <a:off x="0" y="1700280"/>
            <a:ext cx="5580000" cy="54007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med in 1990 as a partnership of local communities to conserve and restore the Saiwa swamp in national park in Kenya.</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group effort, neighbouring communities have a reliable and clean water source all year round </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crease in the grey-crowned crane population as well as increased income from fish and produce sales.</a:t>
            </a:r>
            <a:endParaRPr b="0" lang="en-US" sz="2400" spc="-1" strike="noStrike">
              <a:solidFill>
                <a:srgbClr val="000532"/>
              </a:solidFill>
              <a:latin typeface="Times New Roman"/>
            </a:endParaRPr>
          </a:p>
        </p:txBody>
      </p:sp>
      <p:pic>
        <p:nvPicPr>
          <p:cNvPr id="648" name="Picture 8" descr=""/>
          <p:cNvPicPr/>
          <p:nvPr/>
        </p:nvPicPr>
        <p:blipFill>
          <a:blip r:embed="rId1"/>
          <a:stretch/>
        </p:blipFill>
        <p:spPr>
          <a:xfrm>
            <a:off x="5796000" y="2768760"/>
            <a:ext cx="3168720" cy="3036600"/>
          </a:xfrm>
          <a:prstGeom prst="rect">
            <a:avLst/>
          </a:prstGeom>
          <a:ln w="0">
            <a:noFill/>
          </a:ln>
        </p:spPr>
      </p:pic>
      <p:sp>
        <p:nvSpPr>
          <p:cNvPr id="649" name="Rectangle 9"/>
          <p:cNvSpPr/>
          <p:nvPr/>
        </p:nvSpPr>
        <p:spPr>
          <a:xfrm>
            <a:off x="5508720" y="5805360"/>
            <a:ext cx="1152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Tahoma"/>
              </a:rPr>
              <a:t>©</a:t>
            </a:r>
            <a:r>
              <a:rPr b="0" lang="en-GB" sz="800" spc="-1" strike="noStrike">
                <a:solidFill>
                  <a:srgbClr val="000000"/>
                </a:solidFill>
                <a:latin typeface="Tahoma"/>
                <a:ea typeface="Arial"/>
              </a:rPr>
              <a:t>Teebtest.ro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24000" y="620280"/>
            <a:ext cx="844704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Examples of Success </a:t>
            </a:r>
            <a:r>
              <a:rPr b="1" lang="en-GB" sz="2000" spc="-1" strike="noStrike">
                <a:solidFill>
                  <a:srgbClr val="323366"/>
                </a:solidFill>
                <a:latin typeface="Arial"/>
              </a:rPr>
              <a:t>cont… </a:t>
            </a:r>
            <a:br>
              <a:rPr sz="2000"/>
            </a:br>
            <a:r>
              <a:rPr b="1" lang="en-GB" sz="3600" spc="-1" strike="noStrike">
                <a:solidFill>
                  <a:srgbClr val="323366"/>
                </a:solidFill>
                <a:latin typeface="Arial"/>
              </a:rPr>
              <a:t>“A</a:t>
            </a:r>
            <a:r>
              <a:rPr b="1" lang="en-GB" sz="3200" spc="-1" strike="noStrike">
                <a:solidFill>
                  <a:srgbClr val="323366"/>
                </a:solidFill>
                <a:latin typeface="Arial"/>
              </a:rPr>
              <a:t> </a:t>
            </a:r>
            <a:r>
              <a:rPr b="1" lang="en-US" sz="3600" spc="-1" strike="noStrike">
                <a:solidFill>
                  <a:srgbClr val="323366"/>
                </a:solidFill>
                <a:latin typeface="Arial"/>
              </a:rPr>
              <a:t>fund for water</a:t>
            </a:r>
            <a:r>
              <a:rPr b="1" lang="en-GB" sz="3600" spc="-1" strike="noStrike">
                <a:solidFill>
                  <a:srgbClr val="323366"/>
                </a:solidFill>
                <a:latin typeface="Arial"/>
              </a:rPr>
              <a:t>” in Quito, Ecuador</a:t>
            </a:r>
            <a:endParaRPr b="0" lang="en-US" sz="3600" spc="-1" strike="noStrike">
              <a:solidFill>
                <a:srgbClr val="000532"/>
              </a:solidFill>
              <a:latin typeface="Arial"/>
            </a:endParaRPr>
          </a:p>
        </p:txBody>
      </p:sp>
      <p:sp>
        <p:nvSpPr>
          <p:cNvPr id="651" name="PlaceHolder 2"/>
          <p:cNvSpPr>
            <a:spLocks noGrp="1"/>
          </p:cNvSpPr>
          <p:nvPr>
            <p:ph/>
          </p:nvPr>
        </p:nvSpPr>
        <p:spPr>
          <a:xfrm>
            <a:off x="178920" y="2133360"/>
            <a:ext cx="4824360" cy="472428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ablished in the 90’s to help prevent illegal logging and deforestation within the protected areas that were putting Quito’s water supply at risk.</a:t>
            </a:r>
            <a:r>
              <a:rPr b="0" lang="en-US" sz="2000" spc="-1" strike="noStrike">
                <a:solidFill>
                  <a:srgbClr val="000532"/>
                </a:solidFill>
                <a:latin typeface="Times New Roman"/>
              </a:rPr>
              <a:t> </a:t>
            </a:r>
            <a:endParaRPr b="0" lang="en-US" sz="2000" spc="-1" strike="noStrike">
              <a:solidFill>
                <a:srgbClr val="0005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spcBef>
                <a:spcPts val="499"/>
              </a:spcBef>
              <a:buClr>
                <a:srgbClr val="00053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32"/>
                </a:solidFill>
                <a:latin typeface="Times New Roman"/>
              </a:rPr>
              <a:t> </a:t>
            </a:r>
            <a:r>
              <a:rPr b="0" lang="en-US" sz="2000" spc="-1" strike="noStrike">
                <a:solidFill>
                  <a:srgbClr val="000000"/>
                </a:solidFill>
                <a:latin typeface="Times New Roman"/>
              </a:rPr>
              <a:t>The Nature Conservancy partnered together to establish a water fund, to maintain forests for providing fresh water and prevent soil erosion</a:t>
            </a:r>
            <a:endParaRPr b="0" lang="en-US" sz="2000" spc="-1" strike="noStrike">
              <a:solidFill>
                <a:srgbClr val="000532"/>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Quito Water Conservation Fund (FONAG) pays for activities for watershed protection.</a:t>
            </a:r>
            <a:endParaRPr b="0" lang="en-US" sz="2000" spc="-1" strike="noStrike">
              <a:solidFill>
                <a:srgbClr val="000532"/>
              </a:solidFill>
              <a:latin typeface="Times New Roman"/>
            </a:endParaRPr>
          </a:p>
        </p:txBody>
      </p:sp>
      <p:pic>
        <p:nvPicPr>
          <p:cNvPr id="652" name="Picture 4" descr=""/>
          <p:cNvPicPr/>
          <p:nvPr/>
        </p:nvPicPr>
        <p:blipFill>
          <a:blip r:embed="rId1"/>
          <a:stretch/>
        </p:blipFill>
        <p:spPr>
          <a:xfrm>
            <a:off x="5292720" y="2133720"/>
            <a:ext cx="3632040" cy="3600360"/>
          </a:xfrm>
          <a:prstGeom prst="rect">
            <a:avLst/>
          </a:prstGeom>
          <a:ln w="0">
            <a:noFill/>
          </a:ln>
        </p:spPr>
      </p:pic>
      <p:sp>
        <p:nvSpPr>
          <p:cNvPr id="653" name="Rectangle 5"/>
          <p:cNvSpPr/>
          <p:nvPr/>
        </p:nvSpPr>
        <p:spPr>
          <a:xfrm>
            <a:off x="5204160" y="5661000"/>
            <a:ext cx="87552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Tahoma"/>
              </a:rPr>
              <a:t>©</a:t>
            </a:r>
            <a:r>
              <a:rPr b="0" lang="en-GB" sz="800" spc="-1" strike="noStrike">
                <a:solidFill>
                  <a:srgbClr val="000000"/>
                </a:solidFill>
                <a:latin typeface="Tahoma"/>
                <a:ea typeface="Arial"/>
              </a:rPr>
              <a:t>Teebtest.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34:17Z</dcterms:created>
  <dc:creator>KREBS</dc:creator>
  <dc:description/>
  <dc:language>en-US</dc:language>
  <cp:lastModifiedBy>KREBS</cp:lastModifiedBy>
  <dcterms:modified xsi:type="dcterms:W3CDTF">2013-08-05T13:37:28Z</dcterms:modified>
  <cp:revision>1</cp:revision>
  <dc:subject/>
  <dc:title>PowerPoint Presentation</dc:title>
</cp:coreProperties>
</file>