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9.png" ContentType="image/png"/>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0ABD-E939-466A-AD49-109D590008A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59D4-D765-432F-8BFA-FFE14C13CF9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0" name="PlaceHolder 1"/>
          <p:cNvSpPr>
            <a:spLocks noGrp="1"/>
          </p:cNvSpPr>
          <p:nvPr>
            <p:ph type="sldImg"/>
          </p:nvPr>
        </p:nvSpPr>
        <p:spPr>
          <a:xfrm>
            <a:off x="1144440" y="687240"/>
            <a:ext cx="4569120" cy="3427560"/>
          </a:xfrm>
          <a:prstGeom prst="rect">
            <a:avLst/>
          </a:prstGeom>
          <a:ln w="0">
            <a:noFill/>
          </a:ln>
        </p:spPr>
      </p:sp>
      <p:sp>
        <p:nvSpPr>
          <p:cNvPr id="671"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4950-93FE-4928-81C9-FD28436B2DF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ir interests that would be related to ecosystem services would depend on their sector and so would be diverse as well as in some cases cross cutt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e cross cutting themes would occur in:</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sioning services e.g. food provision, fresh water provision which link to policies on food security/sovereignty, water scarcity etc (Ministries of Environment and Ministry of Agricultur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gulating services e.g. moderation of extreme events, wastewater treatment, erosion prevention which would link to disaster risk reduction programmes, pollution policies and health policies (Ministries of Environment, Ministry of Energy and Ministries of Health)</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ltural services e.g. tourism and supporting services e.g. biodiversity conservation which link in with environment policies as well as job creation etc (Ministry of Environment and Ministry of Touris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CC35-4BD6-43DE-B5A5-F9106FC07EA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business sector is another important group that would need to be considered for stakeholder engagement purposes and could certainly be of a very influential (both negative and positive) nature on ecosystem services management pla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e fact that policymakers need to ensure that when businesses are dependent upon ecosystems service for their product delivery (e.g. using/selling water, pharmaceuticals, forestry activities) there needs to be clear regulation and disclos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ze</a:t>
            </a:r>
            <a:r>
              <a:rPr b="0" lang="en-GB" sz="1200" spc="-1" strike="noStrike">
                <a:solidFill>
                  <a:srgbClr val="000000"/>
                </a:solidFill>
                <a:latin typeface="Calibri"/>
              </a:rPr>
              <a:t> also that national TEEB implementers, by recognising the potential of the business sector in being part of the solution rather than part of the problem, can harness the power of business particular in their role of helping to conserve biodiversity and delivering ecosystem services e.g. promoting activities such as carbon sequestration, sustainable agricultural via certification, nature conservation through eco-tourism, medicinal resources through pharmaceutical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2BB8-17F3-4DE5-96DD-FE574186340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engaging with all stakeholders or on all issues is neither possible nor desirable as it would go beyond any available resources, and at the same time make it very difficult to adequately respond to all stakeholders appropriate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EEB study implementers need to prioritise stakeholders and issues to ensure that time, resources and expectations are well manag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at this can be done by identifying those stakeholders that are likely to have the greatest impact on the TEEB study (influence) and/or those stakeholders that will be most positively or negatively affected by the study (dependen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Explain</a:t>
            </a:r>
            <a:r>
              <a:rPr b="0" lang="en-GB" sz="1200" spc="-1" strike="noStrike">
                <a:solidFill>
                  <a:srgbClr val="000000"/>
                </a:solidFill>
                <a:latin typeface="Calibri"/>
                <a:ea typeface="SimSun"/>
              </a:rPr>
              <a:t> how this will enable TEEB national implementers to prioritize the attention and action to ensure successful execution of the project, while respecting the rights of significantly impacted stakeholders.</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86B2-5687-46AF-A303-5B81B796013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ecute</a:t>
            </a:r>
            <a:r>
              <a:rPr b="0" lang="en-US" sz="1200" spc="-1" strike="noStrike">
                <a:solidFill>
                  <a:srgbClr val="000000"/>
                </a:solidFill>
                <a:latin typeface="Calibri"/>
              </a:rPr>
              <a:t> group exercise asking participants to organize themselves into pairs or groups of thre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with a handout with instructions and explain the instructions careful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t>
            </a:r>
            <a:r>
              <a:rPr b="0" lang="en-US" sz="500" spc="-1" strike="noStrike">
                <a:solidFill>
                  <a:srgbClr val="000000"/>
                </a:solidFill>
                <a:latin typeface="Calibri"/>
              </a:rPr>
              <a:t>Using a power/interest grid (see below) try to prioritize your stakeholders that may be involved with or affected by a national TEEB study in your country, depending upon what the policy issue is that is under assessment (deforestation, food security, water scarcity etc) This should help you determine who would be your priority stakeholders as well as how they should be involved”</a:t>
            </a:r>
            <a:endParaRPr b="0" lang="en-US" sz="5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onduct</a:t>
            </a:r>
            <a:r>
              <a:rPr b="0" lang="en-US" sz="1200" spc="-1" strike="noStrike">
                <a:solidFill>
                  <a:srgbClr val="000000"/>
                </a:solidFill>
                <a:latin typeface="Calibri"/>
              </a:rPr>
              <a:t> a feedback session at the end of the group exercise and write relevant information on flipcharts/whiteboard in training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70C4-4D2B-4070-9A0C-C4BED2BA34F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first step in the process of stakeholder engagement is stakeholder identification–determining who your project stakeholders are, and their key groupings and sub-groupings (refer to icebreaker exercise). This part of the process can also be called a user needs assessment.</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u="sng">
                <a:solidFill>
                  <a:srgbClr val="000000"/>
                </a:solidFill>
                <a:uFillTx/>
                <a:latin typeface="Calibri"/>
              </a:rPr>
              <a:t> </a:t>
            </a:r>
            <a:r>
              <a:rPr b="0" lang="en-US" sz="1200" spc="-1" strike="noStrike">
                <a:solidFill>
                  <a:srgbClr val="000000"/>
                </a:solidFill>
                <a:latin typeface="Calibri"/>
              </a:rPr>
              <a:t>that from this initial part of the process flows stakeholder analysis and mapping, a more in-depth look at stakeholder group interests, how they will be affected and to what degree, and what influence they could have on your project. The answers to these questions will provide the basis from which to build your stakeholder engagement strategy. </a:t>
            </a:r>
            <a:r>
              <a:rPr b="0" lang="en-GB" sz="1200" spc="-1" strike="noStrike">
                <a:solidFill>
                  <a:srgbClr val="000000"/>
                </a:solidFill>
                <a:latin typeface="Calibri"/>
              </a:rPr>
              <a:t>It is therefore a key building block of stakeholder engagement and an important first step towards engaging successfully.</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here it is important to keep in mind that not all stakeholders in a particular group or sub-group will necessarily share the same concerns or have unified opinions or prioritie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in ecosystem valuation, being able to identify your relevant stakeholders is critical </a:t>
            </a:r>
            <a:r>
              <a:rPr b="0" i="1" lang="en-GB" sz="1200" spc="-1" strike="noStrike">
                <a:solidFill>
                  <a:srgbClr val="000000"/>
                </a:solidFill>
                <a:latin typeface="Calibri"/>
              </a:rPr>
              <a:t>at all stages</a:t>
            </a:r>
            <a:r>
              <a:rPr b="0" lang="en-GB" sz="1200" spc="-1" strike="noStrike">
                <a:solidFill>
                  <a:srgbClr val="000000"/>
                </a:solidFill>
                <a:latin typeface="Calibri"/>
              </a:rPr>
              <a:t> of the valuation process.</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66ED-AC2F-4AE5-A03A-056BD05F769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Run through</a:t>
            </a:r>
            <a:r>
              <a:rPr b="0" lang="en-GB" sz="1200" spc="-1" strike="noStrike">
                <a:solidFill>
                  <a:srgbClr val="000000"/>
                </a:solidFill>
                <a:latin typeface="Calibri"/>
                <a:ea typeface="SimSun"/>
              </a:rPr>
              <a:t> the need to map and analyse stakeholders using the information on the slid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Evaluate</a:t>
            </a:r>
            <a:r>
              <a:rPr b="0" lang="en-GB" sz="1200" spc="-1" strike="noStrike">
                <a:solidFill>
                  <a:srgbClr val="ffffff"/>
                </a:solidFill>
                <a:latin typeface="Calibri"/>
              </a:rPr>
              <a:t> who wins and who loses from alternative management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Identifies</a:t>
            </a:r>
            <a:r>
              <a:rPr b="0" lang="en-GB" sz="1200" spc="-1" strike="noStrike">
                <a:solidFill>
                  <a:srgbClr val="ffffff"/>
                </a:solidFill>
                <a:latin typeface="Calibri"/>
              </a:rPr>
              <a:t> which stakeholders will be able to influence the issues (both positively and neg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Determines</a:t>
            </a:r>
            <a:r>
              <a:rPr b="0" lang="en-GB" sz="1200" spc="-1" strike="noStrike">
                <a:solidFill>
                  <a:srgbClr val="ffffff"/>
                </a:solidFill>
                <a:latin typeface="Calibri"/>
              </a:rPr>
              <a:t> who should be involved and identify who will need their capacity built in order to be able to participate meaningfu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a:t>
            </a:r>
            <a:r>
              <a:rPr b="1" lang="en-GB" sz="1200" spc="-1" strike="noStrike">
                <a:solidFill>
                  <a:srgbClr val="ffffff"/>
                </a:solidFill>
                <a:latin typeface="Calibri"/>
              </a:rPr>
              <a:t>Takes into account</a:t>
            </a:r>
            <a:r>
              <a:rPr b="0" lang="en-GB" sz="1200" spc="-1" strike="noStrike">
                <a:solidFill>
                  <a:srgbClr val="ffffff"/>
                </a:solidFill>
                <a:latin typeface="Calibri"/>
              </a:rPr>
              <a:t> stakeholder priorities in relation to the iss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a:solidFill>
                  <a:srgbClr val="ffffff"/>
                </a:solidFill>
                <a:latin typeface="Calibri"/>
              </a:rPr>
              <a:t>Detects </a:t>
            </a:r>
            <a:r>
              <a:rPr b="0" lang="en-GB" sz="1200" spc="-1" strike="noStrike">
                <a:solidFill>
                  <a:srgbClr val="ffffff"/>
                </a:solidFill>
                <a:latin typeface="Calibri"/>
              </a:rPr>
              <a:t>possible risks and conflicts of interest between different stakeholder groups and to help find re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Indicates</a:t>
            </a:r>
            <a:r>
              <a:rPr b="0" lang="en-GB" sz="1200" spc="-1" strike="noStrike">
                <a:solidFill>
                  <a:srgbClr val="ffffff"/>
                </a:solidFill>
                <a:latin typeface="Calibri"/>
              </a:rPr>
              <a:t> the main relevant ecosystem services via assessing stakeholder interes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15E8-3C70-40CC-A8AC-B8E87E1B33A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potential key stakeholders that would need to be engaged in context of a National TEEB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Explain </a:t>
            </a:r>
            <a:r>
              <a:rPr b="0" lang="en-GB" sz="1400" spc="-1" strike="noStrike">
                <a:solidFill>
                  <a:srgbClr val="ffffff"/>
                </a:solidFill>
                <a:latin typeface="Calibri"/>
              </a:rPr>
              <a:t>that those may includ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a:t>
            </a:r>
            <a:r>
              <a:rPr b="1" lang="en-GB" sz="1400" spc="-1" strike="noStrike">
                <a:solidFill>
                  <a:srgbClr val="ffffff"/>
                </a:solidFill>
                <a:latin typeface="Calibri"/>
              </a:rPr>
              <a:t>Persons</a:t>
            </a:r>
            <a:r>
              <a:rPr b="0" lang="en-GB" sz="1400" spc="-1" strike="noStrike">
                <a:solidFill>
                  <a:srgbClr val="ffffff"/>
                </a:solidFill>
                <a:latin typeface="Calibri"/>
              </a:rPr>
              <a:t>, organizations or groups with an interest in the way a particular ecosystem is used, enjoyed or manag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a:t>
            </a:r>
            <a:r>
              <a:rPr b="1" lang="en-GB" sz="1400" spc="-1" strike="noStrike">
                <a:solidFill>
                  <a:srgbClr val="ffffff"/>
                </a:solidFill>
                <a:latin typeface="Calibri"/>
              </a:rPr>
              <a:t>Major</a:t>
            </a:r>
            <a:r>
              <a:rPr b="0" lang="en-GB" sz="1400" spc="-1" strike="noStrike">
                <a:solidFill>
                  <a:srgbClr val="ffffff"/>
                </a:solidFill>
                <a:latin typeface="Calibri"/>
              </a:rPr>
              <a:t> stakeholder groups that may be involved/affected by a TEEB study include:</a:t>
            </a:r>
            <a:endParaRPr b="0" lang="en-US" sz="1400" spc="-1" strike="noStrike">
              <a:solidFill>
                <a:srgbClr val="000000"/>
              </a:solidFill>
              <a:latin typeface="Calibri"/>
            </a:endParaRPr>
          </a:p>
          <a:p>
            <a:pPr lvl="1" marL="457200">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NGOs (local, national, regional, international etc)</a:t>
            </a:r>
            <a:endParaRPr b="0" lang="en-US" sz="1600" spc="-1" strike="noStrike">
              <a:solidFill>
                <a:srgbClr val="000000"/>
              </a:solidFill>
              <a:latin typeface="Calibri"/>
            </a:endParaRPr>
          </a:p>
          <a:p>
            <a:pPr lvl="1" marL="457200">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local communities and indigenous groups</a:t>
            </a:r>
            <a:endParaRPr b="0" lang="en-US" sz="1600" spc="-1" strike="noStrike">
              <a:solidFill>
                <a:srgbClr val="000000"/>
              </a:solidFill>
              <a:latin typeface="Calibri"/>
            </a:endParaRPr>
          </a:p>
          <a:p>
            <a:pPr lvl="1" marL="457200">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usiness</a:t>
            </a:r>
            <a:endParaRPr b="0" lang="en-US" sz="1600" spc="-1" strike="noStrike">
              <a:solidFill>
                <a:srgbClr val="000000"/>
              </a:solidFill>
              <a:latin typeface="Calibri"/>
            </a:endParaRPr>
          </a:p>
          <a:p>
            <a:pPr lvl="1" marL="457200">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ther government institutions and ministries</a:t>
            </a:r>
            <a:endParaRPr b="0" lang="en-US" sz="16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CF64-B5EF-483F-985F-4CEFCA24DC5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Calibri"/>
              </a:rPr>
              <a:t>Outline</a:t>
            </a:r>
            <a:r>
              <a:rPr b="0" lang="en-GB" sz="900" spc="-1" strike="noStrike">
                <a:solidFill>
                  <a:srgbClr val="000000"/>
                </a:solidFill>
                <a:latin typeface="Calibri"/>
              </a:rPr>
              <a:t> some of the potential interests of the stakeholders groups which may feature in a TEEB study and emphasize the fact that this will ultimately depend on which ecosystem category/categories may be impacted during the implementation of the study</a:t>
            </a:r>
            <a:endParaRPr b="0" lang="en-US" sz="900" spc="-1" strike="noStrike">
              <a:solidFill>
                <a:srgbClr val="000000"/>
              </a:solidFill>
              <a:latin typeface="Calibri"/>
            </a:endParaRPr>
          </a:p>
          <a:p>
            <a:pPr>
              <a:lnSpc>
                <a:spcPct val="8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ffffff"/>
                </a:solidFill>
                <a:uFillTx/>
                <a:latin typeface="Calibri"/>
              </a:rPr>
              <a:t>Run through</a:t>
            </a:r>
            <a:r>
              <a:rPr b="0" lang="en-GB" sz="1000" spc="-1" strike="noStrike">
                <a:solidFill>
                  <a:srgbClr val="ffffff"/>
                </a:solidFill>
                <a:latin typeface="Calibri"/>
              </a:rPr>
              <a:t> the various interests on the slide and some additional others: </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Sustainable rural livelihoods and poverty alleviation for local communitie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Protection of sacred sites for indigenous group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Nature conservation/preservation for local, national and international NGOS as well as tour operators and the global community at large (e.g. those who -may live on the other side of the planet but who have an interest/stake in conserving nature from an intrinsic perspective)</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Food security for policymakers, local communities and NGO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medicinal plants for pharmaceutical companie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clean water supply for local resident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energy for hydropower companies </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Calibri"/>
              </a:rPr>
              <a:t>Highlight</a:t>
            </a:r>
            <a:r>
              <a:rPr b="0" lang="en-GB" sz="900" spc="-1" strike="noStrike">
                <a:solidFill>
                  <a:srgbClr val="000000"/>
                </a:solidFill>
                <a:latin typeface="Calibri"/>
              </a:rPr>
              <a:t> the fact that different stakeholders also attach different values i.e. higher or lower values to ecosystem services e.g. maintenance of biodiversity depending 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Social and cultural backgroun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 The impact the service has on their living condition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 The spatial and temporal scale of ecosystem service impacts will affect different stakehol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Calibri"/>
              </a:rPr>
              <a:t>Explain </a:t>
            </a:r>
            <a:r>
              <a:rPr b="0" lang="en-GB" sz="900" spc="-1" strike="noStrike">
                <a:solidFill>
                  <a:srgbClr val="000000"/>
                </a:solidFill>
                <a:latin typeface="Calibri"/>
              </a:rPr>
              <a:t>that these criteria will also affect stakeholder interests more generally and of course would need to be sought and indentified when conducting the stakeholder analysis and mappi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C913-2D7C-4F0A-AB26-7F6021121D2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ing at different stakeholder groups and interests in more detail, </a:t>
            </a:r>
            <a:r>
              <a:rPr b="1" lang="en-GB" sz="1200" spc="-1" strike="noStrike" u="sng">
                <a:solidFill>
                  <a:srgbClr val="000000"/>
                </a:solidFill>
                <a:uFillTx/>
                <a:latin typeface="Calibri"/>
              </a:rPr>
              <a:t>explain</a:t>
            </a:r>
            <a:r>
              <a:rPr b="0" lang="en-GB" sz="1200" spc="-1" strike="noStrike">
                <a:solidFill>
                  <a:srgbClr val="000000"/>
                </a:solidFill>
                <a:latin typeface="Calibri"/>
              </a:rPr>
              <a:t> that local communities and indigenous groups are an important group to consider and engage with when thinking about undertaking a TEEB stud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is stakeholder group will be one of the most </a:t>
            </a:r>
            <a:r>
              <a:rPr b="0" i="1" lang="en-GB" sz="1200" spc="-1" strike="noStrike" u="sng">
                <a:solidFill>
                  <a:srgbClr val="000000"/>
                </a:solidFill>
                <a:uFillTx/>
                <a:latin typeface="Calibri"/>
              </a:rPr>
              <a:t>directly </a:t>
            </a:r>
            <a:r>
              <a:rPr b="0" lang="en-GB" sz="1200" spc="-1" strike="noStrike">
                <a:solidFill>
                  <a:srgbClr val="000000"/>
                </a:solidFill>
                <a:latin typeface="Calibri"/>
              </a:rPr>
              <a:t>affected in a TEEB national study due to their direct dependence on the natural resources in question i.e. Forest resources etc. This therefore means that this group may more delicate to engage wit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ffffff"/>
                </a:solidFill>
                <a:latin typeface="Calibri"/>
              </a:rPr>
              <a:t>One of the most affected due to their </a:t>
            </a:r>
            <a:r>
              <a:rPr b="0" i="1" lang="en-GB" sz="1200" spc="-1" strike="noStrike" u="sng">
                <a:solidFill>
                  <a:srgbClr val="ffffff"/>
                </a:solidFill>
                <a:uFillTx/>
                <a:latin typeface="Calibri"/>
              </a:rPr>
              <a:t>direct dependence</a:t>
            </a:r>
            <a:r>
              <a:rPr b="0" lang="en-GB" sz="1200" spc="-1" strike="noStrike">
                <a:solidFill>
                  <a:srgbClr val="ffffff"/>
                </a:solidFill>
                <a:latin typeface="Calibri"/>
              </a:rPr>
              <a:t> on natural resources i.e. forest resources etc. Could potentially be a significant source of data/traditional knowledge which can help to frame the study. </a:t>
            </a:r>
            <a:r>
              <a:rPr b="0" lang="en-GB" sz="1000" spc="-1" strike="noStrike">
                <a:solidFill>
                  <a:srgbClr val="ffffff"/>
                </a:solidFill>
                <a:latin typeface="Calibri"/>
              </a:rPr>
              <a:t>It is essential therefore that their interests in relation to these resources are clearly understood for TEEB national study planning</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how understanding their specific interests in the ecosystem services under consideration is essential for good project pla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6464-3DFB-4BB1-95EA-6526ED9099B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how their main stakeholder interests would be related to an ecosystem service which would directly affect their livelihoods e.g. provisioning services such as the provision of food, fuel wood, artisanal fisheries, natural medicines etc. </a:t>
            </a:r>
            <a:r>
              <a:rPr b="0" lang="en-GB" sz="1300" spc="-1" strike="noStrike">
                <a:solidFill>
                  <a:srgbClr val="ffffff"/>
                </a:solidFill>
                <a:latin typeface="Calibri"/>
              </a:rPr>
              <a:t>More indirectly, the services provided by regulating services (maintenance of soil fertility for their crops) and supporting services (photosynthesis etc). </a:t>
            </a:r>
            <a:r>
              <a:rPr b="0" lang="en-GB" sz="1200" spc="-1" strike="noStrike">
                <a:solidFill>
                  <a:srgbClr val="000000"/>
                </a:solidFill>
                <a:latin typeface="Calibri"/>
              </a:rPr>
              <a:t>Cultural services such as places of rituals and scared sites would also be of high interest particularly for indigenous grou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Check </a:t>
            </a:r>
            <a:r>
              <a:rPr b="0" lang="en-GB" sz="1200" spc="-1" strike="noStrike">
                <a:solidFill>
                  <a:srgbClr val="000000"/>
                </a:solidFill>
                <a:latin typeface="Calibri"/>
              </a:rPr>
              <a:t>for understanding on the concepts of ecosystem services if need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FA99-62B9-46BA-AE20-922052E1E51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lation to NGOs and civil society, </a:t>
            </a:r>
            <a:r>
              <a:rPr b="1" lang="en-US" sz="1200" spc="-1" strike="noStrike" u="sng">
                <a:solidFill>
                  <a:srgbClr val="000000"/>
                </a:solidFill>
                <a:uFillTx/>
                <a:latin typeface="Calibri"/>
              </a:rPr>
              <a:t>highlight</a:t>
            </a:r>
            <a:r>
              <a:rPr b="0" lang="en-US" sz="1200" spc="-1" strike="noStrike">
                <a:solidFill>
                  <a:srgbClr val="000000"/>
                </a:solidFill>
                <a:latin typeface="Calibri"/>
              </a:rPr>
              <a:t> how this </a:t>
            </a:r>
            <a:r>
              <a:rPr b="0" lang="en-GB" sz="1200" spc="-1" strike="noStrike">
                <a:solidFill>
                  <a:srgbClr val="000000"/>
                </a:solidFill>
                <a:latin typeface="Calibri"/>
              </a:rPr>
              <a:t>stakeholder group which is vital to have on board in TEEB national study planning processes particularly to minimise resistance towards the study and assist in its implement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by understanding their interests and incorporating them into TEEB project planning would not only encourage their continued involvement but would allow TEEB national implementers to capitalise on this groups abilities to build strong community relations and improve participation and consultation proces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at this groups key interests would be specifically related to ecosystem services directly related to:</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ure conservation (for those more environmentally minded NGOs) e.g. cultural servic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od provision, fresh water, medicinal resources (for those more socially minded NGOs) e.g. provisioning servi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6208-650B-4531-AA40-753C190D2FE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Explain </a:t>
            </a:r>
            <a:r>
              <a:rPr b="0" lang="en-GB" sz="1000" spc="-1" strike="noStrike">
                <a:solidFill>
                  <a:srgbClr val="000000"/>
                </a:solidFill>
                <a:latin typeface="Calibri"/>
              </a:rPr>
              <a:t>that a TEEB national study may involve more than just the Ministry of Environment. Other Ministries that may be affected by or involved in a TEEB national study could be Ministries of Agriculture, Ministries of Energy, Ministries of Commerce, Ministries of Finance, Ministries of Health, Ministry of Tourism etc</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Highlight </a:t>
            </a:r>
            <a:r>
              <a:rPr b="0" lang="en-GB" sz="1000" spc="-1" strike="noStrike">
                <a:solidFill>
                  <a:srgbClr val="000000"/>
                </a:solidFill>
                <a:latin typeface="Calibri"/>
              </a:rPr>
              <a:t>that by understanding the interests of each of these Ministries is an absolute necessity if a TEEB study is to be successful so as to promote improved policy integration and decision making</a:t>
            </a: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mage Source: </a:t>
            </a:r>
            <a:r>
              <a:rPr b="0" lang="en-US" sz="1200" spc="-1" strike="noStrike">
                <a:solidFill>
                  <a:srgbClr val="000000"/>
                </a:solidFill>
                <a:latin typeface="Calibri"/>
              </a:rPr>
              <a:t>Measuring and Mainstreaming Natural Capital and Leveraging Biodiversity Finance; Presented by European Commission, World Bank, UNEP/TEEB, UNDP http://www.iisd.ca/biodiv/cop11/enbots/17oct.html</a:t>
            </a:r>
            <a:r>
              <a:rPr b="1" lang="en-US" sz="1200" spc="-1" strike="noStrike">
                <a:solidFill>
                  <a:srgbClr val="000000"/>
                </a:solidFill>
                <a:latin typeface="Calibri"/>
              </a:rPr>
              <a:t>” (usage of photo to be confirmed, waiting on response 14/11/2012)</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AFEFA-8AF0-4C88-9751-A15F76D27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26FB3-1E45-4252-9C86-1CD5F9673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BA7580-61CE-4A66-9D1E-65E7C855D4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0EF642-6AE2-41F8-BD48-16076043BE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DD536-074D-46E9-B15B-3F14EAED4A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3A2F9-862A-4E2C-B4F0-129B2AE0A1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C1D30-DAC8-4B38-9616-A6E8BBC1E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7D1322-6377-4FC2-9583-1D237DC420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5DBEC4-5C2C-4347-8622-CC41ACD779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5DEEA3-E016-4E2B-A816-AE22FF9FF8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53947A-E85C-4F2B-BC97-6EB6F19A35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E2254E-704D-43E9-BEF7-D1D7EB5B18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55B51-884B-4BD4-9248-D14BD33CC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2A0051-32FB-45C5-9A51-AEDBF8E830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130F7C-9C7D-4FAA-AD91-EB838EAF33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A7537E-6B0F-446A-96C0-696363FB9F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D4E979-6DDA-4C23-9ECD-E6EC2C605B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7F8A63-C5FA-4C91-B6F5-A3E59F07CF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AF7F42-0B7F-4112-A564-66BE2BAA6C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86CDE1-7990-47F6-8F98-9A9988B012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ED6735-372C-4713-AFC5-2AE83FAA2B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901994-4235-4C3F-A0A7-805E1D7F2F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C1F43B-3D7A-4F83-B803-126C1E94AD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B787D-C274-44AA-AF7D-A34BAAF94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D65CF8-4614-4EFA-BD90-3C1A0E92FB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D9F84E-44A4-4EF0-85A6-0D7A281179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A575A6-07D1-4286-877A-6331AAE2D4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A901FD-BE08-4EB2-A922-1EFDA7D27F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B4AC79-17B3-46A3-B3E3-BB2AEAD8C9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3FE9E1-AD8C-4768-A980-C1D7ACBA24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2EF290-7780-4921-98A7-7C1D0F3087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648748-9AE1-4834-A9AA-2AB24DE0AC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370BFD-B53F-4D91-A9DA-46CCDC7099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C5C58F-EEC2-45E2-8154-91802962DB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30F0C-541B-4E3D-A368-59F440356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E93D2E-0985-4A4C-AF82-49190271D0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F3DEA5-4034-4E31-B443-E46C47C4E0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301B6A-D21A-4DC6-B335-692A3B401C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CAC1E2-5DB7-4139-A50E-3F14941A77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96D3A6-6129-453F-A4FC-6D8AAA7079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E87759-5F09-476D-9ECC-5CF7A5029C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09EB85-FAE4-4B5F-9A54-CF9F57E42B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323D72-EB00-4255-9656-9AC05375DB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BBFEEC-DAC5-4684-9C9F-D3BA9A675E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9A1CE9-8AA0-4EF1-8299-FAA0F6EE0D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2A217-9C41-4B33-BCDA-63BA0FB68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6C94EA-32C3-4D40-8C95-6B78AA7FDB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0EF151-BFB0-4522-AB59-2E28B5848B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7D4783-B666-4EDB-A87E-CE6759FCDE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715854-2660-4FC4-907E-DD5E91CDD0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0F70C5-A75E-46D0-98DB-1388241C3A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465974-CC36-4A26-9D74-CDBB605349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4B309A-FE9F-4945-BDCC-087656BA96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1EBE84-CAFC-4A85-A5CA-0203499F64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27409C-6057-4617-BDF2-976704D0DD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9B69DD-02B2-4ECC-92A5-CD246A2ECF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017E3-2772-450A-BCFA-F11242BDC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FBEE07-92F7-40F9-8F7B-5E7A826BAE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7253C2-E608-4296-9B48-F00584D0D3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CFE1EB-92E0-48F6-959E-13B22DB8AF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ABBFE7-7D57-44A5-8972-36A52C1831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EB1008-4227-4BBC-8460-37F990C065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EB4EADF-9822-485E-A8E0-552875C8EB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E29283-3B99-4F0B-A9B9-BFFB6C55DFF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3577121-F6B1-4B12-A33A-02F6880DE3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5DAD39-93EA-4A13-B296-F46E7D11F5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3EFB0B-CAE5-49F1-9E25-87394C9F2E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0BD87-6C85-4479-A6F4-6B0E97EB8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DF5B18-7091-4512-AF81-01DB567635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F3D7A3-B3DF-4AF5-97D3-29206338C6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9D2E25-E730-400F-849E-DF93388F59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AB3FDE-D10B-4CC9-BBD0-7AAC3E4055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E5E466-98F0-4855-89A9-01D2C462F0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5C5EBB-0FF2-440A-B33F-DF742A0637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6A2900-E24C-4D04-8C24-645CFC9CAA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F470198-895B-473A-9867-E52B64C94D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6040AF5-87F7-4CA5-948D-6742B1A532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42EB3-6164-4495-A2BC-817633BA0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DF1BC-5F2F-432B-AC82-9DC67DCC9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192AA-0567-4088-A24B-D7EF6AC82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4C395-B712-41B6-B3D0-845B9908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673C5-3CBF-41D0-AC4E-67C260D88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EEBC2-36B4-4512-956A-08B03B91F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63AF6-6906-4D0B-94DD-991173A99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0A86C-AC5C-42D7-8F0F-6F5EFD073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9D78C-6988-4BE9-9621-D4E94DA29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BA8D84-CA42-4912-AF07-22CA303DB6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06268-5BD3-4E3A-8B8E-CD50923C99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3C880-4777-48DB-AFF1-10D6C8ECA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D82A93-F0F1-44FC-9223-D460A3935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DEB0E-0935-4A5D-828D-C7459BB22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D6CE8-8862-41FF-AF1F-B96A103E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094F9-BC64-4888-B5EB-38635404A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48E3B-358A-4C9C-83FB-D86EC8E89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46B23-632C-4CA0-85BF-C5F465570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5DC2A-BE15-405A-A438-C1A68414B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7026E-4D02-40E9-8463-2C3F0F818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D7780-9ACA-45BB-A750-E1BA572284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A4CD68-5841-41F8-8B5A-4076D0A65D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77A65F-B0C8-4E60-BC4A-1F145827D1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08FB6-2BBE-47F6-AB12-6A6642A79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F07CE-F968-4E6B-8D7A-9C2BCD2F2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313DA-EB50-42FE-894C-AF8266FAD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D93010-F56A-45E9-92A9-C89865D78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AFF1C-8F25-4396-B9A1-07B6E4005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A7519-1D14-40CC-856B-18A9C20D4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9F90C8-C86C-439D-B13A-580325C82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68A38-CE27-4D9F-A1B4-2E0E285F5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76580-73AC-423D-A97E-FD3D927FD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0E22F-39C1-49B3-8AA5-4130550EE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7609DA-9B0E-4E2B-8E9D-31EC2AA4F3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98E75D-7839-4099-ADA1-4B9C3C343E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248C65-AE53-42E9-8106-EB448BD7E5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83765-EB3D-49D4-83C7-A1C67CEC7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229F7F-D93F-4938-9C0C-36AF60DBF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A5583-B75F-4B1D-A3A7-D918C1314F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438E3-E983-4F2C-85CA-E965000997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94197-B4DE-41DD-A097-924609863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D913D-1743-4165-9FFF-F51CC6A1A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F98D1-DB40-46FE-AA0E-8526B1275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3DFB9-34D3-4616-8797-6D8017B34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860E8-DC27-493B-A94B-71188724E6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26337-DDEA-4DCC-BD54-B1DC57B5E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587FF9-3AB2-4808-A07F-EE7CAA3150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74A88-71A5-414E-A82F-1738C8EBD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EEA990-55DB-40AF-AE40-11F68EC01B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F435B0-D5B0-4E00-9810-1C9417E1B3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6D806D-F00C-4D2B-9D8A-EC0EDC5CB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2D247-F4DD-4F5D-99B1-847B3DC04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F7F558-D2C4-4B36-9A4E-CEF23B999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447CA-11A5-4975-92BB-2B35D985D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1C1B0D-2FA3-4952-8DF5-87E2566A4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5557D1-1616-40F3-A114-94E5C0581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D7586-FFA7-4C89-AD99-50748CB9B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E81E8C-0A9D-4493-B511-AB5508A77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11DB3-31C7-4E3A-8E86-9ED0C7E39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E24427-AC63-46A0-A176-7E5A0F2F5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179D4C-90CC-452C-A139-B9D4675A4A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0DA677-D785-4EF9-AC13-7CA71D3CA7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00BB3B-7D2B-4221-A2BB-7E1507F86A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72612A-F068-4E5D-9A29-859DA364D8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0A4E74-1AB5-418D-A52D-1CCD23A36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3F6F97-32AF-4459-923D-8FAA90CED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C29C41-A9AA-4F26-888B-9292F1A1A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CB1E5-A7EB-401B-B2A0-0908403689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BEC7A-0351-4DF7-8B59-0E498E6DE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44517-BFFE-4EF8-8EEF-A8AAE5B45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F9762-1125-4A06-9D85-9FAC197A2D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700F78-F708-456B-9811-EDFA6E47AF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604E22-1D55-4BF2-98C0-18B166C1B9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DF0809-3A0F-49D9-9E8A-64C50508BB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EBD251-0470-4952-A271-7FD6C90751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D7D06E-8917-4320-9457-53310042B0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495A4A-7C95-42FC-AB3D-0DFDCD28C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0A7DB-01D1-481C-A58F-463D641627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A92683-E20E-4D1F-9234-8CD39A4906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3A0C2-1AB7-4A9B-9F47-76DA9C3849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9C9F-6FC7-4804-AD39-94CAC3427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AAC00-757C-4304-B0BB-57033F36D9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8B002-6694-4788-83C0-FF1962FDA8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A0B90-73AD-4993-B841-B9D6D3FB6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35415B-4BFD-46D7-93C7-9C5FDE9B5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89B05D-2A13-4E1E-88EC-7288BB01C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A59F38-8848-4BAE-83EC-47970DCE0B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7DE673-BAF4-4757-BCE8-3B43591871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7F09D5-19D8-45AC-9A9D-3A170EDA2E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6B2736-9DAB-4F78-9B1E-1C662A6F11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E123CC-E08B-40C8-8530-6BC724EA6E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DD76-675F-4513-A1F7-BC326734E2F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D957-FE91-42A2-90BD-04A466413967}"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2A7B-16D4-4015-8B7A-AC3669F9ECB2}"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CB09-75A0-42D6-850D-65F60790F318}"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2526-07CB-4EC5-907C-177CDBBE117A}"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E65D-EC69-41A3-9212-1A99547D22C1}"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B943-D866-49E5-8457-E2F776F3C7A2}"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3E49-86A3-43B4-A74C-10EA324635DD}"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063B-AD48-46EE-B5E0-8A8712D414ED}"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CDC9-4043-43FB-9E07-90D66EA8D473}"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265A-541A-4A49-A2D4-A3065EBAAB7C}"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B418-0FD1-4DEE-8103-1EE08AA89F11}"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4887-AD75-42E5-96A0-C97326FB24A0}"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E5A6-EB7E-4E7D-BB90-73E308F0BF15}"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300640"/>
            <a:ext cx="626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2: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000"/>
                </a:solidFill>
                <a:latin typeface="Arial"/>
                <a:ea typeface="SimSun"/>
              </a:rPr>
              <a:t>Stakeholder analysis and mapping</a:t>
            </a:r>
            <a:endParaRPr b="0" lang="en-US" sz="2800" spc="-1" strike="noStrike">
              <a:solidFill>
                <a:srgbClr val="ffffff"/>
              </a:solidFill>
              <a:latin typeface="Times New Roman"/>
            </a:endParaRPr>
          </a:p>
        </p:txBody>
      </p:sp>
      <p:pic>
        <p:nvPicPr>
          <p:cNvPr id="625" name="Picture 6" descr="logo TEEB transparent print"/>
          <p:cNvPicPr/>
          <p:nvPr/>
        </p:nvPicPr>
        <p:blipFill>
          <a:blip r:embed="rId1"/>
          <a:stretch/>
        </p:blipFill>
        <p:spPr>
          <a:xfrm>
            <a:off x="2700360" y="476280"/>
            <a:ext cx="4037040" cy="432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68360" y="90756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Ministries</a:t>
            </a:r>
            <a:br>
              <a:rPr sz="3200"/>
            </a:br>
            <a:r>
              <a:rPr b="1" lang="en-US" sz="1800" spc="-1" strike="noStrike">
                <a:solidFill>
                  <a:srgbClr val="323366"/>
                </a:solidFill>
                <a:latin typeface="Arial"/>
              </a:rPr>
              <a:t>continued…</a:t>
            </a:r>
            <a:endParaRPr b="0" lang="en-US" sz="1800" spc="-1" strike="noStrike">
              <a:solidFill>
                <a:srgbClr val="000532"/>
              </a:solidFill>
              <a:latin typeface="Arial"/>
            </a:endParaRPr>
          </a:p>
        </p:txBody>
      </p:sp>
      <p:sp>
        <p:nvSpPr>
          <p:cNvPr id="656" name="PlaceHolder 2"/>
          <p:cNvSpPr>
            <a:spLocks noGrp="1"/>
          </p:cNvSpPr>
          <p:nvPr>
            <p:ph/>
          </p:nvPr>
        </p:nvSpPr>
        <p:spPr>
          <a:xfrm>
            <a:off x="0" y="1699920"/>
            <a:ext cx="9144000" cy="4608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epending on their sector, each group would have many diverse interests that would be related to ecosystem services such as:</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od  and fresh water provision which links in with policies on food security/sovereignty, water scarcity (</a:t>
            </a:r>
            <a:r>
              <a:rPr b="1" lang="en-GB" sz="2000" spc="-1" strike="noStrike">
                <a:solidFill>
                  <a:srgbClr val="000000"/>
                </a:solidFill>
                <a:latin typeface="Times New Roman"/>
              </a:rPr>
              <a:t>Ministries of Environment and Agriculture</a:t>
            </a:r>
            <a:r>
              <a:rPr b="0" lang="en-GB" sz="2000" spc="-1" strike="noStrike">
                <a:solidFill>
                  <a:srgbClr val="000000"/>
                </a:solidFill>
                <a:latin typeface="Times New Roman"/>
              </a:rPr>
              <a:t>)</a:t>
            </a:r>
            <a:endParaRPr b="0" lang="en-US" sz="20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ration of extreme events, (</a:t>
            </a:r>
            <a:r>
              <a:rPr b="1" lang="en-GB" sz="2000" spc="-1" strike="noStrike">
                <a:solidFill>
                  <a:srgbClr val="000000"/>
                </a:solidFill>
                <a:latin typeface="Times New Roman"/>
              </a:rPr>
              <a:t>Ministries of Environment, Energy and Health</a:t>
            </a:r>
            <a:r>
              <a:rPr b="0" lang="en-GB" sz="2000" spc="-1" strike="noStrike">
                <a:solidFill>
                  <a:srgbClr val="000000"/>
                </a:solidFill>
                <a:latin typeface="Times New Roman"/>
              </a:rPr>
              <a:t>)</a:t>
            </a:r>
            <a:endParaRPr b="0" lang="en-US" sz="20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ltural services and biodiversity conservation (</a:t>
            </a:r>
            <a:r>
              <a:rPr b="1" lang="en-GB" sz="2000" spc="-1" strike="noStrike">
                <a:solidFill>
                  <a:srgbClr val="000000"/>
                </a:solidFill>
                <a:latin typeface="Times New Roman"/>
              </a:rPr>
              <a:t>Ministries of Environment and Tourism</a:t>
            </a:r>
            <a:r>
              <a:rPr b="0" lang="en-GB" sz="2000" spc="-1" strike="noStrike">
                <a:solidFill>
                  <a:srgbClr val="000000"/>
                </a:solidFill>
                <a:latin typeface="Times New Roman"/>
              </a:rPr>
              <a:t>)</a:t>
            </a:r>
            <a:endParaRPr b="0" lang="en-US" sz="20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conomic returns and trade opportunities (</a:t>
            </a:r>
            <a:r>
              <a:rPr b="1" lang="en-GB" sz="2000" spc="-1" strike="noStrike">
                <a:solidFill>
                  <a:srgbClr val="000000"/>
                </a:solidFill>
                <a:latin typeface="Times New Roman"/>
              </a:rPr>
              <a:t>Ministries of Commerce and Finance</a:t>
            </a:r>
            <a:r>
              <a:rPr b="0" lang="en-GB" sz="2000" spc="-1" strike="noStrike">
                <a:solidFill>
                  <a:srgbClr val="000000"/>
                </a:solidFill>
                <a:latin typeface="Times New Roman"/>
              </a:rPr>
              <a:t>)</a:t>
            </a:r>
            <a:endParaRPr b="0" lang="en-US" sz="2000" spc="-1" strike="noStrike">
              <a:solidFill>
                <a:srgbClr val="000532"/>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The Business Sector</a:t>
            </a:r>
            <a:endParaRPr b="0" lang="en-US" sz="3200" spc="-1" strike="noStrike">
              <a:solidFill>
                <a:srgbClr val="000532"/>
              </a:solidFill>
              <a:latin typeface="Arial"/>
            </a:endParaRPr>
          </a:p>
        </p:txBody>
      </p:sp>
      <p:sp>
        <p:nvSpPr>
          <p:cNvPr id="658" name="PlaceHolder 2"/>
          <p:cNvSpPr>
            <a:spLocks noGrp="1"/>
          </p:cNvSpPr>
          <p:nvPr>
            <p:ph/>
          </p:nvPr>
        </p:nvSpPr>
        <p:spPr>
          <a:xfrm>
            <a:off x="0" y="1699920"/>
            <a:ext cx="5580000" cy="51577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mportant group that would need to be considered for stakeholder engagement purposes on ecosystem services management plans</a:t>
            </a:r>
            <a:endParaRPr b="0" lang="en-US" sz="24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licymakers need to ensure that businesses are dependent upon ecosystem services for their product delivery</a:t>
            </a:r>
            <a:endParaRPr b="0" lang="en-US" sz="24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TEEB implementers can harness the power of business </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ognizing their potential in being part of the solution rather than part of the problem</a:t>
            </a:r>
            <a:endParaRPr b="0" lang="en-US" sz="2400" spc="-1" strike="noStrike">
              <a:solidFill>
                <a:srgbClr val="000532"/>
              </a:solidFill>
              <a:latin typeface="Times New Roman"/>
            </a:endParaRPr>
          </a:p>
        </p:txBody>
      </p:sp>
      <p:pic>
        <p:nvPicPr>
          <p:cNvPr id="659" name="Picture 8" descr=""/>
          <p:cNvPicPr/>
          <p:nvPr/>
        </p:nvPicPr>
        <p:blipFill>
          <a:blip r:embed="rId1"/>
          <a:stretch/>
        </p:blipFill>
        <p:spPr>
          <a:xfrm>
            <a:off x="5435640" y="1916280"/>
            <a:ext cx="3430440" cy="3673440"/>
          </a:xfrm>
          <a:prstGeom prst="rect">
            <a:avLst/>
          </a:prstGeom>
          <a:ln w="0">
            <a:noFill/>
          </a:ln>
        </p:spPr>
      </p:pic>
      <p:sp>
        <p:nvSpPr>
          <p:cNvPr id="660" name="Rectangle 9"/>
          <p:cNvSpPr/>
          <p:nvPr/>
        </p:nvSpPr>
        <p:spPr>
          <a:xfrm>
            <a:off x="5492880" y="5516640"/>
            <a:ext cx="10220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www.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rioritizing stakeholders and issues</a:t>
            </a:r>
            <a:r>
              <a:rPr b="1" lang="en-US" sz="3200" spc="-1" strike="noStrike">
                <a:solidFill>
                  <a:srgbClr val="333399"/>
                </a:solidFill>
                <a:latin typeface="Arial"/>
              </a:rPr>
              <a:t> </a:t>
            </a:r>
            <a:br>
              <a:rPr sz="3200"/>
            </a:br>
            <a:endParaRPr b="0" lang="en-US" sz="3200" spc="-1" strike="noStrike">
              <a:solidFill>
                <a:srgbClr val="000532"/>
              </a:solidFill>
              <a:latin typeface="Arial"/>
            </a:endParaRPr>
          </a:p>
        </p:txBody>
      </p:sp>
      <p:sp>
        <p:nvSpPr>
          <p:cNvPr id="662" name="PlaceHolder 2"/>
          <p:cNvSpPr>
            <a:spLocks noGrp="1"/>
          </p:cNvSpPr>
          <p:nvPr>
            <p:ph/>
          </p:nvPr>
        </p:nvSpPr>
        <p:spPr>
          <a:xfrm>
            <a:off x="250560" y="1915920"/>
            <a:ext cx="8675640" cy="45370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aging with all stakeholders or on all issues is neither possible nor desirable</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EB study implementers need to prioritise stakeholders issues to ensure that time, resources, and expectations are well managed.</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an be done by identifying those stakeholders that are likely to have the greatest impact on the TEEB study</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enables TEEB national implementers to prioritize the attention and action to ensure successful execution of the project.</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240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a:t>
            </a:r>
            <a:r>
              <a:rPr b="1" lang="en-US" sz="3200" spc="-1" strike="noStrike">
                <a:solidFill>
                  <a:srgbClr val="323366"/>
                </a:solidFill>
                <a:latin typeface="Arial"/>
                <a:ea typeface="SimSun"/>
              </a:rPr>
              <a:t>Prioritizing stakeholders and issues” </a:t>
            </a:r>
            <a:r>
              <a:rPr b="1" lang="en-US" sz="3200" spc="-1" strike="noStrike" u="sng">
                <a:solidFill>
                  <a:srgbClr val="323366"/>
                </a:solidFill>
                <a:uFillTx/>
                <a:latin typeface="Arial"/>
                <a:ea typeface="SimSun"/>
              </a:rPr>
              <a:t>Group exercise</a:t>
            </a:r>
            <a:r>
              <a:rPr b="1" lang="en-US" sz="3200" spc="-1" strike="noStrike">
                <a:solidFill>
                  <a:srgbClr val="323366"/>
                </a:solidFill>
                <a:latin typeface="Arial"/>
                <a:ea typeface="SimSun"/>
              </a:rPr>
              <a:t> with the Power Grid</a:t>
            </a:r>
            <a:endParaRPr b="0" lang="en-US" sz="3200" spc="-1" strike="noStrike">
              <a:solidFill>
                <a:srgbClr val="000532"/>
              </a:solidFill>
              <a:latin typeface="Arial"/>
            </a:endParaRPr>
          </a:p>
        </p:txBody>
      </p:sp>
      <p:pic>
        <p:nvPicPr>
          <p:cNvPr id="664" name="il_fi" descr="stakeholder-map"/>
          <p:cNvPicPr/>
          <p:nvPr/>
        </p:nvPicPr>
        <p:blipFill>
          <a:blip r:embed="rId1"/>
          <a:stretch/>
        </p:blipFill>
        <p:spPr>
          <a:xfrm>
            <a:off x="2700360" y="2205000"/>
            <a:ext cx="4148280" cy="4008600"/>
          </a:xfrm>
          <a:prstGeom prst="rect">
            <a:avLst/>
          </a:prstGeom>
          <a:ln w="0">
            <a:noFill/>
          </a:ln>
        </p:spPr>
      </p:pic>
      <p:pic>
        <p:nvPicPr>
          <p:cNvPr id="665" name="Picture 6" descr=""/>
          <p:cNvPicPr/>
          <p:nvPr/>
        </p:nvPicPr>
        <p:blipFill>
          <a:blip r:embed="rId2"/>
          <a:stretch/>
        </p:blipFill>
        <p:spPr>
          <a:xfrm>
            <a:off x="8172360" y="981000"/>
            <a:ext cx="752400" cy="865440"/>
          </a:xfrm>
          <a:prstGeom prst="rect">
            <a:avLst/>
          </a:prstGeom>
          <a:ln w="0">
            <a:noFill/>
          </a:ln>
        </p:spPr>
      </p:pic>
      <p:sp>
        <p:nvSpPr>
          <p:cNvPr id="666" name="Rectangle 8"/>
          <p:cNvSpPr/>
          <p:nvPr/>
        </p:nvSpPr>
        <p:spPr>
          <a:xfrm>
            <a:off x="8556480" y="177480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7" name="Text Box 9"/>
          <p:cNvSpPr/>
          <p:nvPr/>
        </p:nvSpPr>
        <p:spPr>
          <a:xfrm>
            <a:off x="8994240" y="404640"/>
            <a:ext cx="302040" cy="1727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www.123rf.com</a:t>
            </a:r>
            <a:endParaRPr b="0" lang="en-US" sz="800" spc="-1" strike="noStrike">
              <a:solidFill>
                <a:srgbClr val="ffffff"/>
              </a:solidFill>
              <a:latin typeface="Times New Roman"/>
            </a:endParaRPr>
          </a:p>
        </p:txBody>
      </p:sp>
      <p:sp>
        <p:nvSpPr>
          <p:cNvPr id="668" name="Rectangle 10"/>
          <p:cNvSpPr/>
          <p:nvPr/>
        </p:nvSpPr>
        <p:spPr>
          <a:xfrm>
            <a:off x="2843280" y="6021360"/>
            <a:ext cx="2016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expertprogramme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Stakeholder analysis and mapping; An introduction</a:t>
            </a:r>
            <a:r>
              <a:rPr b="0" lang="en-US" sz="4000" spc="-1" strike="noStrike">
                <a:solidFill>
                  <a:srgbClr val="000532"/>
                </a:solidFill>
                <a:latin typeface="Arial"/>
                <a:ea typeface="SimSun"/>
              </a:rPr>
              <a:t> </a:t>
            </a:r>
            <a:endParaRPr b="0" lang="en-US" sz="4000" spc="-1" strike="noStrike">
              <a:solidFill>
                <a:srgbClr val="000532"/>
              </a:solidFill>
              <a:latin typeface="Arial"/>
            </a:endParaRPr>
          </a:p>
        </p:txBody>
      </p:sp>
      <p:sp>
        <p:nvSpPr>
          <p:cNvPr id="627"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23366"/>
                </a:solidFill>
                <a:latin typeface="Times New Roman"/>
              </a:rPr>
              <a:t>What is stakeholder analysis and mapping? </a:t>
            </a:r>
            <a:endParaRPr b="0" lang="en-US" sz="2400" spc="-1" strike="noStrike">
              <a:solidFill>
                <a:srgbClr val="000532"/>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ing able to determine who your project stakeholders are and, from this, taking a more in-depth look at their interests and how these may be affected. </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ecosystem valuation, being able to identify your relevant stakeholders is critical </a:t>
            </a:r>
            <a:r>
              <a:rPr b="0" i="1" lang="en-GB" sz="2400" spc="-1" strike="noStrike">
                <a:solidFill>
                  <a:srgbClr val="000000"/>
                </a:solidFill>
                <a:latin typeface="Times New Roman"/>
              </a:rPr>
              <a:t>at all stages</a:t>
            </a:r>
            <a:r>
              <a:rPr b="0" lang="en-GB" sz="2400" spc="-1" strike="noStrike">
                <a:solidFill>
                  <a:srgbClr val="000000"/>
                </a:solidFill>
                <a:latin typeface="Times New Roman"/>
              </a:rPr>
              <a:t> of the valuation proces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Why do we need to ‘map’ and ‘analyse’ stakeholders?</a:t>
            </a:r>
            <a:br>
              <a:rPr sz="3200"/>
            </a:br>
            <a:endParaRPr b="0" lang="en-US" sz="3200" spc="-1" strike="noStrike">
              <a:solidFill>
                <a:srgbClr val="000532"/>
              </a:solidFill>
              <a:latin typeface="Arial"/>
            </a:endParaRPr>
          </a:p>
        </p:txBody>
      </p:sp>
      <p:sp>
        <p:nvSpPr>
          <p:cNvPr id="629" name="PlaceHolder 2"/>
          <p:cNvSpPr>
            <a:spLocks noGrp="1"/>
          </p:cNvSpPr>
          <p:nvPr>
            <p:ph/>
          </p:nvPr>
        </p:nvSpPr>
        <p:spPr>
          <a:xfrm>
            <a:off x="539640" y="1916280"/>
            <a:ext cx="8136000" cy="44654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Evaluates</a:t>
            </a:r>
            <a:r>
              <a:rPr b="0" lang="en-GB" sz="2000" spc="-1" strike="noStrike">
                <a:solidFill>
                  <a:srgbClr val="000000"/>
                </a:solidFill>
                <a:latin typeface="Times New Roman"/>
              </a:rPr>
              <a:t> who wins and who loses from alternative management option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Identifies</a:t>
            </a:r>
            <a:r>
              <a:rPr b="1" lang="en-GB" sz="2000" spc="-1" strike="noStrike">
                <a:solidFill>
                  <a:srgbClr val="000000"/>
                </a:solidFill>
                <a:latin typeface="Times New Roman"/>
              </a:rPr>
              <a:t> </a:t>
            </a:r>
            <a:r>
              <a:rPr b="0" lang="en-GB" sz="2000" spc="-1" strike="noStrike">
                <a:solidFill>
                  <a:srgbClr val="000000"/>
                </a:solidFill>
                <a:latin typeface="Times New Roman"/>
              </a:rPr>
              <a:t>which stakeholders will be able to influence the issues (both positively and negatively)</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Determines</a:t>
            </a:r>
            <a:r>
              <a:rPr b="0" lang="en-GB" sz="2000" spc="-1" strike="noStrike">
                <a:solidFill>
                  <a:srgbClr val="000000"/>
                </a:solidFill>
                <a:latin typeface="Times New Roman"/>
              </a:rPr>
              <a:t> who should be involved and identify who will need their capacity built in order to be able to participate meaningfully</a:t>
            </a:r>
            <a:endParaRPr b="0" lang="en-US" sz="2000" spc="-1" strike="noStrike">
              <a:solidFill>
                <a:srgbClr val="000532"/>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Takes into account</a:t>
            </a:r>
            <a:r>
              <a:rPr b="0" lang="en-GB" sz="2000" spc="-1" strike="noStrike">
                <a:solidFill>
                  <a:srgbClr val="000000"/>
                </a:solidFill>
                <a:latin typeface="Times New Roman"/>
              </a:rPr>
              <a:t> stakeholder priorities in relation to the issue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Detects</a:t>
            </a:r>
            <a:r>
              <a:rPr b="1" lang="en-GB" sz="2000" spc="-1" strike="noStrike">
                <a:solidFill>
                  <a:srgbClr val="000000"/>
                </a:solidFill>
                <a:latin typeface="Times New Roman"/>
              </a:rPr>
              <a:t> </a:t>
            </a:r>
            <a:r>
              <a:rPr b="0" lang="en-GB" sz="2000" spc="-1" strike="noStrike">
                <a:solidFill>
                  <a:srgbClr val="000000"/>
                </a:solidFill>
                <a:latin typeface="Times New Roman"/>
              </a:rPr>
              <a:t>possible risks and conflicts of interest between different stakeholder groups and to help find resolution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Indicates</a:t>
            </a:r>
            <a:r>
              <a:rPr b="0" lang="en-GB" sz="2000" spc="-1" strike="noStrike">
                <a:solidFill>
                  <a:srgbClr val="000000"/>
                </a:solidFill>
                <a:latin typeface="Times New Roman"/>
              </a:rPr>
              <a:t> the main relevant ecosystem services via assessing stakeholder interests</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Assessing the Landscape</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31" name="PlaceHolder 2"/>
          <p:cNvSpPr>
            <a:spLocks noGrp="1"/>
          </p:cNvSpPr>
          <p:nvPr>
            <p:ph/>
          </p:nvPr>
        </p:nvSpPr>
        <p:spPr>
          <a:xfrm>
            <a:off x="468000" y="1844640"/>
            <a:ext cx="4824360" cy="5329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23366"/>
                </a:solidFill>
                <a:latin typeface="Times New Roman"/>
              </a:rPr>
              <a:t>Who are the potential stakeholders  linked to TEEB studie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rsons, organizations or groups with an interest in the way a particular ecosystem is used, valued or managed.</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stakeholder groups that may be involved/affected by a TEEB study include:</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GOs </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communities and indigenous group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sines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government institutions and ministries</a:t>
            </a:r>
            <a:endParaRPr b="0" lang="en-US" sz="2000" spc="-1" strike="noStrike">
              <a:solidFill>
                <a:srgbClr val="000532"/>
              </a:solidFill>
              <a:latin typeface="Times New Roman"/>
            </a:endParaRPr>
          </a:p>
        </p:txBody>
      </p:sp>
      <p:pic>
        <p:nvPicPr>
          <p:cNvPr id="632" name="Picture 4" descr="DSCN5078"/>
          <p:cNvPicPr/>
          <p:nvPr/>
        </p:nvPicPr>
        <p:blipFill>
          <a:blip r:embed="rId1"/>
          <a:stretch/>
        </p:blipFill>
        <p:spPr>
          <a:xfrm>
            <a:off x="5867280" y="2781360"/>
            <a:ext cx="2951280" cy="2890800"/>
          </a:xfrm>
          <a:prstGeom prst="rect">
            <a:avLst/>
          </a:prstGeom>
          <a:ln w="0">
            <a:noFill/>
          </a:ln>
        </p:spPr>
      </p:pic>
      <p:sp>
        <p:nvSpPr>
          <p:cNvPr id="633" name="Rectangle 6"/>
          <p:cNvSpPr/>
          <p:nvPr/>
        </p:nvSpPr>
        <p:spPr>
          <a:xfrm>
            <a:off x="5865480" y="5661000"/>
            <a:ext cx="1524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ea typeface="Arial"/>
              </a:rPr>
              <a:t>©CBD/TEEB Workshop Chile</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What are their potential interests? </a:t>
            </a:r>
            <a:br>
              <a:rPr sz="3200"/>
            </a:br>
            <a:r>
              <a:rPr b="1" lang="en-GB" sz="3200" spc="-1" strike="noStrike">
                <a:solidFill>
                  <a:srgbClr val="323366"/>
                </a:solidFill>
                <a:latin typeface="Arial"/>
              </a:rPr>
              <a:t>An Overview</a:t>
            </a:r>
            <a:br>
              <a:rPr sz="2800"/>
            </a:br>
            <a:endParaRPr b="0" lang="en-US" sz="3200" spc="-1" strike="noStrike">
              <a:solidFill>
                <a:srgbClr val="000532"/>
              </a:solidFill>
              <a:latin typeface="Arial"/>
            </a:endParaRPr>
          </a:p>
        </p:txBody>
      </p:sp>
      <p:sp>
        <p:nvSpPr>
          <p:cNvPr id="635" name="PlaceHolder 2"/>
          <p:cNvSpPr>
            <a:spLocks noGrp="1"/>
          </p:cNvSpPr>
          <p:nvPr>
            <p:ph/>
          </p:nvPr>
        </p:nvSpPr>
        <p:spPr>
          <a:xfrm>
            <a:off x="179280" y="1915920"/>
            <a:ext cx="8964720" cy="41050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which stakeholder group and which ecosystem category, stakeholder interests may range from:</a:t>
            </a:r>
            <a:endParaRPr b="0" lang="en-US" sz="28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verty alleviation for local communities</a:t>
            </a:r>
            <a:endParaRPr b="0" lang="en-US" sz="24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ection of sacred sites for indigenous groups</a:t>
            </a:r>
            <a:endParaRPr b="0" lang="en-US" sz="24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e conservation/preservation for local, national and international NGOS</a:t>
            </a:r>
            <a:endParaRPr b="0" lang="en-US" sz="24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inal plants for pharmaceutical companies</a:t>
            </a:r>
            <a:endParaRPr b="0" lang="en-US" sz="24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ean water supply for local resident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Local communities and indigenous groups</a:t>
            </a:r>
            <a:br>
              <a:rPr sz="2800"/>
            </a:br>
            <a:endParaRPr b="0" lang="en-US" sz="2800" spc="-1" strike="noStrike">
              <a:solidFill>
                <a:srgbClr val="000532"/>
              </a:solidFill>
              <a:latin typeface="Arial"/>
            </a:endParaRPr>
          </a:p>
        </p:txBody>
      </p:sp>
      <p:sp>
        <p:nvSpPr>
          <p:cNvPr id="637" name="PlaceHolder 2"/>
          <p:cNvSpPr>
            <a:spLocks noGrp="1"/>
          </p:cNvSpPr>
          <p:nvPr>
            <p:ph/>
          </p:nvPr>
        </p:nvSpPr>
        <p:spPr>
          <a:xfrm>
            <a:off x="0" y="2060640"/>
            <a:ext cx="5364000" cy="54007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cal communities and indigenous groups</a:t>
            </a:r>
            <a:r>
              <a:rPr b="0" lang="en-GB" sz="2000" spc="-1" strike="noStrike">
                <a:solidFill>
                  <a:srgbClr val="000000"/>
                </a:solidFill>
                <a:latin typeface="Times New Roman"/>
              </a:rPr>
              <a:t> are important to consider when thinking about undertaking a TEEB study as this group may be:</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fected due to their </a:t>
            </a:r>
            <a:r>
              <a:rPr b="1" i="1" lang="en-GB" sz="2000" spc="-1" strike="noStrike" u="sng">
                <a:solidFill>
                  <a:srgbClr val="000000"/>
                </a:solidFill>
                <a:uFillTx/>
                <a:latin typeface="Times New Roman"/>
              </a:rPr>
              <a:t>direct dependence</a:t>
            </a:r>
            <a:r>
              <a:rPr b="0" lang="en-GB" sz="2000" spc="-1" strike="noStrike">
                <a:solidFill>
                  <a:srgbClr val="000000"/>
                </a:solidFill>
                <a:latin typeface="Times New Roman"/>
              </a:rPr>
              <a:t> on natural resources</a:t>
            </a:r>
            <a:endParaRPr b="0" lang="en-US" sz="2000" spc="-1" strike="noStrike">
              <a:solidFill>
                <a:srgbClr val="000532"/>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ificant source of data/traditional knowledge which can help to frame the study</a:t>
            </a:r>
            <a:endParaRPr b="0" lang="en-US" sz="2000" spc="-1" strike="noStrike">
              <a:solidFill>
                <a:srgbClr val="000532"/>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essential therefore that their interests are clearly understood for TEEB national study planning</a:t>
            </a:r>
            <a:endParaRPr b="0" lang="en-US" sz="2000" spc="-1" strike="noStrike">
              <a:solidFill>
                <a:srgbClr val="000532"/>
              </a:solidFill>
              <a:latin typeface="Times New Roman"/>
            </a:endParaRPr>
          </a:p>
        </p:txBody>
      </p:sp>
      <p:pic>
        <p:nvPicPr>
          <p:cNvPr id="638" name="Picture 7" descr=""/>
          <p:cNvPicPr/>
          <p:nvPr/>
        </p:nvPicPr>
        <p:blipFill>
          <a:blip r:embed="rId1"/>
          <a:stretch/>
        </p:blipFill>
        <p:spPr>
          <a:xfrm>
            <a:off x="5508720" y="2060640"/>
            <a:ext cx="3456000" cy="3672000"/>
          </a:xfrm>
          <a:prstGeom prst="rect">
            <a:avLst/>
          </a:prstGeom>
          <a:ln w="0">
            <a:noFill/>
          </a:ln>
        </p:spPr>
      </p:pic>
      <p:sp>
        <p:nvSpPr>
          <p:cNvPr id="639" name="Rectangle 8"/>
          <p:cNvSpPr/>
          <p:nvPr/>
        </p:nvSpPr>
        <p:spPr>
          <a:xfrm>
            <a:off x="5409360" y="5661000"/>
            <a:ext cx="1232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UNEP/GRID-Arend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Local communities and indigenous groups</a:t>
            </a:r>
            <a:br>
              <a:rPr sz="2800"/>
            </a:br>
            <a:r>
              <a:rPr b="1" lang="en-GB" sz="1600" spc="-1" strike="noStrike">
                <a:solidFill>
                  <a:srgbClr val="323366"/>
                </a:solidFill>
                <a:latin typeface="Arial"/>
              </a:rPr>
              <a:t>continued….</a:t>
            </a:r>
            <a:endParaRPr b="0" lang="en-US" sz="1600" spc="-1" strike="noStrike">
              <a:solidFill>
                <a:srgbClr val="000532"/>
              </a:solidFill>
              <a:latin typeface="Arial"/>
            </a:endParaRPr>
          </a:p>
        </p:txBody>
      </p:sp>
      <p:sp>
        <p:nvSpPr>
          <p:cNvPr id="641" name="PlaceHolder 2"/>
          <p:cNvSpPr>
            <a:spLocks noGrp="1"/>
          </p:cNvSpPr>
          <p:nvPr>
            <p:ph/>
          </p:nvPr>
        </p:nvSpPr>
        <p:spPr>
          <a:xfrm>
            <a:off x="250920" y="2205000"/>
            <a:ext cx="5184720" cy="4176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 stakeholder interests would be related to those ecosystem services that affect their livelihoods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s provided by regulating services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ltural services such as places of rituals and sacred sites would also be of high interest particularly for indigenous groups</a:t>
            </a:r>
            <a:endParaRPr b="0" lang="en-US" sz="2400" spc="-1" strike="noStrike">
              <a:solidFill>
                <a:srgbClr val="000532"/>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pic>
        <p:nvPicPr>
          <p:cNvPr id="642" name="Picture 7" descr=""/>
          <p:cNvPicPr/>
          <p:nvPr/>
        </p:nvPicPr>
        <p:blipFill>
          <a:blip r:embed="rId1"/>
          <a:stretch/>
        </p:blipFill>
        <p:spPr>
          <a:xfrm>
            <a:off x="5626080" y="2205000"/>
            <a:ext cx="3517920" cy="3816360"/>
          </a:xfrm>
          <a:prstGeom prst="rect">
            <a:avLst/>
          </a:prstGeom>
          <a:ln w="0">
            <a:noFill/>
          </a:ln>
        </p:spPr>
      </p:pic>
      <p:sp>
        <p:nvSpPr>
          <p:cNvPr id="643" name="Rectangle 8"/>
          <p:cNvSpPr/>
          <p:nvPr/>
        </p:nvSpPr>
        <p:spPr>
          <a:xfrm>
            <a:off x="5493240" y="5877000"/>
            <a:ext cx="137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a:t>
            </a:r>
            <a:r>
              <a:rPr b="0" lang="en-GB" sz="800" spc="-1" strike="noStrike">
                <a:solidFill>
                  <a:srgbClr val="000000"/>
                </a:solidFill>
                <a:latin typeface="Tahoma"/>
                <a:ea typeface="Arial"/>
              </a:rPr>
              <a:t>TEEB Manual for cities</a:t>
            </a:r>
            <a:r>
              <a:rPr b="0" lang="en-GB" sz="1600" spc="-1" strike="noStrike">
                <a:solidFill>
                  <a:srgbClr val="ffffff"/>
                </a:solidFill>
                <a:latin typeface="Tahoma"/>
                <a:ea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NGOs and civil society</a:t>
            </a:r>
            <a:endParaRPr b="0" lang="en-US" sz="3600" spc="-1" strike="noStrike">
              <a:solidFill>
                <a:srgbClr val="000532"/>
              </a:solidFill>
              <a:latin typeface="Arial"/>
            </a:endParaRPr>
          </a:p>
        </p:txBody>
      </p:sp>
      <p:sp>
        <p:nvSpPr>
          <p:cNvPr id="645" name="PlaceHolder 2"/>
          <p:cNvSpPr>
            <a:spLocks noGrp="1"/>
          </p:cNvSpPr>
          <p:nvPr>
            <p:ph/>
          </p:nvPr>
        </p:nvSpPr>
        <p:spPr>
          <a:xfrm>
            <a:off x="323640" y="1628640"/>
            <a:ext cx="4895640" cy="4105440"/>
          </a:xfrm>
          <a:prstGeom prst="rect">
            <a:avLst/>
          </a:prstGeom>
          <a:noFill/>
          <a:ln w="0">
            <a:noFill/>
          </a:ln>
        </p:spPr>
        <p:txBody>
          <a:bodyPr anchor="t">
            <a:normAutofit fontScale="88000"/>
          </a:bodyPr>
          <a:p>
            <a:pPr marL="301680" indent="-3016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stakeholder group vital to have on board in TEEB national study planning processes</a:t>
            </a:r>
            <a:endParaRPr b="0" lang="en-US" sz="2200" spc="-1" strike="noStrike">
              <a:solidFill>
                <a:srgbClr val="000532"/>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01680" indent="-3016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ith their interest in mind encourages continued involvement for TEEB national implementers to capitalise on this groups abilities to build strong community relations </a:t>
            </a:r>
            <a:endParaRPr b="0" lang="en-US" sz="2200" spc="-1" strike="noStrike">
              <a:solidFill>
                <a:srgbClr val="000532"/>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01680" indent="-3016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is group’s key interests would be specifically related to ecosystem services directly related to:</a:t>
            </a:r>
            <a:endParaRPr b="0" lang="en-US" sz="2200" spc="-1" strike="noStrike">
              <a:solidFill>
                <a:srgbClr val="000532"/>
              </a:solidFill>
              <a:latin typeface="Times New Roman"/>
            </a:endParaRPr>
          </a:p>
          <a:p>
            <a:pPr marL="301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lvl="1" marL="653760" indent="-251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ature conservation </a:t>
            </a:r>
            <a:endParaRPr b="0" lang="en-US" sz="2000" spc="-1" strike="noStrike">
              <a:solidFill>
                <a:srgbClr val="000532"/>
              </a:solidFill>
              <a:latin typeface="Times New Roman"/>
            </a:endParaRPr>
          </a:p>
          <a:p>
            <a:pPr lvl="1" marL="653760" indent="-251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od provision, fresh water, medicinal resources</a:t>
            </a:r>
            <a:endParaRPr b="0" lang="en-US" sz="2000" spc="-1" strike="noStrike">
              <a:solidFill>
                <a:srgbClr val="000532"/>
              </a:solidFill>
              <a:latin typeface="Times New Roman"/>
            </a:endParaRPr>
          </a:p>
        </p:txBody>
      </p:sp>
      <p:pic>
        <p:nvPicPr>
          <p:cNvPr id="646" name="Picture 5" descr=""/>
          <p:cNvPicPr/>
          <p:nvPr/>
        </p:nvPicPr>
        <p:blipFill>
          <a:blip r:embed="rId1"/>
          <a:stretch/>
        </p:blipFill>
        <p:spPr>
          <a:xfrm>
            <a:off x="5940360" y="3645000"/>
            <a:ext cx="1301760" cy="1239840"/>
          </a:xfrm>
          <a:prstGeom prst="rect">
            <a:avLst/>
          </a:prstGeom>
          <a:ln w="0">
            <a:noFill/>
          </a:ln>
        </p:spPr>
      </p:pic>
      <p:pic>
        <p:nvPicPr>
          <p:cNvPr id="647" name="Picture 6" descr=""/>
          <p:cNvPicPr/>
          <p:nvPr/>
        </p:nvPicPr>
        <p:blipFill>
          <a:blip r:embed="rId2"/>
          <a:stretch/>
        </p:blipFill>
        <p:spPr>
          <a:xfrm>
            <a:off x="5724360" y="2133720"/>
            <a:ext cx="1743120" cy="1395360"/>
          </a:xfrm>
          <a:prstGeom prst="rect">
            <a:avLst/>
          </a:prstGeom>
          <a:ln w="0">
            <a:noFill/>
          </a:ln>
        </p:spPr>
      </p:pic>
      <p:pic>
        <p:nvPicPr>
          <p:cNvPr id="648" name="Picture 8" descr=""/>
          <p:cNvPicPr/>
          <p:nvPr/>
        </p:nvPicPr>
        <p:blipFill>
          <a:blip r:embed="rId3"/>
          <a:stretch/>
        </p:blipFill>
        <p:spPr>
          <a:xfrm>
            <a:off x="7380360" y="2205000"/>
            <a:ext cx="1584360" cy="1225440"/>
          </a:xfrm>
          <a:prstGeom prst="rect">
            <a:avLst/>
          </a:prstGeom>
          <a:ln w="0">
            <a:noFill/>
          </a:ln>
        </p:spPr>
      </p:pic>
      <p:sp>
        <p:nvSpPr>
          <p:cNvPr id="649" name="AutoShape 12"/>
          <p:cNvSpPr/>
          <p:nvPr/>
        </p:nvSpPr>
        <p:spPr>
          <a:xfrm>
            <a:off x="5651640" y="1773360"/>
            <a:ext cx="3492360" cy="3600360"/>
          </a:xfrm>
          <a:prstGeom prst="flowChartOr">
            <a:avLst/>
          </a:prstGeom>
          <a:noFill/>
          <a:ln w="25560">
            <a:solidFill>
              <a:srgbClr val="89a4a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0" name="Picture 13" descr=""/>
          <p:cNvPicPr/>
          <p:nvPr/>
        </p:nvPicPr>
        <p:blipFill>
          <a:blip r:embed="rId4"/>
          <a:stretch/>
        </p:blipFill>
        <p:spPr>
          <a:xfrm>
            <a:off x="7451640" y="3716280"/>
            <a:ext cx="1308240" cy="9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68360" y="9079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Ministries</a:t>
            </a:r>
            <a:r>
              <a:rPr b="1" lang="en-US" sz="3200" spc="-1" strike="noStrike">
                <a:solidFill>
                  <a:srgbClr val="333399"/>
                </a:solidFill>
                <a:latin typeface="Arial"/>
              </a:rPr>
              <a:t> </a:t>
            </a:r>
            <a:endParaRPr b="0" lang="en-US" sz="3200" spc="-1" strike="noStrike">
              <a:solidFill>
                <a:srgbClr val="000532"/>
              </a:solidFill>
              <a:latin typeface="Arial"/>
            </a:endParaRPr>
          </a:p>
        </p:txBody>
      </p:sp>
      <p:sp>
        <p:nvSpPr>
          <p:cNvPr id="652" name="PlaceHolder 2"/>
          <p:cNvSpPr>
            <a:spLocks noGrp="1"/>
          </p:cNvSpPr>
          <p:nvPr>
            <p:ph/>
          </p:nvPr>
        </p:nvSpPr>
        <p:spPr>
          <a:xfrm>
            <a:off x="179280" y="1844280"/>
            <a:ext cx="4392720" cy="4032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EEB national study may involve more than just the Ministry of Environment</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terests of each Ministry is an absolute necessity if a TEEB study is to be successful to promote improved policy integration and decision making</a:t>
            </a:r>
            <a:endParaRPr b="0" lang="en-US" sz="2400" spc="-1" strike="noStrike">
              <a:solidFill>
                <a:srgbClr val="000532"/>
              </a:solidFill>
              <a:latin typeface="Times New Roman"/>
            </a:endParaRPr>
          </a:p>
        </p:txBody>
      </p:sp>
      <p:pic>
        <p:nvPicPr>
          <p:cNvPr id="653" name="Picture 1588" descr="IMG_7598-lb"/>
          <p:cNvPicPr/>
          <p:nvPr/>
        </p:nvPicPr>
        <p:blipFill>
          <a:blip r:embed="rId1"/>
          <a:stretch/>
        </p:blipFill>
        <p:spPr>
          <a:xfrm>
            <a:off x="4500720" y="1989000"/>
            <a:ext cx="4174920" cy="3313080"/>
          </a:xfrm>
          <a:prstGeom prst="rect">
            <a:avLst/>
          </a:prstGeom>
          <a:ln w="0">
            <a:noFill/>
          </a:ln>
        </p:spPr>
      </p:pic>
      <p:sp>
        <p:nvSpPr>
          <p:cNvPr id="654" name="Rectangle 1589"/>
          <p:cNvSpPr/>
          <p:nvPr/>
        </p:nvSpPr>
        <p:spPr>
          <a:xfrm>
            <a:off x="4360680" y="5229360"/>
            <a:ext cx="2710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http://www.iisd.ca/biodiv/cop11/enbots/17oct.htm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3:38:55Z</dcterms:created>
  <dc:creator>KREBS</dc:creator>
  <dc:description/>
  <dc:language>en-US</dc:language>
  <cp:lastModifiedBy>KREBS</cp:lastModifiedBy>
  <dcterms:modified xsi:type="dcterms:W3CDTF">2013-08-05T13:40:27Z</dcterms:modified>
  <cp:revision>1</cp:revision>
  <dc:subject/>
  <dc:title>PowerPoint Presentation</dc:title>
</cp:coreProperties>
</file>