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6D47-A796-4AB8-BC73-377DB94A9F3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F2C8-C30A-40C6-98E7-A115B3A76DB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1" name="PlaceHolder 1"/>
          <p:cNvSpPr>
            <a:spLocks noGrp="1"/>
          </p:cNvSpPr>
          <p:nvPr>
            <p:ph type="sldImg"/>
          </p:nvPr>
        </p:nvSpPr>
        <p:spPr>
          <a:xfrm>
            <a:off x="1144440" y="687240"/>
            <a:ext cx="4569120" cy="3427560"/>
          </a:xfrm>
          <a:prstGeom prst="rect">
            <a:avLst/>
          </a:prstGeom>
          <a:ln w="0">
            <a:noFill/>
          </a:ln>
        </p:spPr>
      </p:sp>
      <p:sp>
        <p:nvSpPr>
          <p:cNvPr id="662"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2C41-E60A-4BB8-B33A-5C784B947DC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session discusses the various different mechanisms of engagement that are available for TEEB implementers and depending on who their stakeholders may be (from initial mapping exercise discussed above) will determine which kind of approach and level of engagement/commitment you may want to take to engage with them.</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raising awareness can usually be considered as the first general step of ensuring effective engagement – primarily by informing and educat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is initial stage of cooperation and getting stakeholders on board very much relates to the principles of engagement discussed in the introduction to this module i.e. the principles of communication, information disclosur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ine that the most common methods of raising awareness amongst stakeholders are:</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lletin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ochures and report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ublic presentation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Media (videos and website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5928-C103-4D66-B1DA-C7CC7E1BB1C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ghlight </a:t>
            </a:r>
            <a:r>
              <a:rPr b="0" lang="en-US" sz="1000" spc="-1" strike="noStrike">
                <a:solidFill>
                  <a:srgbClr val="000000"/>
                </a:solidFill>
                <a:latin typeface="Calibri"/>
              </a:rPr>
              <a:t>as an example of TEEB raising public awareness on a global scale. The following events are activity of its Geneva based secretariat during 2012 in several international events where it participated in several public presentations as well as designed and developed a series of communications materials</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lain </a:t>
            </a:r>
            <a:r>
              <a:rPr b="0" lang="en-US" sz="1000" spc="-1" strike="noStrike">
                <a:solidFill>
                  <a:srgbClr val="000000"/>
                </a:solidFill>
                <a:latin typeface="Calibri"/>
              </a:rPr>
              <a:t>briefly the logos on the slide with the information provided below. </a:t>
            </a:r>
            <a:r>
              <a:rPr b="1" lang="en-US" sz="1000" spc="-1" strike="noStrike">
                <a:solidFill>
                  <a:srgbClr val="000000"/>
                </a:solidFill>
                <a:latin typeface="Calibri"/>
              </a:rPr>
              <a:t>counter clockwise direction starting with RIO+2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ckground information on TEEB studies: </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io+20 Logo</a:t>
            </a:r>
            <a:r>
              <a:rPr b="0" lang="en-US" sz="900" spc="-1" strike="noStrike">
                <a:solidFill>
                  <a:srgbClr val="000000"/>
                </a:solidFill>
                <a:latin typeface="Calibri"/>
              </a:rPr>
              <a:t>: </a:t>
            </a:r>
            <a:r>
              <a:rPr b="1" lang="en-US" sz="900" spc="-1" strike="noStrike">
                <a:solidFill>
                  <a:srgbClr val="000000"/>
                </a:solidFill>
                <a:latin typeface="Calibri"/>
              </a:rPr>
              <a:t>Rio de Janeiro, Brazil. June 2012. “</a:t>
            </a:r>
            <a:r>
              <a:rPr b="0" i="1" lang="en-US" sz="900" spc="-1" strike="noStrike">
                <a:solidFill>
                  <a:srgbClr val="000000"/>
                </a:solidFill>
                <a:latin typeface="Calibri"/>
              </a:rPr>
              <a:t>TEEB at the United Nations Conference on Sustainable Development</a:t>
            </a:r>
            <a:r>
              <a:rPr b="1" lang="en-US" sz="900" spc="-1" strike="noStrike">
                <a:solidFill>
                  <a:srgbClr val="000000"/>
                </a:solidFill>
                <a:latin typeface="Calibri"/>
              </a:rPr>
              <a:t>”. </a:t>
            </a:r>
            <a:r>
              <a:rPr b="0" lang="en-US" sz="900" spc="-1" strike="noStrike">
                <a:solidFill>
                  <a:srgbClr val="000000"/>
                </a:solidFill>
                <a:latin typeface="Calibri"/>
              </a:rPr>
              <a:t>The United Nations Conference on Sustainable Development or ‘Rio+20’ took place in Brazil on 20-22 June 2012 to mark the 20th anniversary of the 1992 United Nations Conference on Environment and Development (UNCED), in Rio de Janeiro. The Conference focused on two themes: (a) a green economy in the context of sustainable development and poverty eradication; and (b) the institutional framework for sustainable development.</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amsar Logo</a:t>
            </a:r>
            <a:r>
              <a:rPr b="0" lang="en-US" sz="900" spc="-1" strike="noStrike">
                <a:solidFill>
                  <a:srgbClr val="000000"/>
                </a:solidFill>
                <a:latin typeface="Calibri"/>
              </a:rPr>
              <a:t>: </a:t>
            </a:r>
            <a:r>
              <a:rPr b="1" lang="en-US" sz="900" spc="-1" strike="noStrike">
                <a:solidFill>
                  <a:srgbClr val="000000"/>
                </a:solidFill>
                <a:latin typeface="Calibri"/>
              </a:rPr>
              <a:t>Bucharest, Romania. July 2012</a:t>
            </a:r>
            <a:r>
              <a:rPr b="0" lang="en-US" sz="900" spc="-1" strike="noStrike">
                <a:solidFill>
                  <a:srgbClr val="000000"/>
                </a:solidFill>
                <a:latin typeface="Calibri"/>
              </a:rPr>
              <a:t>. The Ramsar Convention, on Wetlands of International Importance, is an intergovernmental treaty that provides the framework for national action and international cooperation for the conservation and wise use of wetlands and their resources.</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UCN Logo: Jeju Island, Republic of Korea. September 2012.</a:t>
            </a:r>
            <a:r>
              <a:rPr b="0" lang="en-US" sz="900" spc="-1" strike="noStrike">
                <a:solidFill>
                  <a:srgbClr val="000000"/>
                </a:solidFill>
                <a:latin typeface="Calibri"/>
              </a:rPr>
              <a:t> </a:t>
            </a:r>
            <a:r>
              <a:rPr b="1" lang="en-US" sz="900" spc="-1" strike="noStrike">
                <a:solidFill>
                  <a:srgbClr val="000000"/>
                </a:solidFill>
                <a:latin typeface="Calibri"/>
              </a:rPr>
              <a:t> “</a:t>
            </a:r>
            <a:r>
              <a:rPr b="0" i="1" lang="en-US" sz="900" spc="-1" strike="noStrike">
                <a:solidFill>
                  <a:srgbClr val="000000"/>
                </a:solidFill>
                <a:latin typeface="Calibri"/>
              </a:rPr>
              <a:t>2012 IUCN World Conservation Congress</a:t>
            </a:r>
            <a:r>
              <a:rPr b="0" lang="en-US" sz="900" spc="-1" strike="noStrike">
                <a:solidFill>
                  <a:srgbClr val="000000"/>
                </a:solidFill>
                <a:latin typeface="Calibri"/>
              </a:rPr>
              <a:t>”. The Congress is the world’s largest conservation event—bringing together top professionals from all regions and expertise to share knowledge on how our natural environment should be managed for the continued well-being of humanity and all life on Earth. </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P Logo: </a:t>
            </a:r>
            <a:r>
              <a:rPr b="1" lang="en-US" sz="900" spc="-1" strike="noStrike">
                <a:solidFill>
                  <a:srgbClr val="000000"/>
                </a:solidFill>
                <a:latin typeface="Calibri"/>
              </a:rPr>
              <a:t>Hyderabad, India October 2012.</a:t>
            </a:r>
            <a:r>
              <a:rPr b="0" lang="en-US" sz="1000" spc="-1" strike="noStrike">
                <a:solidFill>
                  <a:srgbClr val="000000"/>
                </a:solidFill>
                <a:latin typeface="Calibri"/>
              </a:rPr>
              <a:t>”</a:t>
            </a:r>
            <a:r>
              <a:rPr b="0" i="1" lang="en-US" sz="900" spc="-1" strike="noStrike">
                <a:solidFill>
                  <a:srgbClr val="000000"/>
                </a:solidFill>
                <a:latin typeface="Calibri"/>
              </a:rPr>
              <a:t>TEEB at the CBD Eleventh Conference of the Parties”. </a:t>
            </a:r>
            <a:r>
              <a:rPr b="0" lang="en-US" sz="900" spc="-1" strike="noStrike">
                <a:solidFill>
                  <a:srgbClr val="000000"/>
                </a:solidFill>
                <a:latin typeface="Calibri"/>
              </a:rPr>
              <a:t>The Eleventh meeting of the Conference of the Parties (COP) to the Convention on Biological Diversity. Taking place every two years 170 countries participated in the conference to discuss, take action, and implement decisions regarding their programme of work. One of the most important outcomes of the COP is the commitment of the Parties </a:t>
            </a:r>
            <a:r>
              <a:rPr b="1" lang="en-US" sz="900" spc="-1" strike="noStrike">
                <a:solidFill>
                  <a:srgbClr val="000000"/>
                </a:solidFill>
                <a:latin typeface="Calibri"/>
              </a:rPr>
              <a:t>to double the international financial flows</a:t>
            </a:r>
            <a:r>
              <a:rPr b="0" lang="en-US" sz="900" spc="-1" strike="noStrike">
                <a:solidFill>
                  <a:srgbClr val="000000"/>
                </a:solidFill>
                <a:latin typeface="Calibri"/>
              </a:rPr>
              <a:t> for Bio Diversity by 2015</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C373-5F05-4870-9EA7-7713A05BEE3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participatory approaches aim to maximize stakeholder participation and involvement in any project/plan that may affect /impact upon their lives. </a:t>
            </a:r>
            <a:r>
              <a:rPr b="1" lang="en-US" sz="1000" spc="-1" strike="noStrike" u="sng">
                <a:solidFill>
                  <a:srgbClr val="000000"/>
                </a:solidFill>
                <a:uFillTx/>
                <a:latin typeface="Calibri"/>
              </a:rPr>
              <a:t>Highlight </a:t>
            </a:r>
            <a:r>
              <a:rPr b="0" lang="en-US" sz="1000" spc="-1" strike="noStrike">
                <a:solidFill>
                  <a:srgbClr val="000000"/>
                </a:solidFill>
                <a:latin typeface="Calibri"/>
              </a:rPr>
              <a:t>how these more interactive approaches relate to the principles of consultation, participation and involvement outlined in the introduction.</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mphasize</a:t>
            </a:r>
            <a:r>
              <a:rPr b="0" lang="en-US" sz="1000" spc="-1" strike="noStrike">
                <a:solidFill>
                  <a:srgbClr val="000000"/>
                </a:solidFill>
                <a:latin typeface="Calibri"/>
              </a:rPr>
              <a:t> that participatory approaches, together with providing stakeholders with the necessary information as mentioned in the last slide, would be essential throughout the whole process of any national TEEB study primarily so that all key stakeholder groups are included in dialogues </a:t>
            </a:r>
            <a:r>
              <a:rPr b="0" lang="en-GB" sz="1000" spc="-1" strike="noStrike">
                <a:solidFill>
                  <a:srgbClr val="000000"/>
                </a:solidFill>
                <a:latin typeface="Calibri"/>
              </a:rPr>
              <a:t>and so that their concerns can be fully understood and considered in decision making.</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 </a:t>
            </a:r>
            <a:r>
              <a:rPr b="0" lang="en-US" sz="1000" spc="-1" strike="noStrike">
                <a:solidFill>
                  <a:srgbClr val="000000"/>
                </a:solidFill>
                <a:latin typeface="Calibri"/>
              </a:rPr>
              <a:t>that the most common participatory approaches for engagement are (be prepared to answer in more detail what each one of these approaches i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cus group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ulti stakeholder forum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urvey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ublic meetings </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Workshop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17B8-6173-4F97-B99F-364F435E9D0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Explain </a:t>
            </a:r>
            <a:r>
              <a:rPr b="0" lang="en-GB" sz="800" spc="-1" strike="noStrike">
                <a:solidFill>
                  <a:srgbClr val="000000"/>
                </a:solidFill>
                <a:latin typeface="Calibri"/>
              </a:rPr>
              <a:t>that stakeholder collaboration entails partnering with or convening a network of stakeholders to develop mutually agreed solutions and working together to formulate a joint plan of action.</a:t>
            </a:r>
            <a:r>
              <a:rPr b="1" lang="en-US" sz="800" spc="-1" strike="noStrike" u="sng">
                <a:solidFill>
                  <a:srgbClr val="000000"/>
                </a:solidFill>
                <a:uFillTx/>
                <a:latin typeface="Calibri"/>
              </a:rPr>
              <a:t> Highlight </a:t>
            </a:r>
            <a:r>
              <a:rPr b="0" lang="en-US" sz="800" spc="-1" strike="noStrike">
                <a:solidFill>
                  <a:srgbClr val="000000"/>
                </a:solidFill>
                <a:latin typeface="Calibri"/>
              </a:rPr>
              <a:t>how collaborative activities relates to the principles of cooperation and partnerships of stakeholder engagement outlined in the introduc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Emphasize</a:t>
            </a:r>
            <a:r>
              <a:rPr b="0" lang="en-GB" sz="800" spc="-1" strike="noStrike">
                <a:solidFill>
                  <a:srgbClr val="000000"/>
                </a:solidFill>
                <a:latin typeface="Calibri"/>
              </a:rPr>
              <a:t> the fact that for the successful execution of a TEEB study, collaboration would not only be essential between different stakeholder groups e.g. between local communities, NGOs and the governments but also within the same stakeholder group e.g. ministerial sector (Ministries of Agriculture, Energy, Commerce, Finance, Health, Tourism etc) whereby policy synergies would need to be identified to help improve sectoral integra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Stress</a:t>
            </a:r>
            <a:r>
              <a:rPr b="0" lang="en-GB" sz="800" spc="-1" strike="noStrike">
                <a:solidFill>
                  <a:srgbClr val="000000"/>
                </a:solidFill>
                <a:latin typeface="Calibri"/>
              </a:rPr>
              <a:t> that the potential and important points of entry for initiating cooperation and partnerships could b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Food security/sovereignty (Ministries of Environment and Ministry of Agricultur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Water scarcity (Ministries of Environment, Ministry of Energy and Ministries of Healt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Job creation etc (Ministry of Environment and Ministry of Tourism, Ministry of Commerce)</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Highlight </a:t>
            </a:r>
            <a:r>
              <a:rPr b="0" lang="en-GB" sz="800" spc="-1" strike="noStrike">
                <a:solidFill>
                  <a:srgbClr val="000000"/>
                </a:solidFill>
                <a:latin typeface="Calibri"/>
              </a:rPr>
              <a:t>how the above are possible cross sectoral and cross-cutting themes amongst and between the different ministries already mention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AA62-4F6B-4E08-BDE3-F2F72706E14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s TEEB national studies start to be executed around the world, it would be important to share lessons learnt and best practices. This would not only improve methodological rigor but also encourage and strengthen south-south cooperation among and between developing n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at sharing lessons learnt relates to all principles of communication outlined in the introdu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key mechanisms for sharing lessons learnt could be foreseen via a:</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ilding a community of practic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veloping a knowledge sharing platform</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bution of a regular e-newsletter/brief with relevant informatio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Development of a database e.g. Ecosystem Services partnership</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7F0B-2D07-46C2-A961-C79075ECBA5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rganise</a:t>
            </a:r>
            <a:r>
              <a:rPr b="0" lang="en-GB" sz="1200" spc="-1" strike="noStrike">
                <a:solidFill>
                  <a:srgbClr val="000000"/>
                </a:solidFill>
                <a:latin typeface="Calibri"/>
              </a:rPr>
              <a:t> participants into groups of 3 or 4, and </a:t>
            </a:r>
            <a:r>
              <a:rPr b="1" lang="en-GB" sz="1200" spc="-1" strike="noStrike" u="sng">
                <a:solidFill>
                  <a:srgbClr val="000000"/>
                </a:solidFill>
                <a:uFillTx/>
                <a:latin typeface="Calibri"/>
              </a:rPr>
              <a:t>ask </a:t>
            </a:r>
            <a:r>
              <a:rPr b="0" lang="en-GB" sz="1200" spc="-1" strike="noStrike">
                <a:solidFill>
                  <a:srgbClr val="000000"/>
                </a:solidFill>
                <a:latin typeface="Calibri"/>
              </a:rPr>
              <a:t>them to consider how they may plan a community meeting and how, as the TEEB implementers, they would present the plans for the TEEB study to the different stakeholders e.g. communities at the local level and gain their suppor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Ask</a:t>
            </a:r>
            <a:r>
              <a:rPr b="1" lang="en-GB" sz="1200" spc="-1" strike="noStrike">
                <a:solidFill>
                  <a:srgbClr val="000000"/>
                </a:solidFill>
                <a:latin typeface="Calibri"/>
                <a:ea typeface="SimSun"/>
              </a:rPr>
              <a:t> </a:t>
            </a:r>
            <a:r>
              <a:rPr b="0" lang="en-GB" sz="1200" spc="-1" strike="noStrike">
                <a:solidFill>
                  <a:srgbClr val="000000"/>
                </a:solidFill>
                <a:latin typeface="Calibri"/>
                <a:ea typeface="SimSun"/>
              </a:rPr>
              <a:t>each group to present their plan at the end of the group exercise</a:t>
            </a:r>
            <a:r>
              <a:rPr b="1" lang="en-GB" sz="1200" spc="-1" strike="noStrike">
                <a:solidFill>
                  <a:srgbClr val="000000"/>
                </a:solidFill>
                <a:latin typeface="Calibri"/>
                <a:ea typeface="SimSun"/>
              </a:rPr>
              <a:t>.</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F1F8-BDD1-4E24-B399-0FAB74691C6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eview </a:t>
            </a:r>
            <a:r>
              <a:rPr b="0" lang="en-GB" sz="1200" spc="-1" strike="noStrike">
                <a:solidFill>
                  <a:srgbClr val="000000"/>
                </a:solidFill>
                <a:latin typeface="Calibri"/>
                <a:ea typeface="SimSun"/>
              </a:rPr>
              <a:t>the key points of the module and highlight what has been learned so far.</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AC25-3B0C-4CC7-9713-CADB307FCC6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4440" y="687240"/>
            <a:ext cx="4569120" cy="3427560"/>
          </a:xfrm>
          <a:prstGeom prst="rect">
            <a:avLst/>
          </a:prstGeom>
          <a:ln w="0">
            <a:noFill/>
          </a:ln>
        </p:spPr>
      </p:sp>
      <p:sp>
        <p:nvSpPr>
          <p:cNvPr id="68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47240-723D-4B9C-8C8F-B58F71518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0304F-2262-4437-8D11-B0384924C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84135D-1C2C-4192-9306-3BC91093FD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E70DFD-A9E4-4364-AFAE-92F05D119F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099C07-E067-4231-9949-DE73AF8FB3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533AF2-0DE1-4DAB-AFC7-5132187FD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85626-B5CB-4132-A32D-C850EC1DD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CF7D6-C0FE-43A0-BFF8-2B7CC5338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9CF5BF-504C-4A1E-8926-70C96BCADC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34F8B1-C5AA-4F85-9C10-604F48C15B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9C255C-9C87-4326-B3AB-834FE35364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B4E0C9-9CB8-495C-9B25-C9F81ABBDE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7419-3CCF-4619-93A4-CBE8200D3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6F408B-A12A-4A5F-A3CE-010E38EF29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62334F-318A-4870-AB4E-B43D4BB9E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FCCBAF-A135-4B3A-A85E-C54C7115FF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026D8F-CC81-4DEB-BDA8-7F54220192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6D8738-BE9B-4B6C-985C-F860EA5614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FCA529-0D49-4A12-BB4E-3ED4F172CC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8A79D-DED2-4526-B203-DF2DE28B1C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DACBF8-CC88-4752-901D-4B40D1A9BA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C7EB98-28D1-4ABC-BBB4-C802E7E97A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D91BD0-B0C3-4612-A0F0-52006816F2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C774F-D753-4021-95AB-E1F6967E4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1FA91B-58E4-4BDF-B475-5620878EAB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F21E73-81EE-4868-99C9-E955AAF9B4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A1E5AA-FF59-40B2-9B29-6CF7FB557E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AA4D1D-FC64-4337-A108-19B332F353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C0010-1163-4D95-947E-EED14CF3E2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1EDB23-C36E-41B9-B957-5F7B8B318F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3B6A7E-8EAC-4705-9950-B63439404C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37F04-73E9-4D19-AFC5-8C452F15CF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6E0113-3194-477D-B6AC-1755667B05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8AF31C-970A-43E7-9642-9C6834618D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7F6F2-B8F4-40F9-AB3E-3976EB317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5A2929-446E-4343-8580-AD4345022A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5A3A39-98FF-46B2-BCEF-23AAEA3181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73A25A-A2B0-4E2B-A412-3B9D8B5C53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5C70B2-A0BF-4065-8B1F-D37AB34DB9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E88AAB-D684-42A0-9A2A-7296065AEB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531A32-5C98-45A1-A06D-5807F10C0B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696790-FAFC-46FC-86CC-E061307F1B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AC8660-59FD-44AC-8CC3-EA65A3338F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8954F5-22C8-487F-9317-F266EC1B23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CA9704-58C7-44A2-BD32-1036ED656C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5A83-3488-401E-AA95-027FB0C0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005AF-4E7F-4F8C-A84B-7B4B8795D5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5D0AEC-4967-4C77-A60F-EDE879FAA4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7F89D0-6323-4187-8AC8-209687A3D2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596928-F874-470C-A0F4-58B46775C4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34F464-F423-409B-9284-51C49FA4BD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696BE0-D308-4671-81DA-85A65222FF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E9F89F-E358-466A-AE0C-2A25B71031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287525-A103-411E-B6A6-146E41B00F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D6C395-F57C-4FAB-8BAE-FECA3A614E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819910-9C66-421B-AB5E-A4D4176A18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9910E-5684-4659-98F0-733E63C2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6F8399-D296-4B67-8B61-0BA8BC9D91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3B3862-22C6-490C-A6C7-B346518269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BAC5CE-9B85-453F-A5D5-C1321A2012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D03C97-6EF8-4DF8-961E-EE9BB16BAC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167BF6-2786-46E6-B811-6A496C619D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FA8C43-D3AC-49A0-8608-CFB1D7ED97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BE02D9-D6A9-44CE-9676-7B15B95C2E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8564A6-226A-430B-95B0-59C9306E16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DEF788-3C1A-4FC1-BA94-56A1DDE01C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013058-93F8-4CE3-8DD2-05DF7E500F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CB84F-5302-4AEE-8A25-0FA210F1D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DBE45B-1197-4975-BB82-F6CFFC9173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A2EA2A-499C-4955-9566-8A79CFFDBA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4FAB2C-E54F-4057-8521-202D700B7D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85AAB4-8A50-4CC7-A289-FF17456D08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9FC822-F466-451A-9E8F-0B6FC23F28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0F72E4-52D3-416B-8DB5-EAC032E6C4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102A34-C2A3-40BF-AEA0-A2D4AA177E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C56AF8-EFAB-4FAF-BCEE-F41848ED98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740550-6818-4D60-9176-9846ABC35E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E2664-4356-4137-B52D-80008F940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6ACD3-79D9-4AEA-91A1-E9CA93E7B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7E74D-9662-4234-B370-6A8A7DD3C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D39B-2FEC-4E5B-931D-CAC942D2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E0B86-0CC7-4D72-B5F9-23F83391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AD5F5-3D2F-4C2A-BA57-EF8A9AAFF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B92AB-FCA1-4913-95DF-E43C2DF6D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468C8-0EE8-4952-8542-4C4CF5DBA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911A6-D736-486C-8909-789EAF4A9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D034DB-5491-4EBB-B73E-EC9DBE607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23798-4742-4487-8172-7B4FDC428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A7E3F-EEC4-4A45-8738-45777A35E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86CAF-27EB-45E0-9613-67E834D33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A715D-5417-41D9-9CD4-0732D1ADD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81B63-2A8A-40A0-B134-59EA6313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41554-41E8-4B9F-8689-8F4687ED0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216C3-85BE-49D8-AABA-81C36910C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A490F-00A0-4C36-A2FE-2B5EC96D3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F5EB5-888E-443D-9746-ADF3DC1BA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CC8E0-163F-48C5-9011-75825A89F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E1F136-1C19-48C0-984F-3A415D7C8C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5720A2-094A-487C-A713-6055DFAB7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43028-DB23-44D9-92B0-57A9CE779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24605-A08D-4C5D-B0B4-AA8520CC8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7A81B-EC6F-4472-8D02-3DFEE4B83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7909-8470-4169-99C6-8C6EABE7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57BA0-9D29-4566-AFC1-74A1F7007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B90C0-31E4-4F09-BC40-CD03D727D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F233B-C73F-4E46-82F9-B08994642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C2A43-8AA6-453C-B91E-36BEDEA32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F7746-C9BB-4A06-B767-10B0F17CE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18740-72C8-4357-82DF-B830F9FC1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605C0-D302-43DA-925B-ACF81046A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D46C12-2AF7-4970-8CC8-16F10694F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E7CA84-EDFE-4724-B958-1DE5EBD00A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E0988-2F15-42F2-A870-D7506E5648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96DB-A349-4635-8B44-BE6CE0F42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F9089-898E-456C-B6CF-A07FA6294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25036-CB52-444B-9431-4E3BE2CB4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C7F67-96DF-486E-8F62-54B77DE0F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11A9B-DD79-465E-9BF2-9FC541E05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F87DD-EC3A-45B9-A0F5-0328B0B5B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90702-49DF-4079-9C85-7169DB473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87EE4-EB64-407D-B169-57D4B1FCA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42EE9-BB82-46FF-B277-F2522FF7B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5BE2B6-90D3-47DA-B8B9-E0EDA844B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11EF44-2B6D-4CB6-A1DF-9EA9455A1C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59064-439A-4C17-B70E-BC4456252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5AD765-487E-4C4F-AA05-4607D683DE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165C4-F5EC-491D-8E1B-164720510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66215-4119-4F86-99C8-D1111ABE12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C488F-43EE-4D32-86F4-61E753DBB9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EA2FB-C54C-47F0-810C-85210D469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9B1FE-6D9D-4C48-A421-CAF8B4146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B4703-438C-425C-919A-1ACBFF05AE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D787D-9D6E-4329-BB58-1F8FD312D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5526E-32B9-4FAD-B437-A464FCF7B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F1B88-DE4A-4D41-A460-0A60586A0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DDBA-5257-477B-B47A-17FF3B35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75ED8-87E5-4CE4-BC7D-F033761EB1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829B4E-42E7-4FA7-A4A6-64B56623B9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D3351-89B4-4C96-A6FB-BD14BBDA84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FF244C-1C83-419B-92B4-61A9115072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AFF32-8638-4E89-B8CE-D1171C1FB2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7C8C3-847A-4246-880F-A24EFCE68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7F24A-49DF-4BCF-B035-4AF21209C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18DA0-938D-4FBE-812E-499F209C0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66630-3D96-4BFC-AE1E-83C3C1D38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9AB94-EA1D-423C-9F79-E28CCB544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A7E0-9B3E-4B39-B8CC-D55C6C31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924F1-ADD1-45D7-ACD6-2D899FD0E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D806E-417E-48EE-BE1F-6C9115889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EE6E27-46B0-4B70-8E16-2BEFDEE23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19363B-081F-4C6B-A571-8171556CB1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FFF1E-89D0-457F-BBF6-E861D12D58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77624C-55D3-444E-872E-1B72D7CCE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20591C-5ED5-4EBF-9588-061A3EFD8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F70FC-8A36-48A0-8674-7E19ABC540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DF25F-AD21-4962-9F30-C34AF565D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7756D6-BC4B-4A98-9F91-13817B5AC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B836-C45E-4953-95A8-C43765C6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72A6D-3A38-4A2B-9938-FC5B5072D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5342F-9917-4C80-9660-BB32DAE4F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C7B6B-9FA1-4BE5-AFD3-C0CA7CDC7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09BE5-8715-4957-BAA8-F7A654449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61E1EE-A828-4339-87C4-DCF3794EF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5A40E3-2DA2-44F5-AF03-7E542E0069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350737-D03E-43D6-9863-2BC72B0EED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08C00-5120-44B3-86F2-6AC903B779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9D129-2295-46AC-A90B-1B5C7F2FF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79104C-B615-4D51-B45F-8898606878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DAA7-446C-4B17-8454-4C54CAD73BC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429B-9FC1-4929-901D-615E35E56C4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91F7-3DFA-4A65-B3F9-3B5F5D80CBD8}"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65E9-3421-4BF6-85CA-94A46546ADAE}"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3DDF-1CF6-414B-A4C9-655E96840FA7}"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A6F3-A1D6-4C86-837C-7A937CAB9128}"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AE5D-2764-4E01-ADA5-83680118309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C5FE-F13F-4BB5-B6CD-35D36F6710C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8759-36FF-4846-877B-AFCA1150476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8B71-8F25-4727-AF7F-6375FE6F8294}"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2F8A-E40A-4885-B93B-5AF7B3ED7924}"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56B1-85EE-47A4-B7DF-C2955EC5E0E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CF5E-D9D4-4AF3-9A84-68B5204BF28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5A39-DE76-45B3-B3CF-3721D20F1AA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08464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Arial"/>
              </a:rPr>
              <a:t>Mechanisms of engagement and cooperation</a:t>
            </a:r>
            <a:endParaRPr b="0" lang="en-US" sz="2800" spc="-1" strike="noStrike">
              <a:solidFill>
                <a:srgbClr val="ffffff"/>
              </a:solidFill>
              <a:latin typeface="Times New Roman"/>
            </a:endParaRPr>
          </a:p>
        </p:txBody>
      </p:sp>
      <p:pic>
        <p:nvPicPr>
          <p:cNvPr id="625" name="Picture 6" descr="logo TEEB transparent print"/>
          <p:cNvPicPr/>
          <p:nvPr/>
        </p:nvPicPr>
        <p:blipFill>
          <a:blip r:embed="rId1"/>
          <a:stretch/>
        </p:blipFill>
        <p:spPr>
          <a:xfrm>
            <a:off x="2771640" y="549360"/>
            <a:ext cx="396108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Raising public awareness</a:t>
            </a:r>
            <a:br>
              <a:rPr sz="3200"/>
            </a:br>
            <a:endParaRPr b="0" lang="en-US" sz="3200" spc="-1" strike="noStrike">
              <a:solidFill>
                <a:srgbClr val="000532"/>
              </a:solidFill>
              <a:latin typeface="Arial"/>
            </a:endParaRPr>
          </a:p>
        </p:txBody>
      </p:sp>
      <p:sp>
        <p:nvSpPr>
          <p:cNvPr id="627" name="PlaceHolder 2"/>
          <p:cNvSpPr>
            <a:spLocks noGrp="1"/>
          </p:cNvSpPr>
          <p:nvPr>
            <p:ph/>
          </p:nvPr>
        </p:nvSpPr>
        <p:spPr>
          <a:xfrm>
            <a:off x="0" y="1915920"/>
            <a:ext cx="5796000" cy="4941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rst general step of ensuring effective engagement – inform and educate your stakeholder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es stakeholders with balanced objectives about the plans and intentions of executing a TEEB national study</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common methods of raising awareness amongst stakeholder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lletin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ochures and report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presentation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dia (videos and websites)</a:t>
            </a:r>
            <a:endParaRPr b="0" lang="en-US" sz="2000" spc="-1" strike="noStrike">
              <a:solidFill>
                <a:srgbClr val="000532"/>
              </a:solidFill>
              <a:latin typeface="Times New Roman"/>
            </a:endParaRPr>
          </a:p>
        </p:txBody>
      </p:sp>
      <p:pic>
        <p:nvPicPr>
          <p:cNvPr id="628" name="Picture 1" descr=""/>
          <p:cNvPicPr/>
          <p:nvPr/>
        </p:nvPicPr>
        <p:blipFill>
          <a:blip r:embed="rId1"/>
          <a:stretch/>
        </p:blipFill>
        <p:spPr>
          <a:xfrm rot="21048600">
            <a:off x="6084360" y="1989000"/>
            <a:ext cx="2382840" cy="30974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26"/>
                                        </p:tgtEl>
                                        <p:attrNameLst>
                                          <p:attrName>style.visibility</p:attrName>
                                        </p:attrNameLst>
                                      </p:cBhvr>
                                      <p:to>
                                        <p:strVal val="visible"/>
                                      </p:to>
                                    </p:set>
                                    <p:animEffect filter="dissolve" transition="in">
                                      <p:cBhvr additive="repl">
                                        <p:cTn id="7" dur="100"/>
                                        <p:tgtEl>
                                          <p:spTgt spid="626"/>
                                        </p:tgtEl>
                                      </p:cBhvr>
                                    </p:animEffect>
                                  </p:childTnLst>
                                </p:cTn>
                              </p:par>
                              <p:par>
                                <p:cTn id="8" nodeType="withEffect" fill="hold" presetClass="emph" presetID="6">
                                  <p:stCondLst>
                                    <p:cond delay="0"/>
                                  </p:stCondLst>
                                  <p:childTnLst>
                                    <p:animScale>
                                      <p:cBhvr>
                                        <p:cTn id="9" dur="500" fill="hold"/>
                                        <p:tgtEl>
                                          <p:spTgt spid="628"/>
                                        </p:tgtEl>
                                      </p:cBhvr>
                                      <p:to x="150000" y="150000"/>
                                    </p:animScale>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627">
                                            <p:txEl>
                                              <p:pRg st="0" end="0"/>
                                            </p:txEl>
                                          </p:spTgt>
                                        </p:tgtEl>
                                        <p:attrNameLst>
                                          <p:attrName>style.visibility</p:attrName>
                                        </p:attrNameLst>
                                      </p:cBhvr>
                                      <p:to>
                                        <p:strVal val="visible"/>
                                      </p:to>
                                    </p:set>
                                    <p:animEffect filter="diamond(in)" transition="in">
                                      <p:cBhvr additive="repl">
                                        <p:cTn id="14" dur="1000"/>
                                        <p:tgtEl>
                                          <p:spTgt spid="627">
                                            <p:txEl>
                                              <p:pRg st="0" end="0"/>
                                            </p:txEl>
                                          </p:spTgt>
                                        </p:tgtEl>
                                      </p:cBhvr>
                                    </p:animEffect>
                                  </p:childTnLst>
                                </p:cTn>
                              </p:par>
                              <p:par>
                                <p:cTn id="15" nodeType="withEffect" fill="hold" presetClass="entr" presetID="8" presetSubtype="16">
                                  <p:stCondLst>
                                    <p:cond delay="0"/>
                                  </p:stCondLst>
                                  <p:childTnLst>
                                    <p:set>
                                      <p:cBhvr>
                                        <p:cTn id="16" dur="1" fill="hold">
                                          <p:stCondLst>
                                            <p:cond delay="0"/>
                                          </p:stCondLst>
                                        </p:cTn>
                                        <p:tgtEl>
                                          <p:spTgt spid="627">
                                            <p:txEl>
                                              <p:pRg st="2" end="2"/>
                                            </p:txEl>
                                          </p:spTgt>
                                        </p:tgtEl>
                                        <p:attrNameLst>
                                          <p:attrName>style.visibility</p:attrName>
                                        </p:attrNameLst>
                                      </p:cBhvr>
                                      <p:to>
                                        <p:strVal val="visible"/>
                                      </p:to>
                                    </p:set>
                                    <p:animEffect filter="diamond(in)" transition="in">
                                      <p:cBhvr additive="repl">
                                        <p:cTn id="17" dur="2000"/>
                                        <p:tgtEl>
                                          <p:spTgt spid="627">
                                            <p:txEl>
                                              <p:pRg st="2" end="2"/>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627">
                                            <p:txEl>
                                              <p:pRg st="4" end="4"/>
                                            </p:txEl>
                                          </p:spTgt>
                                        </p:tgtEl>
                                        <p:attrNameLst>
                                          <p:attrName>style.visibility</p:attrName>
                                        </p:attrNameLst>
                                      </p:cBhvr>
                                      <p:to>
                                        <p:strVal val="visible"/>
                                      </p:to>
                                    </p:set>
                                    <p:animEffect filter="diamond(in)" transition="in">
                                      <p:cBhvr additive="repl">
                                        <p:cTn id="20" dur="2000"/>
                                        <p:tgtEl>
                                          <p:spTgt spid="627">
                                            <p:txEl>
                                              <p:pRg st="4" end="4"/>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627">
                                            <p:txEl>
                                              <p:pRg st="5" end="5"/>
                                            </p:txEl>
                                          </p:spTgt>
                                        </p:tgtEl>
                                        <p:attrNameLst>
                                          <p:attrName>style.visibility</p:attrName>
                                        </p:attrNameLst>
                                      </p:cBhvr>
                                      <p:to>
                                        <p:strVal val="visible"/>
                                      </p:to>
                                    </p:set>
                                    <p:animEffect filter="diamond(in)" transition="in">
                                      <p:cBhvr additive="repl">
                                        <p:cTn id="23" dur="2000"/>
                                        <p:tgtEl>
                                          <p:spTgt spid="627">
                                            <p:txEl>
                                              <p:pRg st="5" end="5"/>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627">
                                            <p:txEl>
                                              <p:pRg st="6" end="6"/>
                                            </p:txEl>
                                          </p:spTgt>
                                        </p:tgtEl>
                                        <p:attrNameLst>
                                          <p:attrName>style.visibility</p:attrName>
                                        </p:attrNameLst>
                                      </p:cBhvr>
                                      <p:to>
                                        <p:strVal val="visible"/>
                                      </p:to>
                                    </p:set>
                                    <p:animEffect filter="diamond(in)" transition="in">
                                      <p:cBhvr additive="repl">
                                        <p:cTn id="26" dur="2000"/>
                                        <p:tgtEl>
                                          <p:spTgt spid="627">
                                            <p:txEl>
                                              <p:pRg st="6" end="6"/>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627">
                                            <p:txEl>
                                              <p:pRg st="7" end="7"/>
                                            </p:txEl>
                                          </p:spTgt>
                                        </p:tgtEl>
                                        <p:attrNameLst>
                                          <p:attrName>style.visibility</p:attrName>
                                        </p:attrNameLst>
                                      </p:cBhvr>
                                      <p:to>
                                        <p:strVal val="visible"/>
                                      </p:to>
                                    </p:set>
                                    <p:animEffect filter="diamond(in)" transition="in">
                                      <p:cBhvr additive="repl">
                                        <p:cTn id="29" dur="2000"/>
                                        <p:tgtEl>
                                          <p:spTgt spid="627">
                                            <p:txEl>
                                              <p:pRg st="7" end="7"/>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627">
                                            <p:txEl>
                                              <p:pRg st="8" end="8"/>
                                            </p:txEl>
                                          </p:spTgt>
                                        </p:tgtEl>
                                        <p:attrNameLst>
                                          <p:attrName>style.visibility</p:attrName>
                                        </p:attrNameLst>
                                      </p:cBhvr>
                                      <p:to>
                                        <p:strVal val="visible"/>
                                      </p:to>
                                    </p:set>
                                    <p:animEffect filter="diamond(in)" transition="in">
                                      <p:cBhvr additive="repl">
                                        <p:cTn id="32" dur="2000"/>
                                        <p:tgtEl>
                                          <p:spTgt spid="6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 </a:t>
            </a:r>
            <a:r>
              <a:rPr b="1" lang="en-US" sz="3200" spc="-1" strike="noStrike">
                <a:solidFill>
                  <a:srgbClr val="323366"/>
                </a:solidFill>
                <a:latin typeface="Arial"/>
              </a:rPr>
              <a:t>TEEB Events in 2012</a:t>
            </a:r>
            <a:r>
              <a:rPr b="1" lang="en-US" sz="3600" spc="-1" strike="noStrike">
                <a:solidFill>
                  <a:srgbClr val="003399"/>
                </a:solidFill>
                <a:latin typeface="Arial"/>
              </a:rPr>
              <a:t> </a:t>
            </a:r>
            <a:endParaRPr b="0" lang="en-US" sz="3600" spc="-1" strike="noStrike">
              <a:solidFill>
                <a:srgbClr val="000532"/>
              </a:solidFill>
              <a:latin typeface="Arial"/>
            </a:endParaRPr>
          </a:p>
        </p:txBody>
      </p:sp>
      <p:grpSp>
        <p:nvGrpSpPr>
          <p:cNvPr id="630" name="Diagram 2"/>
          <p:cNvGrpSpPr/>
          <p:nvPr/>
        </p:nvGrpSpPr>
        <p:grpSpPr>
          <a:xfrm>
            <a:off x="2284920" y="2011320"/>
            <a:ext cx="4502160" cy="4104360"/>
            <a:chOff x="2284920" y="2011320"/>
            <a:chExt cx="4502160" cy="4104360"/>
          </a:xfrm>
        </p:grpSpPr>
        <p:sp>
          <p:nvSpPr>
            <p:cNvPr id="631" name="_s1028"/>
            <p:cNvSpPr/>
            <p:nvPr/>
          </p:nvSpPr>
          <p:spPr>
            <a:xfrm>
              <a:off x="3004920" y="2011320"/>
              <a:ext cx="3062160" cy="2791080"/>
            </a:xfrm>
            <a:custGeom>
              <a:avLst/>
              <a:gdLst>
                <a:gd name="textAreaLeft" fmla="*/ 0 w 3062160"/>
                <a:gd name="textAreaRight" fmla="*/ 3062520 w 3062160"/>
                <a:gd name="textAreaTop" fmla="*/ 0 h 2791080"/>
                <a:gd name="textAreaBottom" fmla="*/ 2791080 h 27910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9f67f"/>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2" name="_s1029"/>
            <p:cNvSpPr/>
            <p:nvPr/>
          </p:nvSpPr>
          <p:spPr>
            <a:xfrm rot="5400000">
              <a:off x="3860280" y="2532240"/>
              <a:ext cx="2791080" cy="3062160"/>
            </a:xfrm>
            <a:custGeom>
              <a:avLst/>
              <a:gdLst>
                <a:gd name="textAreaLeft" fmla="*/ 0 w 2791080"/>
                <a:gd name="textAreaRight" fmla="*/ 2791080 w 2791080"/>
                <a:gd name="textAreaTop" fmla="*/ 0 h 3062160"/>
                <a:gd name="textAreaBottom" fmla="*/ 3062520 h 3062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cc00"/>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3" name="_s1030"/>
            <p:cNvSpPr/>
            <p:nvPr/>
          </p:nvSpPr>
          <p:spPr>
            <a:xfrm rot="10800000">
              <a:off x="3004920" y="3324600"/>
              <a:ext cx="3062160" cy="2791080"/>
            </a:xfrm>
            <a:custGeom>
              <a:avLst/>
              <a:gdLst>
                <a:gd name="textAreaLeft" fmla="*/ 0 w 3062160"/>
                <a:gd name="textAreaRight" fmla="*/ 3062520 w 3062160"/>
                <a:gd name="textAreaTop" fmla="*/ 0 h 2791080"/>
                <a:gd name="textAreaBottom" fmla="*/ 2791080 h 27910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9933"/>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4" name="_s1031"/>
            <p:cNvSpPr/>
            <p:nvPr/>
          </p:nvSpPr>
          <p:spPr>
            <a:xfrm rot="16200000">
              <a:off x="2420280" y="2531880"/>
              <a:ext cx="2791080" cy="3062160"/>
            </a:xfrm>
            <a:custGeom>
              <a:avLst/>
              <a:gdLst>
                <a:gd name="textAreaLeft" fmla="*/ 0 w 2791080"/>
                <a:gd name="textAreaRight" fmla="*/ 2791080 w 2791080"/>
                <a:gd name="textAreaTop" fmla="*/ 0 h 3062160"/>
                <a:gd name="textAreaBottom" fmla="*/ 3062520 h 3062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6600"/>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5" name="_s1032"/>
            <p:cNvSpPr/>
            <p:nvPr/>
          </p:nvSpPr>
          <p:spPr>
            <a:xfrm>
              <a:off x="5351040" y="226512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6" name="_s1033"/>
            <p:cNvSpPr/>
            <p:nvPr/>
          </p:nvSpPr>
          <p:spPr>
            <a:xfrm>
              <a:off x="2568960" y="4807800"/>
              <a:ext cx="1153800" cy="1052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_s1034"/>
            <p:cNvSpPr/>
            <p:nvPr/>
          </p:nvSpPr>
          <p:spPr>
            <a:xfrm>
              <a:off x="2565000" y="226836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8" name="_s1035"/>
            <p:cNvSpPr/>
            <p:nvPr/>
          </p:nvSpPr>
          <p:spPr>
            <a:xfrm>
              <a:off x="5352840" y="480420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pic>
        <p:nvPicPr>
          <p:cNvPr id="639" name="Picture 14" descr=""/>
          <p:cNvPicPr/>
          <p:nvPr/>
        </p:nvPicPr>
        <p:blipFill>
          <a:blip r:embed="rId1"/>
          <a:stretch/>
        </p:blipFill>
        <p:spPr>
          <a:xfrm>
            <a:off x="5508720" y="4941720"/>
            <a:ext cx="1871640" cy="1511640"/>
          </a:xfrm>
          <a:prstGeom prst="rect">
            <a:avLst/>
          </a:prstGeom>
          <a:ln w="0">
            <a:noFill/>
          </a:ln>
        </p:spPr>
      </p:pic>
      <p:pic>
        <p:nvPicPr>
          <p:cNvPr id="640" name="Picture 15" descr=""/>
          <p:cNvPicPr/>
          <p:nvPr/>
        </p:nvPicPr>
        <p:blipFill>
          <a:blip r:embed="rId2"/>
          <a:stretch/>
        </p:blipFill>
        <p:spPr>
          <a:xfrm>
            <a:off x="5435640" y="1916280"/>
            <a:ext cx="2087640" cy="1481040"/>
          </a:xfrm>
          <a:prstGeom prst="rect">
            <a:avLst/>
          </a:prstGeom>
          <a:ln w="0">
            <a:noFill/>
          </a:ln>
        </p:spPr>
      </p:pic>
      <p:pic>
        <p:nvPicPr>
          <p:cNvPr id="641" name="Picture 19" descr=""/>
          <p:cNvPicPr/>
          <p:nvPr/>
        </p:nvPicPr>
        <p:blipFill>
          <a:blip r:embed="rId3"/>
          <a:stretch/>
        </p:blipFill>
        <p:spPr>
          <a:xfrm>
            <a:off x="2627280" y="1844640"/>
            <a:ext cx="1081080" cy="1368360"/>
          </a:xfrm>
          <a:prstGeom prst="rect">
            <a:avLst/>
          </a:prstGeom>
          <a:ln w="0">
            <a:noFill/>
          </a:ln>
        </p:spPr>
      </p:pic>
      <p:pic>
        <p:nvPicPr>
          <p:cNvPr id="642" name="Picture 20" descr=""/>
          <p:cNvPicPr/>
          <p:nvPr/>
        </p:nvPicPr>
        <p:blipFill>
          <a:blip r:embed="rId4"/>
          <a:stretch/>
        </p:blipFill>
        <p:spPr>
          <a:xfrm>
            <a:off x="1619280" y="4869000"/>
            <a:ext cx="2016000" cy="969840"/>
          </a:xfrm>
          <a:prstGeom prst="rect">
            <a:avLst/>
          </a:prstGeom>
          <a:ln w="0">
            <a:noFill/>
          </a:ln>
        </p:spPr>
      </p:pic>
    </p:spTree>
  </p:cSld>
  <p:transition>
    <p:pull dir="lu"/>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mph" presetID="8">
                                  <p:stCondLst>
                                    <p:cond delay="0"/>
                                  </p:stCondLst>
                                  <p:childTnLst>
                                    <p:animRot by="21600000">
                                      <p:cBhvr>
                                        <p:cTn id="38" dur="2000" fill="hold"/>
                                        <p:tgtEl>
                                          <p:spTgt spid="6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icipatory approaches</a:t>
            </a:r>
            <a:br>
              <a:rPr sz="3200"/>
            </a:br>
            <a:endParaRPr b="0" lang="en-US" sz="3200" spc="-1" strike="noStrike">
              <a:solidFill>
                <a:srgbClr val="000532"/>
              </a:solidFill>
              <a:latin typeface="Arial"/>
            </a:endParaRPr>
          </a:p>
        </p:txBody>
      </p:sp>
      <p:sp>
        <p:nvSpPr>
          <p:cNvPr id="644" name="PlaceHolder 2"/>
          <p:cNvSpPr>
            <a:spLocks noGrp="1"/>
          </p:cNvSpPr>
          <p:nvPr>
            <p:ph/>
          </p:nvPr>
        </p:nvSpPr>
        <p:spPr>
          <a:xfrm>
            <a:off x="178920" y="1988640"/>
            <a:ext cx="8713800" cy="48690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to maximise stakeholder participation in any project/plan that may affect upon their lives </a:t>
            </a:r>
            <a:endParaRPr b="0" lang="en-US" sz="24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are essential to the whole process of any national TEEB study for all key stakeholder groups to be included in the decision making process</a:t>
            </a:r>
            <a:endParaRPr b="0" lang="en-US" sz="24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common participatory approaches for engagement are:</a:t>
            </a:r>
            <a:endParaRPr b="0" lang="en-US" sz="24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 stakeholder forum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meetings </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shops/capacity building programmes</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Collaboration</a:t>
            </a:r>
            <a:br>
              <a:rPr sz="3200"/>
            </a:br>
            <a:endParaRPr b="0" lang="en-US" sz="3200" spc="-1" strike="noStrike">
              <a:solidFill>
                <a:srgbClr val="000532"/>
              </a:solidFill>
              <a:latin typeface="Arial"/>
            </a:endParaRPr>
          </a:p>
        </p:txBody>
      </p:sp>
      <p:sp>
        <p:nvSpPr>
          <p:cNvPr id="646" name="PlaceHolder 2"/>
          <p:cNvSpPr>
            <a:spLocks noGrp="1"/>
          </p:cNvSpPr>
          <p:nvPr>
            <p:ph/>
          </p:nvPr>
        </p:nvSpPr>
        <p:spPr>
          <a:xfrm>
            <a:off x="250560" y="1700280"/>
            <a:ext cx="8713800" cy="4897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on encourages the partnering with a network of different stakeholder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the successful execution of a TEEB study, collaboration is essential between different stakeholder group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ant points of entry for initiating cooperation and partnerships could be:</a:t>
            </a:r>
            <a:endParaRPr b="0" lang="en-US" sz="24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od security/sovereignty</a:t>
            </a:r>
            <a:r>
              <a:rPr b="0" lang="en-GB" sz="2000" spc="-1" strike="noStrike">
                <a:solidFill>
                  <a:srgbClr val="000000"/>
                </a:solidFill>
                <a:latin typeface="Times New Roman"/>
              </a:rPr>
              <a:t> (Ministries of Environment and Agriculture)</a:t>
            </a:r>
            <a:endParaRPr b="0" lang="en-US" sz="20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ater scarcity</a:t>
            </a:r>
            <a:r>
              <a:rPr b="0" lang="en-GB" sz="2000" spc="-1" strike="noStrike">
                <a:solidFill>
                  <a:srgbClr val="000000"/>
                </a:solidFill>
                <a:latin typeface="Times New Roman"/>
              </a:rPr>
              <a:t> (Ministries of Environment, Energy and Health)</a:t>
            </a:r>
            <a:endParaRPr b="0" lang="en-US" sz="20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b creation, etc.</a:t>
            </a:r>
            <a:r>
              <a:rPr b="0" lang="en-GB" sz="2000" spc="-1" strike="noStrike">
                <a:solidFill>
                  <a:srgbClr val="000000"/>
                </a:solidFill>
                <a:latin typeface="Times New Roman"/>
              </a:rPr>
              <a:t> (Ministries of Environment and Tourism)</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Sharing lessons learned</a:t>
            </a:r>
            <a:endParaRPr b="0" lang="en-US" sz="3600" spc="-1" strike="noStrike">
              <a:solidFill>
                <a:srgbClr val="000532"/>
              </a:solidFill>
              <a:latin typeface="Arial"/>
            </a:endParaRPr>
          </a:p>
        </p:txBody>
      </p:sp>
      <p:sp>
        <p:nvSpPr>
          <p:cNvPr id="648" name="PlaceHolder 2"/>
          <p:cNvSpPr>
            <a:spLocks noGrp="1"/>
          </p:cNvSpPr>
          <p:nvPr>
            <p:ph/>
          </p:nvPr>
        </p:nvSpPr>
        <p:spPr>
          <a:xfrm>
            <a:off x="-360" y="1916280"/>
            <a:ext cx="5724360" cy="518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EEB national studies start to be executed around the world, important lessons could be learnt, encouraging and strengthening south-south cooperation</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 mechanisms for sharing lessons learnt could be foreseen via:</a:t>
            </a:r>
            <a:endParaRPr b="0" lang="en-US" sz="2400" spc="-1" strike="noStrike">
              <a:solidFill>
                <a:srgbClr val="000532"/>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ing a knowledge sharing platform and database</a:t>
            </a:r>
            <a:endParaRPr b="0" lang="en-US" sz="2000" spc="-1" strike="noStrike">
              <a:solidFill>
                <a:srgbClr val="000532"/>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ion of a regular e-newsletter/brief with relevant information</a:t>
            </a:r>
            <a:endParaRPr b="0" lang="en-US" sz="2000" spc="-1" strike="noStrike">
              <a:solidFill>
                <a:srgbClr val="000532"/>
              </a:solidFill>
              <a:latin typeface="Times New Roman"/>
            </a:endParaRPr>
          </a:p>
        </p:txBody>
      </p:sp>
      <p:pic>
        <p:nvPicPr>
          <p:cNvPr id="649" name="Picture 4" descr="DSCN0840"/>
          <p:cNvPicPr/>
          <p:nvPr/>
        </p:nvPicPr>
        <p:blipFill>
          <a:blip r:embed="rId1"/>
          <a:stretch/>
        </p:blipFill>
        <p:spPr>
          <a:xfrm>
            <a:off x="5651640" y="2349360"/>
            <a:ext cx="3492360" cy="2951280"/>
          </a:xfrm>
          <a:prstGeom prst="rect">
            <a:avLst/>
          </a:prstGeom>
          <a:ln w="0">
            <a:noFill/>
          </a:ln>
        </p:spPr>
      </p:pic>
      <p:sp>
        <p:nvSpPr>
          <p:cNvPr id="650" name="Rectangle 5"/>
          <p:cNvSpPr/>
          <p:nvPr/>
        </p:nvSpPr>
        <p:spPr>
          <a:xfrm>
            <a:off x="5364000" y="5229360"/>
            <a:ext cx="1657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CBD/TEEB Workshop Beiru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Group Exercise</a:t>
            </a:r>
            <a:endParaRPr b="0" lang="en-US" sz="3600" spc="-1" strike="noStrike">
              <a:solidFill>
                <a:srgbClr val="000532"/>
              </a:solidFill>
              <a:latin typeface="Arial"/>
            </a:endParaRPr>
          </a:p>
        </p:txBody>
      </p:sp>
      <p:sp>
        <p:nvSpPr>
          <p:cNvPr id="652" name="PlaceHolder 2"/>
          <p:cNvSpPr>
            <a:spLocks noGrp="1"/>
          </p:cNvSpPr>
          <p:nvPr>
            <p:ph/>
          </p:nvPr>
        </p:nvSpPr>
        <p:spPr>
          <a:xfrm>
            <a:off x="468360" y="1699920"/>
            <a:ext cx="8229600" cy="384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lan a community meeting!</a:t>
            </a:r>
            <a:r>
              <a:rPr b="1" lang="en-GB" sz="3200" spc="-1" strike="noStrike">
                <a:solidFill>
                  <a:srgbClr val="000000"/>
                </a:solidFill>
                <a:latin typeface="Times New Roman"/>
              </a:rPr>
              <a:t> </a:t>
            </a:r>
            <a:endParaRPr b="0" lang="en-US" sz="3200" spc="-1" strike="noStrike">
              <a:solidFill>
                <a:srgbClr val="000532"/>
              </a:solidFill>
              <a:latin typeface="Times New Roman"/>
            </a:endParaRPr>
          </a:p>
        </p:txBody>
      </p:sp>
      <p:pic>
        <p:nvPicPr>
          <p:cNvPr id="653" name="Picture 5" descr="5437994573_1bc4d146e5"/>
          <p:cNvPicPr/>
          <p:nvPr/>
        </p:nvPicPr>
        <p:blipFill>
          <a:blip r:embed="rId1"/>
          <a:stretch/>
        </p:blipFill>
        <p:spPr>
          <a:xfrm>
            <a:off x="2268360" y="2565360"/>
            <a:ext cx="4762800" cy="3171960"/>
          </a:xfrm>
          <a:prstGeom prst="rect">
            <a:avLst/>
          </a:prstGeom>
          <a:ln w="0">
            <a:noFill/>
          </a:ln>
        </p:spPr>
      </p:pic>
      <p:sp>
        <p:nvSpPr>
          <p:cNvPr id="654" name="Rectangle 6"/>
          <p:cNvSpPr/>
          <p:nvPr/>
        </p:nvSpPr>
        <p:spPr>
          <a:xfrm>
            <a:off x="2180520" y="5661000"/>
            <a:ext cx="1012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r>
              <a:rPr b="0" lang="en-US" sz="800" spc="-1" strike="noStrike">
                <a:solidFill>
                  <a:srgbClr val="000000"/>
                </a:solidFill>
                <a:latin typeface="Tahoma"/>
                <a:ea typeface="Arial"/>
              </a:rPr>
              <a:t>www.flickr.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2 Summary</a:t>
            </a:r>
            <a:endParaRPr b="0" lang="en-US" sz="3600" spc="-1" strike="noStrike">
              <a:solidFill>
                <a:srgbClr val="000532"/>
              </a:solidFill>
              <a:latin typeface="Arial"/>
            </a:endParaRPr>
          </a:p>
        </p:txBody>
      </p:sp>
      <p:sp>
        <p:nvSpPr>
          <p:cNvPr id="656" name="PlaceHolder 2"/>
          <p:cNvSpPr>
            <a:spLocks noGrp="1"/>
          </p:cNvSpPr>
          <p:nvPr>
            <p:ph/>
          </p:nvPr>
        </p:nvSpPr>
        <p:spPr>
          <a:xfrm>
            <a:off x="250920" y="1844640"/>
            <a:ext cx="8518320" cy="5013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Stakeholder engagement</a:t>
            </a:r>
            <a:r>
              <a:rPr b="0" lang="en-GB" sz="2400" spc="-1" strike="noStrike">
                <a:solidFill>
                  <a:srgbClr val="000000"/>
                </a:solidFill>
                <a:latin typeface="Times New Roman"/>
              </a:rPr>
              <a:t> is essential when planning and implementing a TEEB study and will allow for higher success rate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fore engaging it is important to </a:t>
            </a:r>
            <a:r>
              <a:rPr b="1" lang="en-GB" sz="2400" spc="-1" strike="noStrike" u="sng">
                <a:solidFill>
                  <a:srgbClr val="000000"/>
                </a:solidFill>
                <a:uFillTx/>
                <a:latin typeface="Times New Roman"/>
              </a:rPr>
              <a:t>map out</a:t>
            </a:r>
            <a:r>
              <a:rPr b="0" lang="en-GB" sz="2400" spc="-1" strike="noStrike">
                <a:solidFill>
                  <a:srgbClr val="000000"/>
                </a:solidFill>
                <a:latin typeface="Times New Roman"/>
              </a:rPr>
              <a:t> and analyse who the potential stakeholders could be and what are their interes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this information at hand will be able to:</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 you frame the TEEB study more effectivel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oritise well your stakeholder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the most appropriate engagement method</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Sharing lessons</a:t>
            </a:r>
            <a:r>
              <a:rPr b="0" lang="en-GB" sz="2400" spc="-1" strike="noStrike">
                <a:solidFill>
                  <a:srgbClr val="000000"/>
                </a:solidFill>
                <a:latin typeface="Times New Roman"/>
              </a:rPr>
              <a:t> learned across nations about best practices concerning TEEB implementation will be imperative as TEEB national studies move forward.</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Picture 4" descr="logo TEEB transparent print"/>
          <p:cNvPicPr/>
          <p:nvPr/>
        </p:nvPicPr>
        <p:blipFill>
          <a:blip r:embed="rId1"/>
          <a:stretch/>
        </p:blipFill>
        <p:spPr>
          <a:xfrm>
            <a:off x="2841480" y="907920"/>
            <a:ext cx="3969000" cy="3818160"/>
          </a:xfrm>
          <a:prstGeom prst="rect">
            <a:avLst/>
          </a:prstGeom>
          <a:ln w="0">
            <a:noFill/>
          </a:ln>
        </p:spPr>
      </p:pic>
      <p:sp>
        <p:nvSpPr>
          <p:cNvPr id="659"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41:02Z</dcterms:created>
  <dc:creator>KREBS</dc:creator>
  <dc:description/>
  <dc:language>en-US</dc:language>
  <cp:lastModifiedBy>KREBS</cp:lastModifiedBy>
  <dcterms:modified xsi:type="dcterms:W3CDTF">2013-08-05T13:42:27Z</dcterms:modified>
  <cp:revision>1</cp:revision>
  <dc:subject/>
  <dc:title>PowerPoint Presentation</dc:title>
</cp:coreProperties>
</file>