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9.png" ContentType="image/png"/>
  <Override PartName="/ppt/media/image11.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6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6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033D-805B-4EA1-A858-2C3529802820}"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cbd.int/sp/targets"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maweb.org/"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maweb.org/en/Index.aspx" TargetMode="External"/><Relationship Id="rId2" Type="http://schemas.openxmlformats.org/officeDocument/2006/relationships/hyperlink" Target="http://www.ecosystemassessments.net/initiatives.html"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361F-AAE5-45D6-AEC8-75962DFAA4F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66" name="PlaceHolder 1"/>
          <p:cNvSpPr>
            <a:spLocks noGrp="1"/>
          </p:cNvSpPr>
          <p:nvPr>
            <p:ph type="sldImg"/>
          </p:nvPr>
        </p:nvSpPr>
        <p:spPr>
          <a:xfrm>
            <a:off x="1144440" y="687240"/>
            <a:ext cx="4569120" cy="3427560"/>
          </a:xfrm>
          <a:prstGeom prst="rect">
            <a:avLst/>
          </a:prstGeom>
          <a:ln w="0">
            <a:noFill/>
          </a:ln>
        </p:spPr>
      </p:sp>
      <p:sp>
        <p:nvSpPr>
          <p:cNvPr id="667"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61E2-9F2D-449D-A286-8A1D0A9D4819}"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rstly </a:t>
            </a:r>
            <a:r>
              <a:rPr b="1" lang="en-GB" sz="1200" spc="-1" strike="noStrike" u="sng">
                <a:solidFill>
                  <a:srgbClr val="000000"/>
                </a:solidFill>
                <a:uFillTx/>
                <a:latin typeface="Calibri"/>
              </a:rPr>
              <a:t>explain</a:t>
            </a:r>
            <a:r>
              <a:rPr b="0" lang="en-GB" sz="1200" spc="-1" strike="noStrike">
                <a:solidFill>
                  <a:srgbClr val="000000"/>
                </a:solidFill>
                <a:latin typeface="Calibri"/>
              </a:rPr>
              <a:t> what the world bank WAVES programme is  - Wealth Accounting and the Valuation of Ecosystem Services  - detailing that it is a world bank led partnership that aims to promote sustainable development by ensuring that the national accounts used to measure and plan for economic growth include the value of natural resour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WAVES programme aims to implement environmental accounting where there are internationally-agreed standards, and develop standard approaches for other ecosystem service accou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partnership builds on efforts by TEEB, UN Green Economy, OECD Green Growth, Poverty Environment Initiative (UNDP/UNEP) and many others partners in academia, NGOs, national governments, and the private sector,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ze</a:t>
            </a:r>
            <a:r>
              <a:rPr b="0" lang="en-GB" sz="1200" spc="-1" strike="noStrike">
                <a:solidFill>
                  <a:srgbClr val="000000"/>
                </a:solidFill>
                <a:latin typeface="Calibri"/>
              </a:rPr>
              <a:t> that the programme, by working with central banks and ministries of finance and planning across the world to integrate natural resources into development planning through environmental accounting, intends to enable more informed decision making that can ensure genuine green growth and long-term advances in wealth and human well-be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a:t>
            </a:r>
            <a:r>
              <a:rPr b="0" lang="en-GB" sz="1200" spc="-1" strike="noStrike">
                <a:solidFill>
                  <a:srgbClr val="000000"/>
                </a:solidFill>
                <a:latin typeface="Calibri"/>
              </a:rPr>
              <a:t> how the concepts that underpin TEEB are very much embedded in the program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09DED-BFDF-4594-B4FD-D4E50357BB3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Run</a:t>
            </a:r>
            <a:r>
              <a:rPr b="0" lang="en-GB" sz="1200" spc="-1" strike="noStrike" u="sng">
                <a:solidFill>
                  <a:srgbClr val="000000"/>
                </a:solidFill>
                <a:uFillTx/>
                <a:latin typeface="Calibri"/>
              </a:rPr>
              <a:t> </a:t>
            </a:r>
            <a:r>
              <a:rPr b="0" lang="en-GB" sz="1200" spc="-1" strike="noStrike">
                <a:solidFill>
                  <a:srgbClr val="000000"/>
                </a:solidFill>
                <a:latin typeface="Calibri"/>
              </a:rPr>
              <a:t>a brief quiz to check for understanding of the course participants as well as to serve as a recap of what has been covered in the course so far.</a:t>
            </a:r>
            <a:endParaRPr b="0" lang="en-US" sz="1200" spc="-1" strike="noStrike">
              <a:solidFill>
                <a:srgbClr val="000000"/>
              </a:solidFill>
              <a:latin typeface="Calibri"/>
            </a:endParaRPr>
          </a:p>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questions could be on:</a:t>
            </a:r>
            <a:endParaRPr b="0" lang="en-US" sz="1200" spc="-1" strike="noStrike">
              <a:solidFill>
                <a:srgbClr val="000000"/>
              </a:solidFill>
              <a:latin typeface="Calibri"/>
            </a:endParaRPr>
          </a:p>
          <a:p>
            <a:pPr algn="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finitions of key terms throughout modules1, 2 and 3</a:t>
            </a:r>
            <a:endParaRPr b="0" lang="en-US" sz="12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examples of ecosystem services?</a:t>
            </a:r>
            <a:endParaRPr b="0" lang="en-US" sz="12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stats of biodiversity loss?</a:t>
            </a:r>
            <a:endParaRPr b="0" lang="en-US" sz="12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what is the TEEB approach?</a:t>
            </a:r>
            <a:endParaRPr b="0" lang="en-US" sz="12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what is a stakeholder and why are they important?</a:t>
            </a:r>
            <a:endParaRPr b="0" lang="en-US" sz="12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the conceptual framework most connected with TEEB?</a:t>
            </a:r>
            <a:endParaRPr b="0" lang="en-US" sz="12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the challenges and opportunities of ecosystem valuation?</a:t>
            </a:r>
            <a:endParaRPr b="0" lang="en-US" sz="12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Examples of where theory has been put into practice?</a:t>
            </a:r>
            <a:endParaRPr b="0" lang="en-US" sz="12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C89C-F5F9-49EC-B343-F1D327928E2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 </a:t>
            </a:r>
            <a:r>
              <a:rPr b="1" lang="en-GB" sz="1200" spc="-1" strike="noStrike" u="sng">
                <a:solidFill>
                  <a:srgbClr val="000000"/>
                </a:solidFill>
                <a:uFillTx/>
                <a:latin typeface="Calibri"/>
                <a:ea typeface="SimSun"/>
              </a:rPr>
              <a:t>Review</a:t>
            </a:r>
            <a:r>
              <a:rPr b="0" lang="en-GB" sz="1200" spc="-1" strike="noStrike">
                <a:solidFill>
                  <a:srgbClr val="000000"/>
                </a:solidFill>
                <a:latin typeface="Calibri"/>
                <a:ea typeface="SimSun"/>
              </a:rPr>
              <a:t> the key points of the module and highlight what has been learned so f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Ask</a:t>
            </a:r>
            <a:r>
              <a:rPr b="0" lang="en-US" sz="1200" spc="-1" strike="noStrike">
                <a:solidFill>
                  <a:srgbClr val="000000"/>
                </a:solidFill>
                <a:latin typeface="Calibri"/>
                <a:ea typeface="SimSun"/>
              </a:rPr>
              <a:t> participants if they have any questions etc on what has been covered</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73EED-FD57-4432-B512-0065C276C5D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02" name="PlaceHolder 1"/>
          <p:cNvSpPr>
            <a:spLocks noGrp="1"/>
          </p:cNvSpPr>
          <p:nvPr>
            <p:ph type="sldImg"/>
          </p:nvPr>
        </p:nvSpPr>
        <p:spPr>
          <a:xfrm>
            <a:off x="1144440" y="687240"/>
            <a:ext cx="4569120" cy="3427560"/>
          </a:xfrm>
          <a:prstGeom prst="rect">
            <a:avLst/>
          </a:prstGeom>
          <a:ln w="0">
            <a:noFill/>
          </a:ln>
        </p:spPr>
      </p:sp>
      <p:sp>
        <p:nvSpPr>
          <p:cNvPr id="703"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CFFB7-7E3C-4151-BF7D-2DB62ECB1B9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the concepts laid out above are already being utilized to inform the development of global action plans and various initiatives which aim to combat global biodiversity loss as well as the many social repercussions of this loss. TEEB is one of these initiatives but let’s look at some of the others that are already taking plac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rstly </a:t>
            </a:r>
            <a:r>
              <a:rPr b="1" lang="en-GB" sz="1200" spc="-1" strike="noStrike" u="sng">
                <a:solidFill>
                  <a:srgbClr val="000000"/>
                </a:solidFill>
                <a:uFillTx/>
                <a:latin typeface="Calibri"/>
              </a:rPr>
              <a:t>talk through</a:t>
            </a:r>
            <a:r>
              <a:rPr b="0" lang="en-GB" sz="1200" spc="-1" strike="noStrike">
                <a:solidFill>
                  <a:srgbClr val="000000"/>
                </a:solidFill>
                <a:latin typeface="Calibri"/>
              </a:rPr>
              <a:t> the CBDs Strategic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at the 2010 CBD Conference of Parties (COP 10) meeting in Nagoya the worlds governments gathered together and agreed upon a strategic plan for 2020.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ghlight that the need to recognise and capture the value of biodiversity, ecosystems and ecosystem services is embedded in the core vision of this plan –  reflecting the TEEB approach</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how this Strategic plan is divided into five strategic goals. The very first of these (which is most relevant to TEEB) is the goal of addressing the underlying causes of biodiversity loss by mainstreaming biodiversity across government and society. Three of these targets (otherwise known as Aichi targets) associated with this goal are directly related to ecosystem services and the value of these services to socie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me examples of the </a:t>
            </a:r>
            <a:r>
              <a:rPr b="0" lang="en-US" sz="1200" spc="-1" strike="noStrike" u="sng">
                <a:solidFill>
                  <a:srgbClr val="0000ff"/>
                </a:solidFill>
                <a:uFillTx/>
                <a:latin typeface="Calibri"/>
                <a:hlinkClick r:id="rId1"/>
              </a:rPr>
              <a:t>Aichi Biodiversity Targets</a:t>
            </a:r>
            <a:r>
              <a:rPr b="1" lang="en-US" sz="1200" spc="-1" strike="noStrike">
                <a:solidFill>
                  <a:srgbClr val="000000"/>
                </a:solidFill>
                <a:latin typeface="Calibri"/>
              </a:rPr>
              <a:t> are</a:t>
            </a:r>
            <a:r>
              <a:rPr b="0" lang="en-US" sz="1200" spc="-1" strike="noStrike">
                <a:solidFill>
                  <a:srgbClr val="000000"/>
                </a:solidFill>
                <a:latin typeface="Calibri"/>
              </a:rPr>
              <a:t>: </a:t>
            </a:r>
            <a:br>
              <a:rPr sz="1200"/>
            </a:br>
            <a:r>
              <a:rPr b="0" lang="en-US" sz="1200" spc="-1" strike="noStrike">
                <a:solidFill>
                  <a:srgbClr val="000000"/>
                </a:solidFill>
                <a:latin typeface="Calibri"/>
              </a:rPr>
              <a:t>1)At least halve and, where feasible, bring close to zero the rate of loss of natural habitats, including for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Establish a conservation target of 17% of terrestrial and inland water areas and 10% of marine and coastal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Restore at least 15% of degraded areas through conservation and restoration activ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Make special efforts to reduce the pressures faced by coral reefs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BD3C-1F0D-4590-BB5D-88F307AB903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Run </a:t>
            </a:r>
            <a:r>
              <a:rPr b="0" lang="en-US" sz="1200" spc="-1" strike="noStrike">
                <a:solidFill>
                  <a:srgbClr val="000000"/>
                </a:solidFill>
                <a:latin typeface="Calibri"/>
              </a:rPr>
              <a:t>through the Aichi targets (1 – 3) relevant to the value of ecosystem services to socie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Target 1:</a:t>
            </a:r>
            <a:r>
              <a:rPr b="0" lang="en-US" sz="1200" spc="-1" strike="noStrike">
                <a:solidFill>
                  <a:srgbClr val="000000"/>
                </a:solidFill>
                <a:latin typeface="Calibri"/>
              </a:rPr>
              <a:t> By 2020, at the latest, people are aware of the values of biodiversity and the steps they can take to conserve and use it sustainabl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Target 2:</a:t>
            </a:r>
            <a:r>
              <a:rPr b="0" lang="en-US" sz="1200" spc="-1" strike="noStrike">
                <a:solidFill>
                  <a:srgbClr val="000000"/>
                </a:solidFill>
                <a:latin typeface="Calibri"/>
              </a:rPr>
              <a:t> By 2020, at the latest, biodiversity values have been integrated into national and local development and poverty reduction strategies and planning processes and are being incorporated into national accounting, as appropriate, and reporting system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Target 3</a:t>
            </a:r>
            <a:r>
              <a:rPr b="0" lang="en-US" sz="1200" spc="-1" strike="noStrike">
                <a:solidFill>
                  <a:srgbClr val="000000"/>
                </a:solidFill>
                <a:latin typeface="Calibri"/>
              </a:rPr>
              <a:t>: By 2020, at the latest, incentives, including subsidies, harmful to biodiversity are eliminated, phased out or reformed in order to minimize or avoid negative impacts, and positive incentives for the conservation and sustainable use of biodiversity are developed and applied, consistent and in harmony with the Convention and other relevant international obligations, taking into account national socio economic conditions.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CA12-A743-482F-9763-673F1113C582}"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ea typeface="SimSun"/>
              </a:rPr>
              <a:t>Highlight</a:t>
            </a:r>
            <a:r>
              <a:rPr b="0" lang="en-GB" sz="1200" spc="-1" strike="noStrike">
                <a:solidFill>
                  <a:srgbClr val="000000"/>
                </a:solidFill>
                <a:latin typeface="Calibri"/>
                <a:ea typeface="SimSun"/>
              </a:rPr>
              <a:t> that, within the context of the CBD strategies plan, TEEB is an approach which is seen as an important tool for mainstreaming biodiversity and integrating values into relevant strategies and national policy processes e.g. the revision of national biodiversity strategies and action plans</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Explain</a:t>
            </a:r>
            <a:r>
              <a:rPr b="0" lang="en-US" sz="1200" spc="-1" strike="noStrike">
                <a:solidFill>
                  <a:srgbClr val="000000"/>
                </a:solidFill>
                <a:latin typeface="Calibri"/>
                <a:ea typeface="SimSun"/>
              </a:rPr>
              <a:t> that </a:t>
            </a:r>
            <a:r>
              <a:rPr b="0" lang="en-GB" sz="1300" spc="-1" strike="noStrike">
                <a:solidFill>
                  <a:srgbClr val="ffffff"/>
                </a:solidFill>
                <a:latin typeface="Calibri"/>
                <a:ea typeface="SimSun"/>
              </a:rPr>
              <a:t>the Strategic</a:t>
            </a:r>
            <a:r>
              <a:rPr b="0" lang="en-GB" sz="1300" spc="-1" strike="noStrike">
                <a:solidFill>
                  <a:srgbClr val="ffffff"/>
                </a:solidFill>
                <a:latin typeface="Calibri"/>
              </a:rPr>
              <a:t> plan was also used in the COP 11 decision-making processes in Hyderabad, India (2012) by providing a platform for governments to </a:t>
            </a:r>
            <a:r>
              <a:rPr b="0" lang="en-US" sz="1300" spc="-1" strike="noStrike">
                <a:solidFill>
                  <a:srgbClr val="ffffff"/>
                </a:solidFill>
                <a:latin typeface="Calibri"/>
                <a:ea typeface="SimSun"/>
              </a:rPr>
              <a:t>develop, implement and communicate the results of their national strategies.</a:t>
            </a:r>
            <a:endParaRPr b="0" lang="en-US" sz="13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Highlight</a:t>
            </a:r>
            <a:r>
              <a:rPr b="0" lang="en-US" sz="1200" spc="-1" strike="noStrike">
                <a:solidFill>
                  <a:srgbClr val="000000"/>
                </a:solidFill>
                <a:latin typeface="Calibri"/>
                <a:ea typeface="SimSun"/>
              </a:rPr>
              <a:t> that </a:t>
            </a:r>
            <a:r>
              <a:rPr b="0" lang="en-GB" sz="1300" spc="-1" strike="noStrike">
                <a:solidFill>
                  <a:srgbClr val="ffffff"/>
                </a:solidFill>
                <a:latin typeface="Calibri"/>
              </a:rPr>
              <a:t>TEEB was explicitly referenced in several decisions, for example: Stakeholder engagement, incentive measures and business</a:t>
            </a:r>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FBBD8-C622-44D0-BD04-60199800AC7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is text on slide and in these notes below is currently a </a:t>
            </a:r>
            <a:r>
              <a:rPr b="1" lang="en-GB" sz="1200" spc="-1" strike="noStrike" u="sng">
                <a:solidFill>
                  <a:srgbClr val="000000"/>
                </a:solidFill>
                <a:uFillTx/>
                <a:latin typeface="Calibri"/>
              </a:rPr>
              <a:t>place holder</a:t>
            </a:r>
            <a:r>
              <a:rPr b="1" lang="en-GB" sz="1200" spc="-1" strike="noStrike">
                <a:solidFill>
                  <a:srgbClr val="000000"/>
                </a:solidFill>
                <a:latin typeface="Calibri"/>
              </a:rPr>
              <a:t> and will be updated with more up to date information in due cou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how, in response to the global consensus on the need to recognize, demonstrate and capture the value of biodiversity and ecosystem services, there is rapidly growing interest in promoting what many call a “green econom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Define </a:t>
            </a:r>
            <a:r>
              <a:rPr b="0" lang="en-GB" sz="1200" spc="-1" strike="noStrike">
                <a:solidFill>
                  <a:srgbClr val="000000"/>
                </a:solidFill>
                <a:latin typeface="Calibri"/>
              </a:rPr>
              <a:t>a green economy using UNEPs definition: “one that results in improved human well-being and social equity, while significantly reducing environmental risks and ecological scarcities. In its simplest expression, a green economy can be thought of as one which is low carbon, resource efficient and socially inclusive” (UNEP 2011).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how the most distinguishing feature of a green economy is the full valuation of ecosystem services and a full cost accounting of biodiversity, where the costs of biodiversity loss are fully integrated into socie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a:t>
            </a:r>
            <a:r>
              <a:rPr b="0" lang="en-GB" sz="1200" spc="-1" strike="noStrike">
                <a:solidFill>
                  <a:srgbClr val="000000"/>
                </a:solidFill>
                <a:latin typeface="Calibri"/>
              </a:rPr>
              <a:t> that the idea behind valuing nature, therefore, is a critical part of any transition to a green economy where TEEB can assist with the more general application of the green economy approach.</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Provide</a:t>
            </a:r>
            <a:r>
              <a:rPr b="0" lang="en-GB" sz="1200" spc="-1" strike="noStrike">
                <a:solidFill>
                  <a:srgbClr val="000000"/>
                </a:solidFill>
                <a:latin typeface="Calibri"/>
              </a:rPr>
              <a:t> an example, explaining that actors in economic sectors such as agriculture, fisheries, forestry and water, have a fundamental interest in safeguarding their sector’s natural asset base. In addition, the engagement of all economic sectors in the transition to a green economy is of key importance if the productive and regenerative capacity of nature is to be preserved or augmented. Understanding the dependence of economic sectors on nature and the opportunities to minimize their impacts on the environment is therefore crucial for a successful transition to a green econom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ea typeface="SimSun"/>
              </a:rPr>
              <a:t>Finish</a:t>
            </a:r>
            <a:r>
              <a:rPr b="0" lang="en-GB" sz="1200" spc="-1" strike="noStrike">
                <a:solidFill>
                  <a:srgbClr val="000000"/>
                </a:solidFill>
                <a:latin typeface="Calibri"/>
                <a:ea typeface="SimSun"/>
              </a:rPr>
              <a:t> by concluding that examples of green economies vary widely around the world, however they do share some common characteristics, and the idea of green economies now enjoys widespread support among key world bodies, including the OECD, World Bank and UN agencies, as well as several influential countries.</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171E-14F2-4236-8F6A-CDB9413B2469}"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a:t>
            </a:r>
            <a:r>
              <a:rPr b="1" lang="en-GB" sz="1200" spc="-1" strike="noStrike" u="sng">
                <a:solidFill>
                  <a:srgbClr val="000000"/>
                </a:solidFill>
                <a:uFillTx/>
                <a:latin typeface="Calibri"/>
              </a:rPr>
              <a:t>xplain</a:t>
            </a:r>
            <a:r>
              <a:rPr b="0" lang="en-GB" sz="1200" spc="-1" strike="noStrike">
                <a:solidFill>
                  <a:srgbClr val="000000"/>
                </a:solidFill>
                <a:latin typeface="Calibri"/>
              </a:rPr>
              <a:t> that the Project for Ecosystem Services (ProEcoServ) is a GEF-funded umbrella project which aims at piloting the bundling of ecosystem services and the integration of ecosystem services approaches into resource management and decision makin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 </a:t>
            </a:r>
            <a:r>
              <a:rPr b="0" lang="en-GB" sz="1200" spc="-1" strike="noStrike">
                <a:solidFill>
                  <a:srgbClr val="000000"/>
                </a:solidFill>
                <a:latin typeface="Calibri"/>
              </a:rPr>
              <a:t>that the projects overall goal is to better integrate ecosystem assessment and economic valuation of ecosystem services into sustainable national development plan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the project builds on studies undertaken as part of the </a:t>
            </a:r>
            <a:r>
              <a:rPr b="0" lang="en-GB" sz="1200" spc="-1" strike="noStrike" u="sng">
                <a:solidFill>
                  <a:srgbClr val="0000ff"/>
                </a:solidFill>
                <a:uFillTx/>
                <a:latin typeface="Calibri"/>
                <a:hlinkClick r:id="rId1"/>
              </a:rPr>
              <a:t>Millennium Ecosystem Assessment (MA)</a:t>
            </a:r>
            <a:r>
              <a:rPr b="0" lang="en-GB" sz="1200" spc="-1" strike="noStrike">
                <a:solidFill>
                  <a:srgbClr val="000000"/>
                </a:solidFill>
                <a:latin typeface="Calibri"/>
              </a:rPr>
              <a:t> where five selected countries will focus on a) site-specific assessments; b) close involvement of national and local stakeholders; and c) tools, models and methods for decision makers and policy implementation to mainstream ecosystem management approaches into national development polic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project intends to develop the capacities of decision makers, users and beneficiaries of ecosystem services to assess trade-offs and development choices that contribute to strengthened biodiversity and ecosystem resilience, and to develop and apply appropriate ecosystem management tools within sectoral planning frameworks and macroeconomic planning mode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 </a:t>
            </a:r>
            <a:r>
              <a:rPr b="0" lang="en-GB" sz="1200" spc="-1" strike="noStrike">
                <a:solidFill>
                  <a:srgbClr val="000000"/>
                </a:solidFill>
                <a:latin typeface="Calibri"/>
              </a:rPr>
              <a:t>that within the overall ProEcoServ approach, each country will develop its specific set of activities, taking into account the particularities of the national institutional and policy framework as well as its ecosystems, e.g. by focusing on a few select regulating ecosystem services in decline - often strongly affected by the overuse of provisioning ecosystem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E789-2C52-46A7-B539-2DDD1F076498}"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a:t>
            </a:r>
            <a:r>
              <a:rPr b="1" lang="en-GB" sz="1200" spc="-1" strike="noStrike" u="sng">
                <a:solidFill>
                  <a:srgbClr val="000000"/>
                </a:solidFill>
                <a:uFillTx/>
                <a:latin typeface="Calibri"/>
              </a:rPr>
              <a:t>xplain</a:t>
            </a:r>
            <a:r>
              <a:rPr b="0" lang="en-GB" sz="1200" spc="-1" strike="noStrike">
                <a:solidFill>
                  <a:srgbClr val="000000"/>
                </a:solidFill>
                <a:latin typeface="Calibri"/>
              </a:rPr>
              <a:t> that the SGA Network was established in 2007, UNEP, in collaboration with a consortium of partners and that the network aims to provide ongoing support to SGAs catalyzed either during the course of the </a:t>
            </a:r>
            <a:r>
              <a:rPr b="0" lang="en-GB" sz="1200" spc="-1" strike="noStrike" u="sng">
                <a:solidFill>
                  <a:srgbClr val="0000ff"/>
                </a:solidFill>
                <a:uFillTx/>
                <a:latin typeface="Calibri"/>
                <a:hlinkClick r:id="rId1"/>
              </a:rPr>
              <a:t>Millennium Ecosystem Assessment </a:t>
            </a:r>
            <a:r>
              <a:rPr b="0" lang="en-GB" sz="1200" spc="-1" strike="noStrike">
                <a:solidFill>
                  <a:srgbClr val="000000"/>
                </a:solidFill>
                <a:latin typeface="Calibri"/>
              </a:rPr>
              <a:t>projec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also that since 2007, there has been a significant increase in the number of sub-global assessment initiatives emerging around the world, and the need for greater emphasis to be placed on building the capacity of ecosystem assessment practitioners to undertake SGAs has been made cle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the SGA Network also aims to support global processes such as the </a:t>
            </a:r>
            <a:r>
              <a:rPr b="0" lang="en-GB" sz="1200" spc="-1" strike="noStrike" u="sng">
                <a:solidFill>
                  <a:srgbClr val="0000ff"/>
                </a:solidFill>
                <a:uFillTx/>
                <a:latin typeface="Calibri"/>
                <a:hlinkClick r:id="rId2"/>
              </a:rPr>
              <a:t>Intergovernmental Science-Policy Platform on Biodiversity and Ecosystem Services</a:t>
            </a:r>
            <a:r>
              <a:rPr b="0" lang="en-GB" sz="1200" spc="-1" strike="noStrike">
                <a:solidFill>
                  <a:srgbClr val="000000"/>
                </a:solidFill>
                <a:latin typeface="Calibri"/>
              </a:rPr>
              <a:t> (IPBES), by providing a network of assessment practitioners and carrying out a range of capacity building activit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a:t>
            </a:r>
            <a:r>
              <a:rPr b="0" lang="en-GB" sz="1200" spc="-1" strike="noStrike">
                <a:solidFill>
                  <a:srgbClr val="000000"/>
                </a:solidFill>
                <a:latin typeface="Calibri"/>
              </a:rPr>
              <a:t> that the SGA Network, currently hosted by a Secretariat which operates through a joint arrangement between the UNEP World Conservation Monitoring Centre (UNEP-WCMC) and The Cropper Foundation (TCF).</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1A13A-F93D-4A49-A8FD-6C84E9980FD8}"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1" lang="en-US" sz="1200" spc="-1" strike="noStrike">
                <a:solidFill>
                  <a:srgbClr val="000000"/>
                </a:solidFill>
                <a:latin typeface="Calibri"/>
              </a:rPr>
              <a:t> </a:t>
            </a:r>
            <a:r>
              <a:rPr b="0" lang="en-US" sz="1200" spc="-1" strike="noStrike">
                <a:solidFill>
                  <a:srgbClr val="000000"/>
                </a:solidFill>
                <a:latin typeface="Calibri"/>
              </a:rPr>
              <a:t>that the Natural Capital Project—a partnership among WWF, The Nature Conservancy, University of Minnesota and Stanford University—works to provide decision makers with reliable ways to assess the true value of the services that ecosystems provid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that the essential element of the Natural Capital Project is developing tools that help decision makers protect biodiversity and ecosystem services. The project also develop tools for quantifying the values of natural capital in clear, credible, and practical way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Provide</a:t>
            </a:r>
            <a:r>
              <a:rPr b="0" lang="en-US" sz="1200" spc="-1" strike="noStrike">
                <a:solidFill>
                  <a:srgbClr val="000000"/>
                </a:solidFill>
                <a:latin typeface="Calibri"/>
              </a:rPr>
              <a:t> an example of one of these tools using the </a:t>
            </a:r>
            <a:r>
              <a:rPr b="1" lang="en-US" sz="1200" spc="-1" strike="noStrike">
                <a:solidFill>
                  <a:srgbClr val="000000"/>
                </a:solidFill>
                <a:latin typeface="Calibri"/>
              </a:rPr>
              <a:t>InVEST </a:t>
            </a:r>
            <a:r>
              <a:rPr b="0" lang="en-US" sz="1200" spc="-1" strike="noStrike">
                <a:solidFill>
                  <a:srgbClr val="000000"/>
                </a:solidFill>
                <a:latin typeface="Calibri"/>
              </a:rPr>
              <a:t>exam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 family of software-based tools for Integrated Valuation of Environmental Services and Tradeoffs, </a:t>
            </a:r>
            <a:r>
              <a:rPr b="0" lang="en-US" sz="1300" spc="-1" strike="noStrike">
                <a:solidFill>
                  <a:srgbClr val="ffffff"/>
                </a:solidFill>
                <a:latin typeface="Calibri"/>
              </a:rPr>
              <a:t>which allows decision-makers to:</a:t>
            </a:r>
            <a:endParaRPr b="0" lang="en-US" sz="13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1)quantify the importance of natural capital</a:t>
            </a:r>
            <a:endParaRPr b="0" lang="en-US" sz="14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assess the tradeoffs associated with alternative choices</a:t>
            </a:r>
            <a:endParaRPr b="0" lang="en-US" sz="14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3)integrate conservation and human development </a:t>
            </a: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Provide</a:t>
            </a:r>
            <a:r>
              <a:rPr b="1" lang="en-US" sz="1200" spc="-1" strike="noStrike">
                <a:solidFill>
                  <a:srgbClr val="000000"/>
                </a:solidFill>
                <a:latin typeface="Calibri"/>
              </a:rPr>
              <a:t> </a:t>
            </a:r>
            <a:r>
              <a:rPr b="0" lang="en-US" sz="1200" spc="-1" strike="noStrike">
                <a:solidFill>
                  <a:srgbClr val="000000"/>
                </a:solidFill>
                <a:latin typeface="Calibri"/>
              </a:rPr>
              <a:t>examples of the Natural Capital Project work using their INVEST project t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nvest Examples include: The project helping to implement China's new system of reserves spanning 24% of the country, aimed at securing both natural capital and human well-being; to working with indigenous communities in strategic planning of land and ocean resource uses so as to balance conflicting val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D75E-D51D-4BF5-83EF-F7278D37F97C}"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Calibri"/>
              </a:rPr>
              <a:t>Explain</a:t>
            </a:r>
            <a:r>
              <a:rPr b="0" lang="en-GB" sz="1000" spc="-1" strike="noStrike">
                <a:solidFill>
                  <a:srgbClr val="000000"/>
                </a:solidFill>
                <a:latin typeface="Calibri"/>
              </a:rPr>
              <a:t> that this UNDP initiative, which was launched in 2008, sought to assess and communicate the economic contribution of biodiversity and ecosystems services to development and equity in Latin America and the Caribbean. </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Calibri"/>
              </a:rPr>
              <a:t>Detail</a:t>
            </a:r>
            <a:r>
              <a:rPr b="0" lang="en-GB" sz="1000" spc="-1" strike="noStrike">
                <a:solidFill>
                  <a:srgbClr val="000000"/>
                </a:solidFill>
                <a:latin typeface="Calibri"/>
              </a:rPr>
              <a:t> that its final report, released in 2010, highlighted the importance of the region’s endowment of natural capital as a source of economic growth, noting that the region has the potential to become the world leader in offering services provided by its ecosystems and biodiversity, and in return receive new benefits from conservation and sustainable management. The report recommends new policies that promise to transform the traditional model of development – one that often disregards environmental costs – into a new paradigm that recognizes the value of services provided by healthy, fully functioning ecosystem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Calibri"/>
              </a:rPr>
              <a:t>Emphasize</a:t>
            </a:r>
            <a:r>
              <a:rPr b="0" lang="en-GB" sz="1000" spc="-1" strike="noStrike">
                <a:solidFill>
                  <a:srgbClr val="000000"/>
                </a:solidFill>
                <a:latin typeface="Calibri"/>
              </a:rPr>
              <a:t> the fact that the UNDP report takes a sectorial approach which highlights the hidden costs and hidden opportunities of ecosystem services by individual economic sectors. </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Calibri"/>
              </a:rPr>
              <a:t>Explain</a:t>
            </a:r>
            <a:r>
              <a:rPr b="0" lang="en-GB" sz="1000" spc="-1" strike="noStrike">
                <a:solidFill>
                  <a:srgbClr val="000000"/>
                </a:solidFill>
                <a:latin typeface="Calibri"/>
              </a:rPr>
              <a:t> that the report applies a sectorial scenario analysis (SSA) approach: for each sector analysis, the report develops a “Business as Usual” scenario and a “sustainable ecosystem management” scenario (SEM), and compares the two. The report demonstrates that the SEM has, for many sectors, considerable long-term advantages and provides a number of recommendations to move towards sustainable management.</a:t>
            </a:r>
            <a:endParaRPr b="0" lang="en-US" sz="10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CEA3D-06AA-4ED6-808F-DB425E583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6E0DF-BD9D-4893-B1F2-B4E044B3F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644A49-25E3-4697-8783-BDC93CCC33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2081E3-D202-452B-BDAC-DC4E5C48B2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81463B-1094-4945-A5E3-0D24818CC8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3D1BE8-7A04-4DFD-9298-7FE6341853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4AED0A-EC11-4446-B895-677FCFBFD8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7613E2-B657-41C5-8313-D528BFBF1D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1C0675-A83F-4BBD-A83C-0850939F0F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8C7762-3DEC-475D-A6AE-391B9875BD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7C1A3E-EC6C-42A4-A00A-57F3FEB8BA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8B7020B-83DB-4582-9BA8-27FC61505FE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D836A-6337-4832-B9CC-502F1377E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870863B-02A4-4964-A88F-1EA89D3776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AA79AA-FF86-40F6-9FC3-7EB7A68059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B01415-2915-4AAE-9BAB-837743DDD5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8EAB6C-4FF8-4D74-8A49-A48F86EA80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F2EDAE-92CE-4A46-97BD-E60EB504DE2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7D050F-CA89-4AD3-B616-9A36F52AA8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C3083E-DB98-4A85-AFD8-3CAFD4B591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0762A6-E357-4B02-97FA-B4C122AF38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4E5DC0-18AA-4E4C-AE21-92AAD37CD8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304F224-9C8E-49A8-B155-551DF25DE57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F9F29-1CC1-484D-8513-E6358EBAC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23F3898-0A3E-4C88-BD30-EF37DA10690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BEB518E-0FEA-481E-BAB3-45C37EA5F97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9143DC-0EE5-4995-8567-3F5159F860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5AF033-9389-4F5F-AC8C-362EF818E1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440366-098E-4BF0-A28B-DF85CF5E23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48FEB8-7199-447C-92E1-8299FAB4DE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956B31-5FFF-4530-96CE-3A241C8E3A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428FB7-7854-479B-A90E-7F3876D813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CC1E02-00A4-4BFB-A28A-F666A63E6A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C32E7A-FAFE-4C74-9607-AF2A17B704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2E67A-E65A-4E4F-9381-BE2FBBDFC0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C4C959-5770-459A-AD05-25962E2B27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B65E108-493E-4A87-BFD7-E8DF5719E28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AFF101F-E658-4075-9EC9-7865EB6FA77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E076DD2-9F8D-4C9D-B816-F33634F09BB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BD5182D-83D0-4022-BA35-6A77EC3287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8A96A55-2160-443F-9333-013CCADD8F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E21FD0-8031-4C35-BC75-F307F9082DF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5F7BFC4-FA7E-4042-A85A-4D681314473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35F70EB-CCF5-451C-B087-18BE401634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A4E500-4877-4F43-802E-842DD829F1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88E0C-21BA-439B-8AD5-225CECF7E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BB87D1-4D84-4924-8693-70296F1808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9B61EC7-A731-4256-A741-CCD998ABC9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92EB14-50A0-4F0D-9299-F39C6C6C8E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973A508-B724-4C7D-AD58-FF7D1743714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DF042C5-6FC6-4FCA-8A58-BFD93CA3276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F2F29C6-527F-4280-B41F-735104E70DD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D4C3A07-B192-4234-931E-3726906B9DD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DD5DC08-35D6-4562-9158-37EC6377C10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9496C35-8129-48C1-A10E-5E510AA1F8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2452983-F100-4BC8-81D5-606766C34F8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3DADF-271D-4099-A438-C49081A94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6A4434E-BE20-4E95-97B0-7137874AE4B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FAC41F-F3D1-485B-9943-7AAC9F4E81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5F3862-B10C-4FEB-BE65-55796F6BBC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7B7082F-B8E5-48E9-ABB4-2C150ED21E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D12633A-8D27-4E7E-81F9-A7086D70C02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B0B324C-944A-4433-B36B-78C1F63833F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746EE60-8578-430B-89A0-3C9FC23F0DB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B462718-1C00-4283-83DF-EF7271C01C6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40987D3-CEC1-427F-826F-8B8A3625257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66E5FD1-A54A-4271-9678-39FA5B7E4F2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50267-E069-4C1F-ADDC-8E18145CB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56EACD2-F50D-41AB-A58E-DE83D382B3C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90D5BA1-478F-469A-A71C-8310BB56086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BD07C34-A31F-4CA5-A58E-23226707AD3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16346D-361D-4EE1-9B23-619443B9DED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A498AD0-AC27-4DA9-9A72-62F3DCFD322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7994D46-1BEF-4BC8-80DF-854CBE1F56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2DDAB78-735F-4917-8B53-33D2961909D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915C600-2012-415E-ABAA-070E8B734DB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1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8D89B2C-43C9-4825-96CB-842B8057ED7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E2C25-599F-40BF-93E7-D62B3FC7E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9417B-3EEA-4197-9081-524844EF6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AD5FA-F1D1-4AB6-92DE-EBCA7709D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0CD69-6084-48EE-8EC7-E9FE198D1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61B01-AF65-4B85-87B3-D73C2020B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99F67-E20B-4CA2-8722-5E7D8DAB1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F5D78-B424-4E19-A4CD-181E9BB73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245243-BF7B-4CA6-A4FC-CC0E51C90E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8FE189-9844-4318-8656-87DFF0DC80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928C2D-300E-41A8-B237-DE86DDD879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C61B06-B54B-4A58-A34B-F54F566E56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8A54B3-AE9F-4AA5-8DC2-08233B7E75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84E571-BE30-4C3D-A573-699B210F2B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33B596-B573-4AA2-A730-035CF0E838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D17D1-6CCB-4D38-A7F1-B781F2C1C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2A5667-0569-4C4D-9857-5F99197B49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F2F4AD-CAB4-4D81-94A3-51F16E436D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8987D2-1E26-42F2-93A3-C8A785F34C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D84E75-6682-403A-8992-EB380AA3A1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9FE6E7-7270-45DF-96BD-B879A56FAD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C2C91A-8402-4702-9104-08261C99B2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BD11AA-94EA-4C28-AA57-4B0C51A2F1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36F14F-06FF-47EF-999B-919FC90330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D9A471-65A5-4312-A5FF-3C0CFF2AE7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B0BC4B-6965-40E5-806B-8CD38B5F44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527FF-43D0-46C0-BDC6-3F7D81531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31A33E-29A3-446B-ACE6-5422BAD3FD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275146-6236-4070-9A40-9BA1496694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C4036A-60CE-4F05-B8DA-09C745FD12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106229-1E1A-4314-B680-DC0A48DE98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505E21-59F8-400C-A9C1-A33BCCF3E2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0632FE-A2BC-4B4E-8367-44FCE619CC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18178E-D26C-4338-BE35-B653DDAAE1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B7398E-2496-43C3-BF89-13DCF4D06E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0AD67F-9238-4A7A-BF51-1FE0A1B466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D911C4-FFF1-44AC-9941-3C804E7DD1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A7FB0-F632-4EA7-99C5-6886C2F18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D74F83-83DC-42C4-8DE0-962BD91F07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4AE294-5F0D-4F70-93C0-6BCDE9272A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463B56-67A0-48FE-9E4A-869DC250A7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5C25EF-7AE6-4E51-88B3-A073E8C503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D3956D-0301-442E-8482-4DCC2FC754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3DF40C-4276-4C1C-A43B-B7A72B124B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666D99-C894-40DC-8494-F6EC599409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540A83-9B6F-43CA-867C-588A360365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DDDCC7-93F2-4BBB-A60E-B19786AC95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0F5834-6E0E-4E4F-8765-F9C53C2A7C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E1F18-5D09-461C-B92C-E4FD99945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647D65-FEFA-4044-A796-99F1E14BF6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A73BA9-3D2A-4DA3-9444-09CAF21D30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5D188B-EAE4-41E8-9EEC-F4D10A8807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CBD0F9-F3D9-443E-A353-B5E5F9E4EF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10BD3E-DB20-4032-9360-29C7042ABB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2A9830-3007-461F-8EA7-168152AC93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7D6870-68F3-4B47-815C-AE6A3C960E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9FE1EC-F249-4923-876F-DE575906FB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F48EEF-5D3F-43C9-9CE2-6A3A6DDA92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9679AF-2005-4229-805F-7FAB3C06C8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9F155-AE5C-47C5-BE8B-BB43E4ECF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CB9B89-9631-4B73-AEFB-FEC8D89C9A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843E34-7EB7-4D10-A775-0712655C49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13BC8F-1FE0-4854-83A0-090947207A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A371F7-AF58-4845-9852-0CFB75C929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5E511F-A9E3-418F-826C-52F122608A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2F59AD-3E14-4252-9200-17B0CCFB3A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D5CEFB-D5FD-4A3B-B3B2-8D16CA06D6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83D2D4-83D4-4CCF-985D-3718F51F82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3FC747-2640-4813-95A9-F8FB663B41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2EF8DA-B396-401F-B5BA-8B8FB19259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0607A-27B9-48F6-B14E-D4D42DD19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C1E62B-0631-4C49-BF91-3EF42B9C18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D1ABA0-B031-4F18-B3B3-6F2E6C891B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E152DB-1F67-4487-B5B5-1223A539A7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22831B-F4E3-4966-99A8-C4BF23E31E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4963F6-763F-4765-97CF-B29B6A35C1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03A1B8-9577-4784-AF04-C63AC93B4B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1A0D05-C557-4F0E-9286-C097551D21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A46D4C-5AA5-441F-8D84-AD9BF2A020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CCCF27-2819-4085-8ADC-367D709BAB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469DC4-284D-4062-9B87-A8AEE0F0CB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9E9F1-6920-4F29-8796-BE4153841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11405B-60EA-46BA-9F82-789E48756E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3C8E7A-25FC-4B09-8889-5DF576511D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B5BA4A-1EB7-4D99-98CE-D54C32CDD4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445309-6820-4C7A-AF9E-F204422594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94AD4A-1340-4DBD-82B8-ED9C96E54D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091658-737D-49E9-9629-664015ABD6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EBD1C4-336C-4842-B7FF-F930536514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8DE373-AB7E-4036-9D54-ABF0106CFD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96D0A0-383B-4897-B8E7-4D7B507E2A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082F2F-83AD-404C-A72A-E1BD957A801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25AAD-7FEA-4CB9-96FB-2402D4A55606}"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04A0-18E9-464E-AD3B-13DA27FDC96D}"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44D03-8E16-46C0-8731-16C8D7A53EE7}"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7C89-66AC-4862-B48F-3B61D6A8FE5D}"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19CD-C555-4DA1-B178-42E138E8A740}"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Picture 7" descr="TEEB header"/>
          <p:cNvPicPr/>
          <p:nvPr/>
        </p:nvPicPr>
        <p:blipFill>
          <a:blip r:embed="rId2"/>
          <a:stretch/>
        </p:blipFill>
        <p:spPr>
          <a:xfrm>
            <a:off x="-12600" y="0"/>
            <a:ext cx="9156600" cy="774720"/>
          </a:xfrm>
          <a:prstGeom prst="rect">
            <a:avLst/>
          </a:prstGeom>
          <a:ln w="0">
            <a:noFill/>
          </a:ln>
        </p:spPr>
      </p:pic>
      <p:sp>
        <p:nvSpPr>
          <p:cNvPr id="57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74" name="Picture 9" descr="TEEB_Diamond_notext"/>
          <p:cNvPicPr/>
          <p:nvPr/>
        </p:nvPicPr>
        <p:blipFill>
          <a:blip r:embed="rId3"/>
          <a:stretch/>
        </p:blipFill>
        <p:spPr>
          <a:xfrm>
            <a:off x="8317080" y="6354720"/>
            <a:ext cx="501480" cy="503280"/>
          </a:xfrm>
          <a:prstGeom prst="rect">
            <a:avLst/>
          </a:prstGeom>
          <a:ln w="0">
            <a:noFill/>
          </a:ln>
        </p:spPr>
      </p:pic>
      <p:sp>
        <p:nvSpPr>
          <p:cNvPr id="57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7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9" name="PlaceHolder 5"/>
          <p:cNvSpPr>
            <a:spLocks noGrp="1"/>
          </p:cNvSpPr>
          <p:nvPr>
            <p:ph type="sldNum" idx="4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9A5E8-AFD4-4C32-8D98-38222C5755A9}"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2222-BDCD-4B7C-A93B-0F6CD797F116}"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7A37-46E1-4D42-A451-DF63DD036ACF}"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404A4-44DC-4D23-8895-3FEB2C911E90}"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0A0D-201F-4740-B153-79F4C18EE18C}"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F1F1-5657-4DD7-831F-9A17B53D6A51}"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3506-64A0-44AC-8511-F3255CECF155}"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B8DA-C341-4777-989D-F78C31CB37B6}"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3B652-D2BD-42E8-AD68-62F1DC166AFD}"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4" name="TextBox 2"/>
          <p:cNvSpPr/>
          <p:nvPr/>
        </p:nvSpPr>
        <p:spPr>
          <a:xfrm>
            <a:off x="1476360" y="5300640"/>
            <a:ext cx="6265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c00"/>
                </a:solidFill>
                <a:latin typeface="Arial"/>
                <a:ea typeface="SimSun"/>
              </a:rPr>
              <a:t>Session 3: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ea typeface="SimSun"/>
              </a:rPr>
              <a:t>From Concepts to Action</a:t>
            </a:r>
            <a:r>
              <a:rPr b="1" lang="en-US" sz="2800" spc="-1" strike="noStrike">
                <a:solidFill>
                  <a:srgbClr val="ffcc00"/>
                </a:solidFill>
                <a:latin typeface="Arial"/>
                <a:ea typeface="SimSun"/>
              </a:rPr>
              <a:t> </a:t>
            </a:r>
            <a:endParaRPr b="0" lang="en-US" sz="2800" spc="-1" strike="noStrike">
              <a:solidFill>
                <a:srgbClr val="ffffff"/>
              </a:solidFill>
              <a:latin typeface="Times New Roman"/>
            </a:endParaRPr>
          </a:p>
        </p:txBody>
      </p:sp>
      <p:pic>
        <p:nvPicPr>
          <p:cNvPr id="625" name="Picture 5" descr="logo TEEB transparent print"/>
          <p:cNvPicPr/>
          <p:nvPr/>
        </p:nvPicPr>
        <p:blipFill>
          <a:blip r:embed="rId1"/>
          <a:stretch/>
        </p:blipFill>
        <p:spPr>
          <a:xfrm>
            <a:off x="3132000" y="1484280"/>
            <a:ext cx="3240360" cy="352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3964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World Bank WAVES Programme</a:t>
            </a:r>
            <a:endParaRPr b="0" lang="en-US" sz="3600" spc="-1" strike="noStrike">
              <a:solidFill>
                <a:srgbClr val="000532"/>
              </a:solidFill>
              <a:latin typeface="Arial"/>
            </a:endParaRPr>
          </a:p>
        </p:txBody>
      </p:sp>
      <p:sp>
        <p:nvSpPr>
          <p:cNvPr id="654" name="PlaceHolder 2"/>
          <p:cNvSpPr>
            <a:spLocks noGrp="1"/>
          </p:cNvSpPr>
          <p:nvPr>
            <p:ph/>
          </p:nvPr>
        </p:nvSpPr>
        <p:spPr>
          <a:xfrm>
            <a:off x="178920" y="1844640"/>
            <a:ext cx="6048360" cy="468000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Wealth Accounting and the Valuation of Ecosystem Services (WAVES) is a global partnership that aims to:</a:t>
            </a:r>
            <a:endParaRPr b="0" lang="en-US" sz="22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1)promote sustainable development by ensuring that the national accounts used to measure </a:t>
            </a:r>
            <a:endParaRPr b="0" lang="en-US" sz="2200" spc="-1" strike="noStrike">
              <a:solidFill>
                <a:srgbClr val="000532"/>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2)plan for economic growth include the value of natural resources</a:t>
            </a:r>
            <a:endParaRPr b="0" lang="en-US" sz="22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SimSun"/>
              </a:rPr>
              <a:t>WAVES intends to implement environmental accounting where there are internationally-agreed standards, and develop standard approaches for other ecosystem service accounts</a:t>
            </a:r>
            <a:r>
              <a:rPr b="0" lang="en-US" sz="2200" spc="-1" strike="noStrike">
                <a:solidFill>
                  <a:srgbClr val="000000"/>
                </a:solidFill>
                <a:latin typeface="Times New Roman"/>
                <a:ea typeface="SimSun"/>
              </a:rPr>
              <a:t> </a:t>
            </a:r>
            <a:endParaRPr b="0" lang="en-US" sz="2200" spc="-1" strike="noStrike">
              <a:solidFill>
                <a:srgbClr val="000532"/>
              </a:solidFill>
              <a:latin typeface="Times New Roman"/>
            </a:endParaRPr>
          </a:p>
        </p:txBody>
      </p:sp>
      <p:pic>
        <p:nvPicPr>
          <p:cNvPr id="655" name="Picture 5" descr=""/>
          <p:cNvPicPr/>
          <p:nvPr/>
        </p:nvPicPr>
        <p:blipFill>
          <a:blip r:embed="rId1"/>
          <a:stretch/>
        </p:blipFill>
        <p:spPr>
          <a:xfrm>
            <a:off x="6659640" y="2205000"/>
            <a:ext cx="2195280" cy="3168720"/>
          </a:xfrm>
          <a:prstGeom prst="rect">
            <a:avLst/>
          </a:prstGeom>
          <a:ln w="25560">
            <a:solidFill>
              <a:srgbClr val="000000"/>
            </a:solidFill>
            <a:miter/>
          </a:ln>
        </p:spPr>
      </p:pic>
      <p:sp>
        <p:nvSpPr>
          <p:cNvPr id="656" name="Text Box 8"/>
          <p:cNvSpPr/>
          <p:nvPr/>
        </p:nvSpPr>
        <p:spPr>
          <a:xfrm>
            <a:off x="8413560" y="2133720"/>
            <a:ext cx="730440" cy="324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ahoma"/>
              </a:rPr>
              <a:t> 2012 Wealth Accounting and the</a:t>
            </a:r>
            <a:r>
              <a:rPr b="0" lang="en-US" sz="1600" spc="-1" strike="noStrike">
                <a:solidFill>
                  <a:srgbClr val="000000"/>
                </a:solidFill>
                <a:latin typeface="Tahoma"/>
              </a:rPr>
              <a:t> </a:t>
            </a:r>
            <a:r>
              <a:rPr b="0" lang="en-US" sz="800" spc="-1" strike="noStrike">
                <a:solidFill>
                  <a:srgbClr val="000000"/>
                </a:solidFill>
                <a:latin typeface="Tahoma"/>
              </a:rPr>
              <a:t>Valuation of Ecosystem Services </a:t>
            </a:r>
            <a:endParaRPr b="0" lang="en-US" sz="8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Group Exercise</a:t>
            </a:r>
            <a:endParaRPr b="0" lang="en-US" sz="4000" spc="-1" strike="noStrike">
              <a:solidFill>
                <a:srgbClr val="000532"/>
              </a:solidFill>
              <a:latin typeface="Arial"/>
            </a:endParaRPr>
          </a:p>
        </p:txBody>
      </p:sp>
      <p:pic>
        <p:nvPicPr>
          <p:cNvPr id="658" name="Picture 5" descr="j0293844"/>
          <p:cNvPicPr/>
          <p:nvPr/>
        </p:nvPicPr>
        <p:blipFill>
          <a:blip r:embed="rId1"/>
          <a:stretch/>
        </p:blipFill>
        <p:spPr>
          <a:xfrm>
            <a:off x="5580000" y="2852640"/>
            <a:ext cx="2765520" cy="2906640"/>
          </a:xfrm>
          <a:prstGeom prst="rect">
            <a:avLst/>
          </a:prstGeom>
          <a:ln w="0">
            <a:noFill/>
          </a:ln>
        </p:spPr>
      </p:pic>
      <p:sp>
        <p:nvSpPr>
          <p:cNvPr id="659" name="Rectangle 6"/>
          <p:cNvSpPr/>
          <p:nvPr/>
        </p:nvSpPr>
        <p:spPr>
          <a:xfrm>
            <a:off x="468360" y="2852640"/>
            <a:ext cx="446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ahoma"/>
              </a:rPr>
              <a:t>Quiz Tim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68360" y="90792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Module 3 Summary</a:t>
            </a:r>
            <a:endParaRPr b="0" lang="en-US" sz="3600" spc="-1" strike="noStrike">
              <a:solidFill>
                <a:srgbClr val="000532"/>
              </a:solidFill>
              <a:latin typeface="Arial"/>
            </a:endParaRPr>
          </a:p>
        </p:txBody>
      </p:sp>
      <p:sp>
        <p:nvSpPr>
          <p:cNvPr id="661" name="PlaceHolder 2"/>
          <p:cNvSpPr>
            <a:spLocks noGrp="1"/>
          </p:cNvSpPr>
          <p:nvPr>
            <p:ph/>
          </p:nvPr>
        </p:nvSpPr>
        <p:spPr>
          <a:xfrm>
            <a:off x="468360" y="1844280"/>
            <a:ext cx="8300880" cy="42483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GB" sz="2400" spc="-1" strike="noStrike">
                <a:solidFill>
                  <a:srgbClr val="000000"/>
                </a:solidFill>
                <a:latin typeface="Times New Roman"/>
              </a:rPr>
              <a:t>arious different conceptual frameworks are available for ecosystem assessments</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ichever framework is most relevant for you to use will depend on specific policy contexts and user requirements</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y challenges exists with ecosystem valuation, particularly with monetary valuation – however if used appropriately and in the right context, many opportunities also exist.</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y initiatives have been launched that have started to translate these concepts into actions</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EV approach is usually the approach that is mostly associated with TEEB</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1"/>
          <p:cNvSpPr/>
          <p:nvPr/>
        </p:nvSpPr>
        <p:spPr>
          <a:xfrm>
            <a:off x="0" y="-351000"/>
            <a:ext cx="9648720" cy="720900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63" name="Picture 3" descr="logo TEEB transparent print"/>
          <p:cNvPicPr/>
          <p:nvPr/>
        </p:nvPicPr>
        <p:blipFill>
          <a:blip r:embed="rId1"/>
          <a:stretch/>
        </p:blipFill>
        <p:spPr>
          <a:xfrm>
            <a:off x="2841480" y="907920"/>
            <a:ext cx="3969000" cy="3818160"/>
          </a:xfrm>
          <a:prstGeom prst="rect">
            <a:avLst/>
          </a:prstGeom>
          <a:ln w="0">
            <a:noFill/>
          </a:ln>
        </p:spPr>
      </p:pic>
      <p:sp>
        <p:nvSpPr>
          <p:cNvPr id="664" name="TextBox 2"/>
          <p:cNvSpPr/>
          <p:nvPr/>
        </p:nvSpPr>
        <p:spPr>
          <a:xfrm>
            <a:off x="468360" y="5445000"/>
            <a:ext cx="8675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c000"/>
                </a:solidFill>
                <a:latin typeface="Arial"/>
                <a:ea typeface="Arial"/>
              </a:rPr>
              <a:t>THANK YOU!</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2"/>
          <p:cNvSpPr/>
          <p:nvPr/>
        </p:nvSpPr>
        <p:spPr>
          <a:xfrm>
            <a:off x="179280" y="1628640"/>
            <a:ext cx="6264360" cy="501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World governments gathered at the 2010 CBD Conference of Parties meeting in Nagoya and agreed upon a strategic plan for 2020</a:t>
            </a:r>
            <a:endParaRPr b="0" lang="en-US" sz="2200" spc="-1" strike="noStrike">
              <a:solidFill>
                <a:srgbClr val="ffffff"/>
              </a:solidFill>
              <a:latin typeface="Times New Roman"/>
            </a:endParaRPr>
          </a:p>
          <a:p>
            <a:pPr marL="343080" indent="-34308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1" lang="en-GB" sz="2200" spc="-1" strike="noStrike">
                <a:solidFill>
                  <a:srgbClr val="000000"/>
                </a:solidFill>
                <a:latin typeface="Times New Roman"/>
              </a:rPr>
              <a:t>Purpose:</a:t>
            </a:r>
            <a:r>
              <a:rPr b="0" lang="en-GB" sz="2200" spc="-1" strike="noStrike">
                <a:solidFill>
                  <a:srgbClr val="000000"/>
                </a:solidFill>
                <a:latin typeface="Times New Roman"/>
              </a:rPr>
              <a:t> recognize and capture the value of biodiversity, ecosystems and ecosystem services.</a:t>
            </a:r>
            <a:endParaRPr b="0" lang="en-US" sz="2200" spc="-1" strike="noStrike">
              <a:solidFill>
                <a:srgbClr val="ffffff"/>
              </a:solidFill>
              <a:latin typeface="Times New Roman"/>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Strategic plan is divided into five strategic goals</a:t>
            </a:r>
            <a:endParaRPr b="0" lang="en-US" sz="2200" spc="-1" strike="noStrike">
              <a:solidFill>
                <a:srgbClr val="ffffff"/>
              </a:solidFill>
              <a:latin typeface="Times New Roman"/>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first goal is most relevant to TEEB  = addressing the underlying causes of biodiversity mainstreaming it across government and society</a:t>
            </a:r>
            <a:endParaRPr b="0" lang="en-US" sz="2000" spc="-1" strike="noStrike">
              <a:solidFill>
                <a:srgbClr val="ffffff"/>
              </a:solidFill>
              <a:latin typeface="Times New Roman"/>
            </a:endParaRPr>
          </a:p>
          <a:p>
            <a:pPr marL="343080" indent="-34308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argets 1- 3 under this goal (aka Aichi targets) are directly related to ecosystem services and the value of these services to society</a:t>
            </a:r>
            <a:endParaRPr b="0" lang="en-US" sz="2000" spc="-1" strike="noStrike">
              <a:solidFill>
                <a:srgbClr val="ffffff"/>
              </a:solidFill>
              <a:latin typeface="Times New Roman"/>
            </a:endParaRPr>
          </a:p>
        </p:txBody>
      </p:sp>
      <p:sp>
        <p:nvSpPr>
          <p:cNvPr id="627" name="PlaceHolder 1"/>
          <p:cNvSpPr>
            <a:spLocks noGrp="1"/>
          </p:cNvSpPr>
          <p:nvPr>
            <p:ph type="title"/>
          </p:nvPr>
        </p:nvSpPr>
        <p:spPr>
          <a:xfrm>
            <a:off x="539280" y="907560"/>
            <a:ext cx="820764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CBD’s Strategic Plan</a:t>
            </a:r>
            <a:r>
              <a:rPr b="0" lang="en-US" sz="4400" spc="-1" strike="noStrike">
                <a:solidFill>
                  <a:srgbClr val="000532"/>
                </a:solidFill>
                <a:latin typeface="Arial"/>
                <a:ea typeface="SimSun"/>
              </a:rPr>
              <a:t> </a:t>
            </a:r>
            <a:endParaRPr b="0" lang="en-US" sz="4400" spc="-1" strike="noStrike">
              <a:solidFill>
                <a:srgbClr val="000532"/>
              </a:solidFill>
              <a:latin typeface="Arial"/>
            </a:endParaRPr>
          </a:p>
        </p:txBody>
      </p:sp>
      <p:pic>
        <p:nvPicPr>
          <p:cNvPr id="628" name="Picture 10" descr=""/>
          <p:cNvPicPr/>
          <p:nvPr/>
        </p:nvPicPr>
        <p:blipFill>
          <a:blip r:embed="rId1"/>
          <a:stretch/>
        </p:blipFill>
        <p:spPr>
          <a:xfrm>
            <a:off x="6659640" y="2276640"/>
            <a:ext cx="2263680" cy="3024000"/>
          </a:xfrm>
          <a:prstGeom prst="rect">
            <a:avLst/>
          </a:prstGeom>
          <a:ln w="0">
            <a:noFill/>
          </a:ln>
        </p:spPr>
      </p:pic>
      <p:sp>
        <p:nvSpPr>
          <p:cNvPr id="629" name="Text Box 11"/>
          <p:cNvSpPr/>
          <p:nvPr/>
        </p:nvSpPr>
        <p:spPr>
          <a:xfrm>
            <a:off x="6046920" y="5229360"/>
            <a:ext cx="30970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a:t>
            </a:r>
            <a:r>
              <a:rPr b="0" lang="en-US" sz="800" spc="-1" strike="noStrike">
                <a:solidFill>
                  <a:srgbClr val="000000"/>
                </a:solidFill>
                <a:latin typeface="Tahoma"/>
              </a:rPr>
              <a:t>http://www.flickr.com/photos/planeta/</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95280" y="765000"/>
            <a:ext cx="82296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Aichi Targets 1, 2, 3</a:t>
            </a:r>
            <a:r>
              <a:rPr b="1" lang="en-US" sz="3200" spc="-1" strike="noStrike">
                <a:solidFill>
                  <a:srgbClr val="333399"/>
                </a:solidFill>
                <a:latin typeface="Arial"/>
                <a:ea typeface="SimSun"/>
              </a:rPr>
              <a:t> </a:t>
            </a:r>
            <a:endParaRPr b="0" lang="en-US" sz="3200" spc="-1" strike="noStrike">
              <a:solidFill>
                <a:srgbClr val="000532"/>
              </a:solidFill>
              <a:latin typeface="Arial"/>
            </a:endParaRPr>
          </a:p>
        </p:txBody>
      </p:sp>
      <p:sp>
        <p:nvSpPr>
          <p:cNvPr id="631" name="PlaceHolder 2"/>
          <p:cNvSpPr>
            <a:spLocks noGrp="1"/>
          </p:cNvSpPr>
          <p:nvPr>
            <p:ph/>
          </p:nvPr>
        </p:nvSpPr>
        <p:spPr>
          <a:xfrm>
            <a:off x="468360" y="1557000"/>
            <a:ext cx="8229600" cy="5575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Y 2020:</a:t>
            </a:r>
            <a:endParaRPr b="0" lang="en-US" sz="2400" spc="-1" strike="noStrike">
              <a:solidFill>
                <a:srgbClr val="000532"/>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rget 1:</a:t>
            </a:r>
            <a:r>
              <a:rPr b="0" lang="en-US" sz="2400" spc="-1" strike="noStrike">
                <a:solidFill>
                  <a:srgbClr val="000000"/>
                </a:solidFill>
                <a:latin typeface="Times New Roman"/>
              </a:rPr>
              <a:t> </a:t>
            </a:r>
            <a:r>
              <a:rPr b="0" lang="en-US" sz="2200" spc="-1" strike="noStrike">
                <a:solidFill>
                  <a:srgbClr val="000000"/>
                </a:solidFill>
                <a:latin typeface="Times New Roman"/>
              </a:rPr>
              <a:t>People are aware of the values of biodiversity and the steps they can take to conserve and use it sustainably</a:t>
            </a:r>
            <a:endParaRPr b="0" lang="en-US" sz="2200" spc="-1" strike="noStrike">
              <a:solidFill>
                <a:srgbClr val="000532"/>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Target 2:</a:t>
            </a:r>
            <a:r>
              <a:rPr b="0" lang="en-US" sz="2200" spc="-1" strike="noStrike">
                <a:solidFill>
                  <a:srgbClr val="000000"/>
                </a:solidFill>
                <a:latin typeface="Times New Roman"/>
              </a:rPr>
              <a:t> Biodiversity values have been integrated into national and local development, poverty reduction strategies and planning processes are being incorporated into national accounting</a:t>
            </a:r>
            <a:endParaRPr b="0" lang="en-US" sz="2200" spc="-1" strike="noStrike">
              <a:solidFill>
                <a:srgbClr val="000532"/>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Target 3: </a:t>
            </a:r>
            <a:r>
              <a:rPr b="0" lang="en-US" sz="2200" spc="-1" strike="noStrike">
                <a:solidFill>
                  <a:srgbClr val="000000"/>
                </a:solidFill>
                <a:latin typeface="Times New Roman"/>
              </a:rPr>
              <a:t>Incentives harmful to biodiversity are eliminated in order to minimize negative impacts, and positive incentives for the conservation and sustainable use of biodiversity are applied</a:t>
            </a:r>
            <a:endParaRPr b="0" lang="en-US" sz="2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ea typeface="SimSun"/>
              </a:rPr>
              <a:t>CBD’s Strategic Plan</a:t>
            </a:r>
            <a:br>
              <a:rPr sz="3600"/>
            </a:br>
            <a:r>
              <a:rPr b="1" lang="en-US" sz="2400" spc="-1" strike="noStrike">
                <a:solidFill>
                  <a:srgbClr val="323366"/>
                </a:solidFill>
                <a:latin typeface="Arial"/>
                <a:ea typeface="SimSun"/>
              </a:rPr>
              <a:t>continued…</a:t>
            </a:r>
            <a:endParaRPr b="0" lang="en-US" sz="2400" spc="-1" strike="noStrike">
              <a:solidFill>
                <a:srgbClr val="000532"/>
              </a:solidFill>
              <a:latin typeface="Arial"/>
            </a:endParaRPr>
          </a:p>
        </p:txBody>
      </p:sp>
      <p:sp>
        <p:nvSpPr>
          <p:cNvPr id="633" name="PlaceHolder 2"/>
          <p:cNvSpPr>
            <a:spLocks noGrp="1"/>
          </p:cNvSpPr>
          <p:nvPr>
            <p:ph/>
          </p:nvPr>
        </p:nvSpPr>
        <p:spPr>
          <a:xfrm>
            <a:off x="539640" y="1988640"/>
            <a:ext cx="8353440" cy="396108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EEB, in the context of the CBDs Strategic Plan, is an important tool for mainstreaming biodiversity and integrating values into relevant strategies and national policy processes </a:t>
            </a:r>
            <a:endParaRPr b="0" lang="en-US" sz="2200" spc="-1" strike="noStrike">
              <a:solidFill>
                <a:srgbClr val="000532"/>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is plan was also used in the COP 11 decision-making processes in Hyderabad, India (2012) by providing a platform for governments to </a:t>
            </a:r>
            <a:r>
              <a:rPr b="0" lang="en-US" sz="2200" spc="-1" strike="noStrike">
                <a:solidFill>
                  <a:srgbClr val="000000"/>
                </a:solidFill>
                <a:latin typeface="Times New Roman"/>
                <a:ea typeface="SimSun"/>
              </a:rPr>
              <a:t>develop, implement and communicate the results of their national strategies</a:t>
            </a:r>
            <a:endParaRPr b="0" lang="en-US" sz="2200" spc="-1" strike="noStrike">
              <a:solidFill>
                <a:srgbClr val="000532"/>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EEB was explicitly referenced in several decisions, for example: Stakeholder engagement, incentive measures and business</a:t>
            </a:r>
            <a:endParaRPr b="0" lang="en-US" sz="2200" spc="-1" strike="noStrike">
              <a:solidFill>
                <a:srgbClr val="000532"/>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p:txBody>
      </p:sp>
      <p:pic>
        <p:nvPicPr>
          <p:cNvPr id="634" name="Picture 4" descr="logo"/>
          <p:cNvPicPr/>
          <p:nvPr/>
        </p:nvPicPr>
        <p:blipFill>
          <a:blip r:embed="rId1"/>
          <a:stretch/>
        </p:blipFill>
        <p:spPr>
          <a:xfrm>
            <a:off x="2843280" y="5518080"/>
            <a:ext cx="2950920" cy="133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2"/>
          <p:cNvSpPr/>
          <p:nvPr/>
        </p:nvSpPr>
        <p:spPr>
          <a:xfrm>
            <a:off x="468360" y="1557360"/>
            <a:ext cx="4967280" cy="4249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E is an economy which is low carbon, resource efficient and socially inclusive (UNEP, GER, 2011)</a:t>
            </a:r>
            <a:endParaRPr b="0" lang="en-US" sz="1800" spc="-1" strike="noStrike">
              <a:solidFill>
                <a:srgbClr val="ffffff"/>
              </a:solidFill>
              <a:latin typeface="Times New Roman"/>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underpinning foundation of a green economy is the full valuation of ecosystem services and a full cost accounting of biodiversity, where the costs of biodiversity loss are fully integrated into society</a:t>
            </a:r>
            <a:endParaRPr b="0" lang="en-US" sz="1800" spc="-1" strike="noStrike">
              <a:solidFill>
                <a:srgbClr val="ffffff"/>
              </a:solidFill>
              <a:latin typeface="Times New Roman"/>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green economy approach recognizes that nature is not only instrumental in building today’s economic system but that it also underpins human development and well being  </a:t>
            </a:r>
            <a:endParaRPr b="0" lang="en-US" sz="1800" spc="-1" strike="noStrike">
              <a:solidFill>
                <a:srgbClr val="ffffff"/>
              </a:solidFill>
              <a:latin typeface="Times New Roman"/>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idea behind valuing nature is a critical part of any transition to a green economy where TEEB can assist with the more general application of the green economy approach</a:t>
            </a:r>
            <a:endParaRPr b="0" lang="en-US" sz="1800" spc="-1" strike="noStrike">
              <a:solidFill>
                <a:srgbClr val="ffffff"/>
              </a:solidFill>
              <a:latin typeface="Times New Roman"/>
            </a:endParaRPr>
          </a:p>
        </p:txBody>
      </p:sp>
      <p:sp>
        <p:nvSpPr>
          <p:cNvPr id="636" name="PlaceHolder 1"/>
          <p:cNvSpPr>
            <a:spLocks noGrp="1"/>
          </p:cNvSpPr>
          <p:nvPr>
            <p:ph type="title"/>
          </p:nvPr>
        </p:nvSpPr>
        <p:spPr>
          <a:xfrm>
            <a:off x="539280" y="907560"/>
            <a:ext cx="820764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The Green Economy Initiative</a:t>
            </a:r>
            <a:endParaRPr b="0" lang="en-US" sz="3200" spc="-1" strike="noStrike">
              <a:solidFill>
                <a:srgbClr val="000532"/>
              </a:solidFill>
              <a:latin typeface="Arial"/>
            </a:endParaRPr>
          </a:p>
        </p:txBody>
      </p:sp>
      <p:pic>
        <p:nvPicPr>
          <p:cNvPr id="637" name="Picture 5" descr="green-economy-190px"/>
          <p:cNvPicPr/>
          <p:nvPr/>
        </p:nvPicPr>
        <p:blipFill>
          <a:blip r:embed="rId1"/>
          <a:stretch/>
        </p:blipFill>
        <p:spPr>
          <a:xfrm>
            <a:off x="5880240" y="2205000"/>
            <a:ext cx="2571480" cy="360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179280" y="1557360"/>
            <a:ext cx="6264360" cy="5300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Project for Ecosystem Services is a GEF-funded umbrella project aimed at piloting the bundling of ecosystem services </a:t>
            </a:r>
            <a:endParaRPr b="0" lang="en-US" sz="2200" spc="-1" strike="noStrike">
              <a:solidFill>
                <a:srgbClr val="ffffff"/>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Develops capacities for decision makers, to assess trade-offs, development choices, and applies appropriate ecosystem management tools within sectoral planning frameworks</a:t>
            </a:r>
            <a:endParaRPr b="0" lang="en-US" sz="2200" spc="-1" strike="noStrike">
              <a:solidFill>
                <a:srgbClr val="ffffff"/>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Each country will develop its specific set of activities, e.g. by focusing on a few select regulating ecosystem services in decline</a:t>
            </a:r>
            <a:endParaRPr b="0" lang="en-US" sz="2200" spc="-1" strike="noStrike">
              <a:solidFill>
                <a:srgbClr val="ffffff"/>
              </a:solidFill>
              <a:latin typeface="Times New Roman"/>
            </a:endParaRPr>
          </a:p>
        </p:txBody>
      </p:sp>
      <p:sp>
        <p:nvSpPr>
          <p:cNvPr id="639" name="PlaceHolder 1"/>
          <p:cNvSpPr>
            <a:spLocks noGrp="1"/>
          </p:cNvSpPr>
          <p:nvPr>
            <p:ph type="title"/>
          </p:nvPr>
        </p:nvSpPr>
        <p:spPr>
          <a:xfrm>
            <a:off x="539280" y="836640"/>
            <a:ext cx="820764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ProEcoServ</a:t>
            </a:r>
            <a:endParaRPr b="0" lang="en-US" sz="3200" spc="-1" strike="noStrike">
              <a:solidFill>
                <a:srgbClr val="000532"/>
              </a:solidFill>
              <a:latin typeface="Arial"/>
            </a:endParaRPr>
          </a:p>
        </p:txBody>
      </p:sp>
      <p:pic>
        <p:nvPicPr>
          <p:cNvPr id="640" name="Picture 5" descr=""/>
          <p:cNvPicPr/>
          <p:nvPr/>
        </p:nvPicPr>
        <p:blipFill>
          <a:blip r:embed="rId1"/>
          <a:stretch/>
        </p:blipFill>
        <p:spPr>
          <a:xfrm>
            <a:off x="6443640" y="1989000"/>
            <a:ext cx="2521080" cy="3600720"/>
          </a:xfrm>
          <a:prstGeom prst="rect">
            <a:avLst/>
          </a:prstGeom>
          <a:ln w="0">
            <a:noFill/>
          </a:ln>
        </p:spPr>
      </p:pic>
      <p:sp>
        <p:nvSpPr>
          <p:cNvPr id="641" name="Text Box 6"/>
          <p:cNvSpPr/>
          <p:nvPr/>
        </p:nvSpPr>
        <p:spPr>
          <a:xfrm flipV="1" rot="10800000">
            <a:off x="5940000" y="5515560"/>
            <a:ext cx="1800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a:t>
            </a:r>
            <a:r>
              <a:rPr b="0" lang="fr-FR" sz="800" spc="-1" strike="noStrike">
                <a:solidFill>
                  <a:srgbClr val="000000"/>
                </a:solidFill>
                <a:latin typeface="Tahoma"/>
              </a:rPr>
              <a:t>proecoserv.org</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115640" y="907560"/>
            <a:ext cx="62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The Sub Global Assessment (SGA) Network</a:t>
            </a:r>
            <a:r>
              <a:rPr b="0" lang="en-GB" sz="4000" spc="-1" strike="noStrike">
                <a:solidFill>
                  <a:srgbClr val="000532"/>
                </a:solidFill>
                <a:latin typeface="Arial"/>
              </a:rPr>
              <a:t> </a:t>
            </a:r>
            <a:endParaRPr b="0" lang="en-US" sz="4000" spc="-1" strike="noStrike">
              <a:solidFill>
                <a:srgbClr val="000532"/>
              </a:solidFill>
              <a:latin typeface="Arial"/>
            </a:endParaRPr>
          </a:p>
        </p:txBody>
      </p:sp>
      <p:sp>
        <p:nvSpPr>
          <p:cNvPr id="643" name="PlaceHolder 2"/>
          <p:cNvSpPr>
            <a:spLocks noGrp="1"/>
          </p:cNvSpPr>
          <p:nvPr>
            <p:ph/>
          </p:nvPr>
        </p:nvSpPr>
        <p:spPr>
          <a:xfrm>
            <a:off x="457200" y="2276640"/>
            <a:ext cx="8229600" cy="4581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Established by UNEP in collaboration with a consortium of partners to provide ongoing support to SGA’s catalyzed either during the course of the MA project and beyond</a:t>
            </a:r>
            <a:endParaRPr b="0" lang="en-US" sz="2200" spc="-1" strike="noStrike">
              <a:solidFill>
                <a:srgbClr val="000532"/>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SGA Network aims to support global processes such as the IPBES by providing a network of assessment practitioners and carrying out a range of capacity building activities</a:t>
            </a:r>
            <a:endParaRPr b="0" lang="en-US" sz="2200" spc="-1" strike="noStrike">
              <a:solidFill>
                <a:srgbClr val="000532"/>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It is currently hosted by a Secretariat which operates through a joint arrangement between the UNEP World Conservation Monitoring Centre &amp; the Cropper Foundation</a:t>
            </a:r>
            <a:endParaRPr b="0" lang="en-US" sz="2200" spc="-1" strike="noStrike">
              <a:solidFill>
                <a:srgbClr val="000532"/>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p:txBody>
      </p:sp>
      <p:pic>
        <p:nvPicPr>
          <p:cNvPr id="644" name="Picture 4" descr=""/>
          <p:cNvPicPr/>
          <p:nvPr/>
        </p:nvPicPr>
        <p:blipFill>
          <a:blip r:embed="rId1"/>
          <a:stretch/>
        </p:blipFill>
        <p:spPr>
          <a:xfrm>
            <a:off x="7236000" y="907920"/>
            <a:ext cx="1584000" cy="10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1128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366"/>
                </a:solidFill>
                <a:latin typeface="Arial"/>
              </a:rPr>
              <a:t>The Natural Capital Project</a:t>
            </a:r>
            <a:endParaRPr b="0" lang="en-US" sz="3600" spc="-1" strike="noStrike">
              <a:solidFill>
                <a:srgbClr val="000532"/>
              </a:solidFill>
              <a:latin typeface="Arial"/>
            </a:endParaRPr>
          </a:p>
        </p:txBody>
      </p:sp>
      <p:sp>
        <p:nvSpPr>
          <p:cNvPr id="646" name="PlaceHolder 2"/>
          <p:cNvSpPr>
            <a:spLocks noGrp="1"/>
          </p:cNvSpPr>
          <p:nvPr>
            <p:ph/>
          </p:nvPr>
        </p:nvSpPr>
        <p:spPr>
          <a:xfrm>
            <a:off x="-360" y="1889280"/>
            <a:ext cx="6372360" cy="4968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lang="en-US" sz="2200" spc="-1" strike="noStrike">
                <a:solidFill>
                  <a:srgbClr val="000000"/>
                </a:solidFill>
                <a:latin typeface="Times New Roman"/>
              </a:rPr>
              <a:t>The Natural Capital Project is a partnership to provide decision makers with reliable ways to assess the </a:t>
            </a:r>
            <a:r>
              <a:rPr b="0" lang="en-US" sz="2000" spc="-1" strike="noStrike">
                <a:solidFill>
                  <a:srgbClr val="000000"/>
                </a:solidFill>
                <a:latin typeface="Times New Roman"/>
              </a:rPr>
              <a:t>true value of the services that ecosystems provide.</a:t>
            </a:r>
            <a:endParaRPr b="0" lang="en-US" sz="2000" spc="-1" strike="noStrike">
              <a:solidFill>
                <a:srgbClr val="000532"/>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project has also developed </a:t>
            </a:r>
            <a:r>
              <a:rPr b="1" lang="en-US" sz="2200" spc="-1" strike="noStrike">
                <a:solidFill>
                  <a:srgbClr val="000000"/>
                </a:solidFill>
                <a:latin typeface="Times New Roman"/>
              </a:rPr>
              <a:t>InVEST</a:t>
            </a:r>
            <a:r>
              <a:rPr b="0" lang="en-US" sz="2200" spc="-1" strike="noStrike">
                <a:solidFill>
                  <a:srgbClr val="000000"/>
                </a:solidFill>
                <a:latin typeface="Times New Roman"/>
              </a:rPr>
              <a:t>, family software-based tools, which allows decision-makers to:</a:t>
            </a:r>
            <a:endParaRPr b="0" lang="en-US" sz="2200" spc="-1" strike="noStrike">
              <a:solidFill>
                <a:srgbClr val="000532"/>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ntify the importance of natural capital</a:t>
            </a:r>
            <a:endParaRPr b="0" lang="en-US" sz="2000" spc="-1" strike="noStrike">
              <a:solidFill>
                <a:srgbClr val="000532"/>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ss the tradeoffs associated with alternative choices</a:t>
            </a:r>
            <a:endParaRPr b="0" lang="en-US" sz="2000" spc="-1" strike="noStrike">
              <a:solidFill>
                <a:srgbClr val="000532"/>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grate conservation and human development </a:t>
            </a:r>
            <a:endParaRPr b="0" lang="en-US" sz="2000" spc="-1" strike="noStrike">
              <a:solidFill>
                <a:srgbClr val="000532"/>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p:txBody>
      </p:sp>
      <p:pic>
        <p:nvPicPr>
          <p:cNvPr id="647" name="Picture 5" descr=""/>
          <p:cNvPicPr/>
          <p:nvPr/>
        </p:nvPicPr>
        <p:blipFill>
          <a:blip r:embed="rId1"/>
          <a:stretch/>
        </p:blipFill>
        <p:spPr>
          <a:xfrm>
            <a:off x="6516720" y="2205000"/>
            <a:ext cx="2448000" cy="3502080"/>
          </a:xfrm>
          <a:prstGeom prst="rect">
            <a:avLst/>
          </a:prstGeom>
          <a:ln w="0">
            <a:noFill/>
          </a:ln>
        </p:spPr>
      </p:pic>
      <p:sp>
        <p:nvSpPr>
          <p:cNvPr id="648" name="Text Box 7"/>
          <p:cNvSpPr/>
          <p:nvPr/>
        </p:nvSpPr>
        <p:spPr>
          <a:xfrm>
            <a:off x="5219640" y="5661000"/>
            <a:ext cx="35290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naturalcapitalprojec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UNDP’s ‘Biodiversity Superpower’ Initiative</a:t>
            </a:r>
            <a:endParaRPr b="0" lang="en-US" sz="3200" spc="-1" strike="noStrike">
              <a:solidFill>
                <a:srgbClr val="000532"/>
              </a:solidFill>
              <a:latin typeface="Arial"/>
            </a:endParaRPr>
          </a:p>
        </p:txBody>
      </p:sp>
      <p:sp>
        <p:nvSpPr>
          <p:cNvPr id="650" name="PlaceHolder 2"/>
          <p:cNvSpPr>
            <a:spLocks noGrp="1"/>
          </p:cNvSpPr>
          <p:nvPr>
            <p:ph/>
          </p:nvPr>
        </p:nvSpPr>
        <p:spPr>
          <a:xfrm>
            <a:off x="250920" y="2276640"/>
            <a:ext cx="5976720" cy="4581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Launched in 2008, to </a:t>
            </a:r>
            <a:r>
              <a:rPr b="1" lang="en-GB" sz="2200" spc="-1" strike="noStrike">
                <a:solidFill>
                  <a:srgbClr val="000000"/>
                </a:solidFill>
                <a:latin typeface="Times New Roman"/>
              </a:rPr>
              <a:t>assess and communicate</a:t>
            </a:r>
            <a:r>
              <a:rPr b="0" lang="en-GB" sz="2200" spc="-1" strike="noStrike">
                <a:solidFill>
                  <a:srgbClr val="000000"/>
                </a:solidFill>
                <a:latin typeface="Times New Roman"/>
              </a:rPr>
              <a:t> the economic contribution of biodiversity and ecosystems services to development in Latin America and the Caribbean (LAC)</a:t>
            </a:r>
            <a:endParaRPr b="0" lang="en-US" sz="22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Final 2010 report highlights the importance of the region’s endowment of natural capital as a source of economic growth</a:t>
            </a:r>
            <a:endParaRPr b="0" lang="en-US" sz="22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report demonstrates the hidden costs and hidden opportunities of ecosystem services by individual economic sectors</a:t>
            </a:r>
            <a:endParaRPr b="0" lang="en-US" sz="2200" spc="-1" strike="noStrike">
              <a:solidFill>
                <a:srgbClr val="000532"/>
              </a:solidFill>
              <a:latin typeface="Times New Roman"/>
            </a:endParaRPr>
          </a:p>
        </p:txBody>
      </p:sp>
      <p:pic>
        <p:nvPicPr>
          <p:cNvPr id="651" name="Picture 5" descr="cq5dam"/>
          <p:cNvPicPr/>
          <p:nvPr/>
        </p:nvPicPr>
        <p:blipFill>
          <a:blip r:embed="rId1"/>
          <a:stretch/>
        </p:blipFill>
        <p:spPr>
          <a:xfrm>
            <a:off x="6227640" y="2276640"/>
            <a:ext cx="2665440" cy="3456000"/>
          </a:xfrm>
          <a:prstGeom prst="rect">
            <a:avLst/>
          </a:prstGeom>
          <a:ln w="0">
            <a:noFill/>
          </a:ln>
        </p:spPr>
      </p:pic>
      <p:sp>
        <p:nvSpPr>
          <p:cNvPr id="652" name="Text Box 6"/>
          <p:cNvSpPr/>
          <p:nvPr/>
        </p:nvSpPr>
        <p:spPr>
          <a:xfrm>
            <a:off x="6084720" y="5661000"/>
            <a:ext cx="936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UNDP, 2010</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14:44:15Z</dcterms:created>
  <dc:creator>KREBS</dc:creator>
  <dc:description/>
  <dc:language>en-US</dc:language>
  <cp:lastModifiedBy>KREBS</cp:lastModifiedBy>
  <dcterms:modified xsi:type="dcterms:W3CDTF">2013-10-30T14:46:50Z</dcterms:modified>
  <cp:revision>1</cp:revision>
  <dc:subject/>
  <dc:title>PowerPoint Presentation</dc:title>
</cp:coreProperties>
</file>