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7170-6C3F-4682-B641-20EAF0632F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8698-3CA1-4434-AE48-B6F495B662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Provi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participants with key list of useful resources for module 5 as a handout and highlight some of the most useful references for the training cou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58E-70BA-496F-9AAC-FE9C9BBB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1C2-056E-4C14-99E7-85A1A6B5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1B773-D34A-4270-A14B-DD235706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42C83-4EBD-47BA-8364-3DE0243F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ADBF5-E62F-4357-8182-CC07D91D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87265-4A59-4DE0-803E-99FCEB6D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32224-6399-42EF-95C2-53C3D5AE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23BFF-93D3-4A74-8C45-13C3E81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D7444-BD1F-4083-97E6-07D18A94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1FA76-9F42-4B3C-8099-1A0D114E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AAD66-95EA-4D9F-9D87-1A7F51B1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0DCD7-CDFC-4C4C-92ED-869BFAC8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4EF-8E97-4875-8D9A-9C691FC5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F9A5E-1FE6-45F4-B81A-D906EEFA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D84B5-1C1F-4CB9-9B32-8A94B37E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87F58-F4C8-4933-873E-77E3D67A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B2F06-A28C-4924-8366-58F22FB5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52E7E-1BBE-489E-AAA1-CB5EA026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F8304-8D25-4382-A9E8-CF7C2136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96125-2E90-4F90-BA40-F7371931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91339-11E5-4663-B9A3-866DC201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A0BAC-DE3F-4B52-B13E-FC98A59C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56594-5238-4ECB-9DDC-7F1B3B79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2ED-9612-46FE-A446-B9A1DEAF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71BED-9B3D-4FAB-8F00-87093688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4D41C-FC23-43F1-BE1F-82208ECC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5DA2F-2FD8-4523-B3EB-3814ABC9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88071-F0DF-482D-9254-484FE868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0EEB4-3461-4A8F-AE9C-B75331FF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5902B-D8AF-46B2-A8EC-35A946C4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F20C0-FC4C-4C0D-99BB-8CF2FAB8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F7D8A-B180-40FD-A9A8-595B3483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39D21-88B9-40EA-80BD-FCE1F29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FA2FB-229A-4DCB-BC15-22345091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D8E5-0B1D-4010-9312-E604B526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400E7-2DF6-4CD3-9611-F9CB6005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E46B0-EE38-4032-B440-E09CBBCB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22F87-75BE-415B-A47D-0D156EB3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91494-7AF7-4F70-A95B-3D34631A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C1C19-2CFF-4CCD-8928-B120EFC0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A2550-1A97-470A-9D44-A89349D0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DC314-FE3E-425B-8ADB-B02A5638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C5C31-04C9-45BD-80F7-AE61214C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8AB15-F91E-4D12-A408-2C00189D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48AA0-D148-4756-AAAA-9FEB6ECA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9A37-1720-4D7A-A12D-FECCF501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A645C-6071-45B9-8404-0A308C44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A899F-1DF9-4FA9-8492-F2F9280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F451B-5598-47F4-AD27-F83D474F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0F158-A455-4C47-8873-B202348E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EB7AE-DA12-4EFF-9B89-1471FA20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030B5-7C6C-4776-8427-E72055BA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93E62-35CC-49E8-8C90-72E1E62F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2D1EC-CE07-4280-9AA0-98D43A9E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02613-812B-4C1C-977D-2EF0A7F6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DF00D-9DBC-465B-B3F6-63230E54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FE8C-DC5E-4E2E-BFA2-C9ADCC63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752F3-FB9E-44F6-A07A-3693172C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F72BB-8223-45F8-8185-28BF67F8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B98DE-4B98-4455-97E8-010DAFAF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8D5F1-3305-4CB7-B69E-ADAFB486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A3414-D147-4A0E-93DE-6F346137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46308-ECD1-401D-9B43-7C2A2112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FC327-12AC-41CF-B58D-E60C381A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DDED2-550B-45AF-859F-353E9064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CC50C-2553-4C77-81DF-1AEF8BEE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4E699-6357-42E9-8413-F8448A1E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1E6C-A39C-4ABB-9D88-B8430C0E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F4981-57A6-4B9C-AC23-A5F871B5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C6840-01D7-4206-8FA8-B37FD707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3B54B-3052-4CC2-A28B-7C678CCC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AF293-E434-49CB-9AF2-BCADA85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97B76-614D-4008-9FE0-6A14317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C7253-8916-44EC-A935-986F994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3509E-ED73-4038-B6C1-F6A73D1B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B5DCB-CDC9-4034-A9E5-BED94C1A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1AFDC-52EF-4ACF-896B-AA0462DE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3E13-2C26-4370-935A-B5D44389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91A7-C7B4-4FFA-A7E1-E995631E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12BD-39AC-4F78-AA4A-DF1C9597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971-F2A0-4801-8010-709BF132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EDF6-9479-4171-82AD-7E67C673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B19E-A74B-4D5F-8881-BDEC7EF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AC86-69ED-4CD3-9F82-F827D24C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19EC-385D-41E8-8F0D-58E6617A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89EE-453C-42DB-949C-31CEE1E3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9A58-B83B-4469-AACA-01E92DE5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49FC-53DC-4835-9A5D-2CCD874D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5B1D-3EDC-4773-AD47-C402E69B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116D-2710-493B-A7DC-DA47D167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EDE2D-2134-41AC-870F-1969D8AE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A52-18C3-4B2A-8F9D-07147A88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1BAB-E7F1-4041-89D8-7EFB185F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B0E5-FB4D-4375-B4A7-45E858EB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4E1C-60AB-4674-BDDA-A03FCD8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C5E3-7B3F-4A9F-9E48-264E455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195D-A872-425F-8F0A-E9FC6D98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135D-7927-4322-A048-26E3DECA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72C08-1DBF-423D-A2A6-0DA6B1B8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6037-05D3-4128-A7F1-5424C54C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970A-11E4-4541-9E57-A05F31A2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2DB3-3C85-4CF2-89E2-F97C1BE4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6B6-A135-4A0C-87D1-BD377EFC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F37E1-C053-4869-8A9C-8438DE1F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21BD-2AB1-42AD-ABB6-5EA55CE7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140D-46BF-49EE-8EB7-78CD4314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C0B4B-BF69-4918-9FB7-862490D4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7EBC-6717-4FE5-969F-66FE5CFD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5CA75-9B3D-436F-B65B-AC0BC676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9EE61-0068-4287-B178-3AE89800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EF4C8-7305-4840-81BF-23C3E4F2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7535-8DA7-42CF-9187-5ABBABB6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54925-E2A0-4FC9-B77B-CE69C686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CE4-D84F-4A89-BFFB-02C6C457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1A202-60E2-4BF8-87B0-5F5AD8C6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9CF78-E0F3-46B0-9E07-04D63927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05ADA-652A-41C5-9D83-BCF8BC25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EB745-32CC-469C-90FE-12407644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7E35B-E04A-4901-B311-C9BEEC6C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A85D6-64F2-4558-94B8-C1457EC1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C6D57-F657-4632-99AE-775E099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21AB4-F794-416D-BB1F-1D8D04A7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0DEBB-4B00-4E5D-8B6C-2BD4EA3D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95F3-0558-4EE1-9EF0-8FE85AEE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354-F920-40C2-AD58-092848E2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45B85-EF4B-4C47-A97A-40162480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BAC03-F6CD-41F6-A25A-665231F8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FE4E-3940-4F87-94E4-9F537071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7CBDF-4DF6-4478-BD68-E74F179B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60A6-F26E-4E19-BA87-B6385D80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E88CA-99CD-4250-AB8F-CBF50DA0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A4AD-C34A-46A3-8646-7D4750F3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25B23-159E-48D5-ABE2-88E4E935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16C72-6131-4D52-A49D-788D0C87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DC406-28F2-459D-AFB4-39E62DD6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D2A-5BE6-49A7-B6D2-C9F2D7C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D35DB-BDA3-4C31-BFB6-1DBB9ED3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668F5-39AA-4ED4-8CA3-57DD9F68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709BF-5A51-49FB-AFA0-6683EF68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C580A-DBCE-4CC9-A006-F4E342B0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632B7-1E4C-45A5-9EF7-51F2D08F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A8141-B8D3-4136-86F2-A072E712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5EDBC-F46B-4E9E-9C12-1BF644E0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4A300-34EA-4BB4-BE7D-3ADC2D3B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F60DF-D787-4D54-B109-7C5DE27F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DE463-7E73-4EE9-93D9-A07AE3A5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60F-42B0-4C6D-8115-2CA7DBD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B369C-3621-481D-8608-624DAC58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F1D94-794C-42D8-B6E7-7823DB53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B3914-FB49-4AE2-AE93-08FDF9B8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3DE1A-0B55-403C-B83F-5CE1955B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0C65D-19CB-4B50-855D-B4742998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3B68E-0C21-46DD-913A-CC65BCFC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31309-CD71-423F-B21E-A9CB8650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1529D-18F9-4208-9D28-6518DD16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6A55E-D0DA-4DC1-AACA-F096C4E1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BC8C6-8EF7-4C8C-BF10-95F883D6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533-D3EE-4577-8BB9-FB6FDA01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41DBE-F9F2-42EE-8270-7D924BB0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EAAE3-4540-47E5-AD3C-C44011FE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31110-88FD-400D-9AC6-727641E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7C6FD-3380-4AA1-A853-28DEDC5F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E594D-9551-4D2F-8CDE-AFB06018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1877E-2D18-4113-A91A-41CBE189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F2F52-5BED-408A-A8D8-B5E4BF5D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2AC89-24F3-4E77-B762-6AE02E85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44B0C-C435-4218-93B9-7804F350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A6838-53EE-40AD-84F1-B5527F86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4CD6-9063-47B2-8136-05BB817B2037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4899-2248-4B5B-A703-97E2051BF9D7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722D-FBEA-4830-8138-3A90D64BD314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3F3B-AF69-4BD1-B002-30EBE7753EEB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07D5-4AAA-4DE0-A9FE-BBEF0C9B2734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F016-E1AE-4603-B745-95F74793EAC7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F526-93F2-43DE-B7FC-972759331C2C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0F2E-29B7-4DDF-8293-397CF6E8310C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D73B-9505-4AFA-AAEA-BF94C52C00A7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D78F-32A1-467E-971A-45D68B6DFF78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1FD0-A635-4252-BE70-A5D616F40B4E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576C-5DCD-4DB9-BB8C-E868943969D5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2373-509B-457D-974A-61FF2C93224E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B6E5-3689-44CC-B00C-9E55D7DBBCA0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366"/>
                </a:solidFill>
                <a:latin typeface="Arial"/>
                <a:ea typeface="SimSun"/>
              </a:rPr>
              <a:t>Bibliography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97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BD, 2011/12. Sub-regional Workshop on Valuation and Incentive Measures. http://www.cbd.int/incentives/meetings/. Last accessed November 2012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Z, 2012. Integrating Ecosystem Services into Development Planning; A stepwise approach for practitioners based on the TEEB approach. GIZ, Germany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C, 2007. Stakeholder Engagement: A Good Practice Handbook for Companies Doing Business in Emerging Markets. IFC, Washington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fery, N., 2009. Stakeholder Engagement: A Road Map to Meaningful Engagement. Cranfield University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keholder Forum, 2012. FAQs. http://www.stakeholderforum.org/sf/index.php/about-us/faqs#FAQ3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n Brink, P. (ed), 2010. The Economics of Ecosystem and Biodiversity in national and International Policy making.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, 2005. From Words To Action. The Stakeholder Engagement Manual. Volume 2 The Practitioners Handbook on Stakeholder Engagement. UNEP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, 2010. The Economics of Ecosystems and Biodiversity. In Business and Enterprise.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-ROLAC, 2011. TEEB Capacity Building Course, Caribbean. http://www.pnuma.org/english/comunicados/310311/1cpb35n_i_en.htm?DocumentID=659&amp;ArticleID=6912&amp;l=en&amp;t=long. Last accessed November 2012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BCSD, 2012. Biodiversity and Ecosystems Training. http://www.wbcsd.org/bet.aspx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tmer, H. and Gundimeda, H. (eds), 2010. The Economics of Ecosystems and Biodiversity. In Local and Regional Policy and Management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, 2008. Ecosystems and Human Well-being; A framework for Assessment. Island Press, Washington 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le University, 2011. The Economics of Ecosystems and Biodiversity. http://environment.yale.edu/TEEB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11:45Z</dcterms:created>
  <dc:creator>KREBS</dc:creator>
  <dc:description/>
  <dc:language>en-US</dc:language>
  <cp:lastModifiedBy>KREBS</cp:lastModifiedBy>
  <dcterms:modified xsi:type="dcterms:W3CDTF">2013-08-05T14:12:56Z</dcterms:modified>
  <cp:revision>1</cp:revision>
  <dc:subject/>
  <dc:title>Bibliography</dc:title>
</cp:coreProperties>
</file>