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8FFD-2FB5-4A32-A262-F644B44549F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0E8DF-E823-496F-9799-7997A4F2755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Provi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participants with key list of useful resources for module 5 as a handout and highlight some of the most useful references for the training cou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95E5-DCC2-4DD1-8411-C65638FA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9B2-65A9-4154-9193-D43A0C7C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83BE58-89DE-4450-A165-5C64DFE8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CD1CF-654D-4672-B2AE-2D05CA0A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10866-78DF-4F85-ACD2-9DEF6CA6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53E86-6794-4D72-B614-7435AA01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0E89C-D3FB-4235-B49F-222D95D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6DD6B1-BD28-4E23-BC87-FE66F505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CDB33-4D7E-46AD-9B4C-2B17B033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52A3C-8F54-4C34-A884-657919DB9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5FA8B-EDC9-4BF1-875E-9F608F44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FBD64-A1DC-419D-8ED5-35F7E591A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74C-26A9-4702-8FCB-82749E65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E62157-450E-426D-BF77-380D5A72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4662C-8DA1-4F99-8ACE-24A50DB7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9374E-DDB7-4330-BC98-E9DEEF520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279306-1241-4C0B-BBE6-806687C9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AF0357-8689-4BDA-AEE3-53F54494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0A26E-0F48-432A-8DC2-7B3298DA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FDCCD-BFC1-4E29-83A2-00AEB1B9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BAAD7-84C7-45EC-8448-0D5C6D28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0BA87C-3943-4D36-80B6-0CE9199B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C8A31-A33D-4574-8AD2-3880F536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9E4-CA44-4137-AEAF-D36547AC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11B3C-6BCD-401D-81DB-11CD0D18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D1A1F-3A1F-4232-ABFB-FBACEAECD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8D188-C701-4E3D-B38A-3761A86B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8D73B-B39B-4E36-9DC4-3BD0E492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A2AD7-E0C7-4A3B-9E6D-9169392C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EE3E1B-DC1B-449B-896C-BAEDA293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D815C3-2136-4636-966D-8F000A5F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E221C-7671-4E51-B3FD-7662095F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0B7CA-891F-4E77-B172-95FF2378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7FAF3-24F4-413D-889F-A289BEE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63F2-3654-4184-95FF-C413379D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71682-F53E-402B-8F8B-21DB0AC8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6BF26-588F-4659-AED9-B3461620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8DBB5-C807-4082-A8A9-35CEF969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23EED-D162-4D3A-BAC2-AC7E60BF7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2EDAC-8938-4CBD-A10D-BDCD5046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B2EE8-C610-4B5A-8104-25F3BF37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FAB2A9-0771-48F5-A71F-5FAB82CF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CA2FD-E1BC-487D-BB09-50D727A8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ECB7E-71B0-4EE3-840C-9A9A55D3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074693-10ED-442D-842C-A3387F91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88E5-2056-4282-B19F-62FADDE5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332F6E-35E1-49F0-BB76-B4B6775F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2B602-49BF-49AF-B2B0-7BFF71C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61D1D-EA9E-4E4E-B9F1-C74665A9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214E7B-017E-47E5-8E52-2A2A70A23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EAED3-FBAD-48DC-8A87-93CBE2E8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B81CA-0E77-40AB-A6F7-C0B0A5AD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F6472-7570-4698-B196-100B154E1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448C1-A384-440D-B58B-0AF5CA55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492AC-5EFC-4D50-9D99-2C1F1A51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69DFD1-5901-4DF8-827A-C02FA243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1B4E-8698-499F-A687-31134C88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60FBAD-FB76-47EE-85B4-7B2E219F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B38FA-3C03-4264-9181-7C52BEC6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42D47-5997-4674-8CBB-8EF3B9C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036A3-9380-4D14-B41A-55002E97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207D3C-C6D1-4F1C-84BC-FF472FC4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B0A096-F5CD-4A4B-8273-95D7853C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169A2B-74CE-4BD8-970C-8937F52E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827C52-854B-4BEA-9C61-B93619E7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C47A5-2CCC-48B1-9B3C-5EF9BFBE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9D80FA-5425-4482-8928-66CB16F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E263-4BFE-4ED1-BEA8-1A34707CE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08F3D-445B-4071-8B4D-9E9C8B11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94DA0C-C6F5-46FA-91FA-A2F6DDBD0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D9EF2-F0AD-4507-BF18-C393E1D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32191A-1B88-4DC6-860A-11B57351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60DE00-7DBD-4C6A-8D08-28F0B259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EDA4A2-9CD4-481D-8796-5561B68E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B45D1-304F-4643-8D52-00CFD5BE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A4D9F-B4E2-4463-8B8D-F26D41FCB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626468-5AB6-48C7-9632-D418C666D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0553-1F6A-474F-B4B8-83803F17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B238-63A5-4B01-8EC0-13F4C29B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C940F-8606-4ADF-9BF3-28658FE9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D2A1-5454-4B5F-964B-937739BA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0E7B-05FC-4BD1-B38F-D1B1E2B3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C734-2B8C-4EA9-84D7-1246C5BA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ADE9-B2FD-497A-A5F0-A7546BF1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8D8FC-10F2-42C5-8418-CB0ACAA1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2894-65B5-4A07-BB0A-2B9100C4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7B22-CF05-4CA7-9662-A9F06923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5353-03E5-4B7B-B5CC-CACB6C73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F0A07-D8A4-405F-8F42-040885EA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8ECD-DF9E-4F8D-B5DE-98552A4D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9EA34-1F26-428E-9BC1-F858D644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411C-A6E7-4BE6-80A3-6A68DB3B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4483-014B-448F-B792-82237623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D99CD-3B92-41BC-8AA0-E089FA93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E9DA0-4B56-4AF2-B4FC-022E184D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D53B1-6EB2-48D0-8153-B5861355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B282-2F8D-46A9-988E-4529E2EE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0359-E7F7-4B56-9A3E-F0FE5FCBA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ABDD-75C3-4CAF-A842-FC3A78C4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EAD79-3C08-47A3-BC07-6641BB8C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016BC-D631-4D51-AB0B-4B327A15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1DAF4-7AA3-4D4C-833B-01A442530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19C-F7C1-4318-88ED-4BB20E63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7327A-8470-449C-8AB1-6003E3B6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1E576-2631-4D76-9304-0D8554842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7A5C8-CA38-40FD-AFA5-BD989C87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8F89B-1A27-4A42-9CA8-784E5D23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B88A6-C48D-4162-A60D-FAD93046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040BA-FB89-432C-913B-702386D0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148C2-AC97-494E-86A7-61139317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40B7F-A7BD-4519-8910-F58427260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08F6-7B26-42BB-817B-219CD408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68250-A751-4A93-BACB-50518726E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B0D1-B8E1-45E1-AE0C-7050A9F5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56CD5-1388-41FE-8850-AF233291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9D5DC-57C2-4858-B666-2C9FE2B7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B65E-222E-45DC-8030-A074BEF0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D43AE2-0B75-4FF3-9E50-63EB2493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45D1A-29D7-4A0E-9529-2AD27D05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36CC7-3B8F-4E9A-A840-30658619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C2B81-713C-44D5-887C-78685F60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37145-2C55-47B7-BC94-DAB46B41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76F2D-FE8C-4E8C-9FAA-884A22F1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C2358-D38B-4B2B-9C55-9D2B47A6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7052-620F-4ACF-8C1C-042A6C250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FEFFE-992A-4615-8A1B-80F308AF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A9563-55C4-4ED5-A04D-1100054F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4E64A-9474-4931-9910-F555AC13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F830-BEFE-4082-876B-F252D7E0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5476D-8F76-4DC2-A9FB-CC1E1157E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4954-B2EE-4A2F-B2D9-149A406D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78388-6CC8-4EA4-BDD5-18EAAD6A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8C1B8-7D3F-4DFF-BC68-0FA1BAE2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8263F-2DED-4A09-AC90-F0A43EDC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64811-A3D7-4877-B095-F22BFF1B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7BB8-2FDE-4229-A95F-9AA5C303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9A5E9-F97B-47BB-9302-66F238B0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5C83A-6B38-46D6-9B18-D56A4CA4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5EC7A-30D3-46AE-9D4C-3CE8F525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918B-E4FC-48A7-8280-5E6546AA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13775-BC06-4B8D-A74D-EF140E4D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C4E78-63E4-4C8D-B75A-D8125738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D225C-94DC-43B8-BFFF-EB33C0F3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644D0-1708-41A3-8C58-CDD3AB60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0E2DD-35BA-41CE-8A50-88C27AA4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4A656-3290-4380-989B-1C525BEA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983-33A3-41CE-8124-51BAB751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BC202-9EEA-4E58-96B3-B44032B2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989B6-FBCE-4172-8DE6-B2406B1A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3AA7F-63C1-4410-B562-E58975F1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30031-CA9C-412E-A28E-E1B50516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6BCF1-1FAF-403B-9D54-E211C69B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E818E-03CD-47AA-A091-B267222AD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5734D-D279-43B9-BEA0-D2EBDA31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89EE09-7CAE-424E-BF45-2A2EFCDA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FD536-4F41-451F-964B-71B7F4AE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ED2830-474F-49C4-A3A8-AD0BF8E4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25A-5D2C-4471-913D-F8AA59D1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F0FD4-C041-4903-B837-71F7D10E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59EFA-A9D5-4BA6-8B9C-101E168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4C3A2-9508-42C2-B2D8-63813058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0867F-04B7-4889-82A0-96107FBE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2D35F-1786-406B-8336-D35EDBA7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BA388-9313-4E09-A1C2-F3AE3B99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98AF5-4972-4711-9572-923F761D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B965AC-1CCA-4A12-BC57-C1E1AC42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A95EF-AED4-45A7-86FE-A1781E1E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70EA8-C3B2-4FB2-8BB4-AA2942F3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F17F-4AEE-4823-BDF9-802DF6F473CA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BAA6-E90B-4D8B-8C9C-75852F7F4F52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7484-438B-40A5-847C-4C3264E9A804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4C9-BE1F-4340-BC3F-354332F6FD36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BC5A-6F3F-4056-BA60-EB3DE4F8E7C7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D59F-7531-4B50-B493-B61F4DA36132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31CA-7546-4C3A-B7FF-58A7E7C5C60E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61F4-B395-4B92-B83D-C117E8B90999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4C3F-2A3B-4CC1-B730-5E8B63B105CA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101A-8CED-4CF7-8786-530C67004C87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187B-3A98-472A-86FB-3507901DF2C0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45CD-FFBD-4C6E-A2D7-45A12B41EB3A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AB5E-68AE-49FA-8990-730078956DA8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B3C3-E2C2-4936-9BF0-2251846C3692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366"/>
                </a:solidFill>
                <a:latin typeface="Arial"/>
                <a:ea typeface="SimSun"/>
              </a:rPr>
              <a:t>Bibliography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97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BD, 2011/12. Sub-regional Workshop on Valuation and Incentive Measures. http://www.cbd.int/incentives/meetings/. Last accessed November 2012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C, 2007. Stakeholder Engagement: A Good Practice Handbook for Companies Doing Business in Emerging Markets. IFC, Washington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fery, N., 2009. Stakeholder Engagement: A Road Map to Meaningful Engagement. Cranfield Universit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keholder Forum, 2012. FAQs. http://www.stakeholderforum.org/sf/index.php/about-us/faqs#FAQ3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 Brink, P. (ed), 2010. The Economics of Ecosystem and Biodiversity in national and International Policy making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, 2005. From Words To Action. The Stakeholder Engagement Manual. Volume 2 The Practitioners Handbook on Stakeholder Engagement. UNEP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, 2010. The Economics of Ecosystems and Biodiversity. In Business and Enterprise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-ROLAC, 2011. TEEB Capacity Building Course, Caribbean. http://www.pnuma.org/english/comunicados/310311/1cpb35n_i_en.htm?DocumentID=659&amp;ArticleID=6912&amp;l=en&amp;t=long. Last accessed November 2012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BCSD, 2012. Biodiversity and Ecosystems Training. http://www.wbcsd.org/bet.aspx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tmer, H. and Gundimeda, H. (eds), 2010. The Economics of Ecosystems and Biodiversity. In Local and Regional Policy and Management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, 2008. Ecosystems and Human Well-being; A framework for Assessment. Island Press, Washington 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le University, 2011. The Economics of Ecosystems and Biodiversity. http://environment.yale.edu/TEEB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4:11:45Z</dcterms:created>
  <dc:creator>KREBS</dc:creator>
  <dc:description/>
  <dc:language>en-US</dc:language>
  <cp:lastModifiedBy>KREBS</cp:lastModifiedBy>
  <dcterms:modified xsi:type="dcterms:W3CDTF">2013-08-05T14:12:56Z</dcterms:modified>
  <cp:revision>1</cp:revision>
  <dc:subject/>
  <dc:title>Bibliography</dc:title>
</cp:coreProperties>
</file>