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DB61-B4CE-48F9-A659-E92BFD102CB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064A-DC85-44C2-A859-81C64F5D33B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47" name="PlaceHolder 1"/>
          <p:cNvSpPr>
            <a:spLocks noGrp="1"/>
          </p:cNvSpPr>
          <p:nvPr>
            <p:ph type="sldImg"/>
          </p:nvPr>
        </p:nvSpPr>
        <p:spPr>
          <a:xfrm>
            <a:off x="1144440" y="687240"/>
            <a:ext cx="4569120" cy="3427560"/>
          </a:xfrm>
          <a:prstGeom prst="rect">
            <a:avLst/>
          </a:prstGeom>
          <a:ln w="0">
            <a:noFill/>
          </a:ln>
        </p:spPr>
      </p:sp>
      <p:sp>
        <p:nvSpPr>
          <p:cNvPr id="64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F4CD-52A2-426D-8B65-FBEADF7D7CD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elcome</a:t>
            </a:r>
            <a:r>
              <a:rPr b="0" lang="en-US" sz="1200" spc="-1" strike="noStrike">
                <a:solidFill>
                  <a:srgbClr val="000000"/>
                </a:solidFill>
                <a:latin typeface="Calibri"/>
              </a:rPr>
              <a:t> participants to Module 3;  Conceptual Frameworks for Considering the Benefits of Na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why conceptual frameworks are important in ecosystem assessmen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Mention</a:t>
            </a:r>
            <a:r>
              <a:rPr b="0" lang="en-US" sz="1200" spc="-1" strike="noStrike">
                <a:solidFill>
                  <a:srgbClr val="000000"/>
                </a:solidFill>
                <a:latin typeface="Calibri"/>
                <a:ea typeface="SimSun"/>
              </a:rPr>
              <a:t> that adopting, adapting or developing an agreed conceptual framework allows all parties to the analysis to develop a common understanding of the assessment task</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56F3-235B-4AC5-94CB-5914D6215E2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overall goal of the module is to demonstrate how different conceptual frameworks can help decision makers better understand the connections between human well-being and nature and what is required to maintain well functioning ecosystems in practice (i.e. the context behind the TEEB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5095-2D18-4BBD-98AB-3C0D5D118BD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specific objectives of the module (see objectives on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alibri"/>
              </a:rPr>
              <a:t> </a:t>
            </a:r>
            <a:r>
              <a:rPr b="1" lang="en-US" sz="1200" spc="-1" strike="noStrike" u="sng">
                <a:solidFill>
                  <a:srgbClr val="ffffff"/>
                </a:solidFill>
                <a:uFillTx/>
                <a:latin typeface="Calibri"/>
              </a:rPr>
              <a:t>- Explores </a:t>
            </a:r>
            <a:r>
              <a:rPr b="0" lang="en-US" sz="1200" spc="-1" strike="noStrike">
                <a:solidFill>
                  <a:srgbClr val="ffffff"/>
                </a:solidFill>
                <a:latin typeface="Calibri"/>
              </a:rPr>
              <a:t>the various existing conceptual frameworks that are available for making ecosystem assess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 </a:t>
            </a:r>
            <a:r>
              <a:rPr b="1" lang="en-GB" sz="1200" spc="-1" strike="noStrike" u="sng">
                <a:solidFill>
                  <a:srgbClr val="ffffff"/>
                </a:solidFill>
                <a:uFillTx/>
                <a:latin typeface="Calibri"/>
              </a:rPr>
              <a:t>- Identifies</a:t>
            </a:r>
            <a:r>
              <a:rPr b="0" lang="en-GB" sz="1200" spc="-1" strike="noStrike">
                <a:solidFill>
                  <a:srgbClr val="ffffff"/>
                </a:solidFill>
                <a:latin typeface="Calibri"/>
              </a:rPr>
              <a:t> some of the trade offs, limitations and challenges of </a:t>
            </a:r>
            <a:r>
              <a:rPr b="0" lang="en-US" sz="1200" spc="-1" strike="noStrike">
                <a:solidFill>
                  <a:srgbClr val="ffffff"/>
                </a:solidFill>
                <a:latin typeface="Calibri"/>
              </a:rPr>
              <a:t>valuing ecosystems and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 Introduces</a:t>
            </a:r>
            <a:r>
              <a:rPr b="0" lang="en-GB" sz="1200" spc="-1" strike="noStrike">
                <a:solidFill>
                  <a:srgbClr val="ffffff"/>
                </a:solidFill>
                <a:latin typeface="Calibri"/>
              </a:rPr>
              <a:t> some of the major activities that are taking place at the international level that are translating these concepts in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CB50-61A7-48C0-8C15-2DC45C33931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on what each session of module 3 contains – see descriptions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iscusses in detail the different conceptual frameworks that exist and are available for assessing and valuing ecosystem services and biodiversity and considers their various purposes and objectives. If asked, explain that a conceptual is a theoretical framework used in research to outline possible courses of action or to present a preferred approach to an idea or tho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2: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highlights the various challenges and limitations involved in ecosystem valuation. It also discusses the links between ecosystem valuation and poverty alleviation as well as the links with the Millennium Development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3: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emonstrates how these concepts are currently being translated into action at the international level and considers the various different activities, including TEEB itself, that are currently being execute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445E-53CD-4835-914A-42E8196D73A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main learning outcom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monstrate </a:t>
            </a:r>
            <a:r>
              <a:rPr b="0" lang="en-US" sz="1200" spc="-1" strike="noStrike">
                <a:solidFill>
                  <a:srgbClr val="000000"/>
                </a:solidFill>
                <a:latin typeface="Calibri"/>
              </a:rPr>
              <a:t>an understanding of the existing frameworks and under which circumstances/context they can be ap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cognize </a:t>
            </a:r>
            <a:r>
              <a:rPr b="0" lang="en-US" sz="1200" spc="-1" strike="noStrike">
                <a:solidFill>
                  <a:srgbClr val="000000"/>
                </a:solidFill>
                <a:latin typeface="Calibri"/>
              </a:rPr>
              <a:t>the main limitations and challenges of valuing ecosystems and biodivers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a:t>
            </a:r>
            <a:r>
              <a:rPr b="0" lang="en-US" sz="1200" spc="-1" strike="noStrike">
                <a:solidFill>
                  <a:srgbClr val="000000"/>
                </a:solidFill>
                <a:latin typeface="Calibri"/>
              </a:rPr>
              <a:t> and </a:t>
            </a:r>
            <a:r>
              <a:rPr b="0" lang="en-US" sz="1200" spc="-1" strike="noStrike" u="sng">
                <a:solidFill>
                  <a:srgbClr val="000000"/>
                </a:solidFill>
                <a:uFillTx/>
                <a:latin typeface="Calibri"/>
              </a:rPr>
              <a:t>understand</a:t>
            </a:r>
            <a:r>
              <a:rPr b="0" lang="en-US" sz="1200" spc="-1" strike="noStrike">
                <a:solidFill>
                  <a:srgbClr val="000000"/>
                </a:solidFill>
                <a:latin typeface="Calibri"/>
              </a:rPr>
              <a:t> some of the major activities where these concepts are being put into ac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1080-1C59-4C9F-A0B1-50501AED6E4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agenda of module and timings of each session (this is a half day session on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importance of time keeping so to keep course on schedu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ACE0-2300-486F-BFFE-EFA3761F9A9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rpose-</a:t>
            </a:r>
            <a:r>
              <a:rPr b="0" lang="en-US" sz="1200" spc="-1" strike="noStrike">
                <a:solidFill>
                  <a:srgbClr val="000000"/>
                </a:solidFill>
                <a:latin typeface="Calibri"/>
              </a:rPr>
              <a:t>The purpose of this icebreaker is to create a discussion to let participants start to think about conceptual frameworks based on what their understanding along with your guidance. Help them better understand by providing them an example of how valuing nature has helped a certain area or count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a:t>
            </a:r>
            <a:r>
              <a:rPr b="0" lang="en-US" sz="1200" spc="-1" strike="noStrike">
                <a:solidFill>
                  <a:srgbClr val="000000"/>
                </a:solidFill>
                <a:latin typeface="Calibri"/>
              </a:rPr>
              <a:t> would be a good time to stress the purpose of this exercise is NOT to put a value/price tag on natur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ce</a:t>
            </a:r>
            <a:r>
              <a:rPr b="0" lang="en-US" sz="1200" spc="-1" strike="noStrike">
                <a:solidFill>
                  <a:srgbClr val="000000"/>
                </a:solidFill>
                <a:latin typeface="Calibri"/>
              </a:rPr>
              <a:t> participants have finished, start the discussion by allowing them to discuss their answers and try to lead them into how is beneficial to start to begin to realize the benefits of natur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7B3F-F89F-4FE3-9C76-BB65080E007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rovide </a:t>
            </a:r>
            <a:r>
              <a:rPr b="0" lang="en-US" sz="1200" spc="-1" strike="noStrike">
                <a:solidFill>
                  <a:srgbClr val="000000"/>
                </a:solidFill>
                <a:latin typeface="Calibri"/>
                <a:ea typeface="SimSun"/>
              </a:rPr>
              <a:t>participants with key list of useful resources for module 1 as a handout and highlight some of the most useful references for the training cours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SimSun"/>
              </a:rPr>
              <a:t>Tshala to provide as a handout</a:t>
            </a: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A9DB-8F30-4E26-AA2E-0AD5353EE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1B77-6CDB-4FC2-AD9E-AFA23111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E76617-6536-4E39-B5C2-56CED145D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8AEE99-D8D6-4576-B5A4-0C05C15EBF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7BCFD-E6EF-496E-AA0E-E163DABB82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9969B-B7ED-4575-B1AD-5FFF66EBE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52B64-CD5C-4B2B-8D40-4D5577CF6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D33A1-2764-4A84-8E5C-B1E819B87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C998D-5269-4762-BD4E-5D42689CAC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861DCA-38DC-41CD-A06D-5C4698520F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A003F1-02AD-443E-B2AA-59E58073D4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41B1E5-8417-428E-969E-209F4E4AAE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15353-5FE1-4544-8A8E-80B53F09E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44DECC-A636-44A8-9B56-0D8527C86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E49687-0B31-4D97-8900-658A6D90BC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ED04FA-5FA8-49DA-96F2-3315D5E7A9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B8F777-D75E-4149-B63F-732760312F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480267-8620-4A7C-8111-368669749E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F0FC37-EB8A-4DDE-B982-DF77D2FC0D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6AABCB-B7C4-438C-9EFD-55BA38CB29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6035D-9FA7-4C47-B641-9A27353A92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D366EE-F933-42B3-A5FE-05946B19AB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ECF34C-953C-4411-A0C9-C371F38A1A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05FBC-0789-43A0-A0C7-3085A36DA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C3C0A6-D044-4461-982D-60ABA0D21C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182502-B688-4347-9A06-8D20286B3B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CD27A3-0442-43C1-A54B-A79B401475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F313C5-F953-49A6-8658-EB3E6C9D26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E7EE22-058F-4E89-B26E-CB66A5E252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E14BE6-6C5C-4619-96B0-08E09A749F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544B33-6C16-46DB-A885-F5BBE98E1B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969AB-DA3C-420C-86E1-5396551667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3FC32E-CDC3-4124-9CED-C22DD6CD15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F8AA63-84E9-4A05-B0EF-B811B5AFEF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D35CF-6785-4F5F-A19E-A2C01DDCC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B6D1B9-AF0B-4E96-8E29-347E51F725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7823F0-E3E5-47BF-BAAF-BDF4B131F9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F93CB0-B07C-441F-AE5B-E5E0A3A9EC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FC4B8B-681F-4C76-B811-2CA1B5B969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E3C173-6C6F-48B7-8327-4E0E10AD6D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B94B73-2ABC-40DF-8B57-BC66D0DEE2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A4C3CE-F689-488C-929C-05691D9572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E3DD37-F4F9-48EE-BF4D-01A04B2A47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177B47-E7DC-411E-8DF9-4BFAEA924F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F9C92D-8B3F-4EEB-BFCD-39302BF9B2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B0CAE-9C3B-4DC8-8081-D32D8480A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B45B44-C620-4D1D-A09C-F791D63A8A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45A7AD-6EEC-4908-A979-21D9CFA837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8CFB6E-8EAF-4B32-988D-2D385D3A35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03BDDB-8B3B-47CD-B87A-F494E561C2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B030D2-0622-4BC8-B77D-8791018899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8E0FBE-8E10-4E7D-B71C-66318CDEDC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925F50-7345-4ACD-80C8-881E5DBA00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6F8D63-0826-4986-9C12-5CDD961D55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9AC229-54D7-4DA7-B7C8-C6817BB5B5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1EA1F3-DD95-45DC-BF6D-260EA62363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8763A-8944-4E6D-AEBD-2AD9B526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E79935-E887-469D-BC4F-16963679B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909783-770D-4BF9-9BAE-1403EDEBB0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B195C5-CF11-4FA6-A43D-ACFCD41BE5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30952E-79F9-40CF-906D-EA7296E77F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75445B-CB6E-4F90-9584-541E347A52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EE7BC4-ECF0-4BA2-BBBB-8AEB638FC2B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0E2782-BE3E-46F3-8783-79600D2158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781912-09FB-41DF-BEBF-8FDB1E554A8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50BA07-5C2E-4004-A391-98BB930B99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5A0E16-05F1-4571-A4D0-F18F1F18CC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2C451-BFE4-4DB6-B373-CED35C0C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0D7043-5CBA-446F-B3D7-C2EC7A4347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E5C081-28D4-42AC-A5F3-6B91AB0C5F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5EB67C-66B6-4C00-8C71-5ADE980E1A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D939BE-826B-4CBE-A291-157E9736D2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9FAFC6-03AA-44DF-AAB1-B76DF8BC5A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9CDFAD-579E-4836-A709-BC78C40FFF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04C6CE-B74D-494B-A5F4-E224A47D20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D4D0213-799E-4E51-BC52-B557FC55A5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9A39E6-201E-45C7-910C-6413A0458B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5408A-FA4B-44CE-ADC1-54C08C0D4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74FC0-2179-4276-B3A5-53D61F360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FB36-8704-405D-8226-55BD40D00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AA94-9214-4A38-9700-A0A68B4A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0E18D-8014-4FAB-8EF2-DAB3AE9F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B1C86-ACA3-4222-A3B3-A24A1CECE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AD7EB-539B-4C21-807C-DF6731BDF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687E3-30C5-414D-B49C-2E80FBC2F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BA711-8CEC-4449-A09B-2B01BEDAC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A7B14-684D-406C-ACF1-5CFC40220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D07A3-3A88-4787-B167-7FF8F4B1D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DB8C2-A01D-46B8-AF17-3C200D3D5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D2577-F173-4055-BE77-779E36C6C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80094-FC21-4A22-9215-AC951AB5A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52435-0D37-4A18-ABF2-A213BD69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523E07-FBAF-4C95-BD88-CADBE6A94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7106E-71A8-4654-999C-42B1C7FEC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47471-622F-4961-8589-B4E791F3D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AEEDB-D3F7-4D27-B8B9-73237BF6E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41F89-48ED-43A0-A33E-4F80DE8A7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8924E-FB6D-478D-8DDA-FD173A9E38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82B86-1995-4BEA-94B1-B7FD9F70F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562C19-DE13-4D34-9ED0-A0CE029434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C2174-3E86-47CC-95D2-5EB928260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1230A-7BB7-4EC5-90CE-C866006F4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594D6-91F9-4F19-A20D-E7235661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771AE-EBC2-458A-BEF7-CB779B1E8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9F040-EB2E-4883-A36F-D6FCF338E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C6AEF-47CD-4736-9CC6-5386B8E20E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12135-CA59-4D52-8470-74A60D07A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465FC-14C3-4F72-87EE-B34F9E2FC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F2740-96BF-4094-984E-291D3D888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33D70-0E40-4CAC-B20B-CDA031CAE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093F3B-6F51-43F8-B315-820389D84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4BC544-95CC-4D85-8D78-B40CABC2CB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D9E0DD-ED78-4688-A136-0A7864F69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E8D6-F37A-4638-B667-1CAAA838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A151F6-E5A3-4CAB-8E7C-2A23B3232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33E59-CD3D-49CA-921D-B718138B9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470DC-E455-466C-A7ED-6CD581374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A9FC3-023A-4C39-97F0-DF6A22877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D6D30-9C1F-40D1-B6E1-C19C775A4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5B4AB-56EC-4ED2-804F-D529D7EB2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02F97-3D1B-4D51-BC42-AFC9F846C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6D959-C316-4C67-B486-C74C41EB0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B2D418-4179-418E-8CF7-AE65C6532A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F7B31C-A89F-4AA3-96BC-B0F47CAF47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CFA9D-C03B-40DA-AFA9-CC7CA072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35DAD-A8A6-439E-AC8F-86BE41B901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3B0092-88AF-4B5F-BC13-287D86C033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25A03-B348-4437-AC7E-4C20D0432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8EB6C-4E1E-49B3-B415-53987B2A6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7CCF4-4967-4221-B5AD-8948669B3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3C508-8B3E-4159-AD83-703B7DD91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6649B-1A76-4D14-8959-D55F659DC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59131-51F6-498A-9413-6F77A8E53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71E4C-1DDB-4631-B387-588B3880D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E4E65-F459-4173-AB02-49C3EB234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2718-2764-428D-A58A-0EDBDC42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5D830-29B3-4F3A-B2A1-6CC132EDA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752B1-1E8E-4AEB-8DA6-FCA26A0FB4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AB5EA8-4D92-4781-9443-BD954885B1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44EE58-1E77-442D-BDFF-EDA7ECD91E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B76B17-EA11-476B-BDE3-3DF67F2B7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6C5F3-1A5B-4A4E-AEF6-A57C44987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74D79-738C-4025-860B-D3FE6CA10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C4C45-68F9-456C-8262-D1F9A0C19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2F607-9F84-4B42-A8A6-329569B3A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9E5D7-DFE5-4FEF-BA29-B67C01ED7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6795-75CF-46D4-A022-07F84C81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2C415-8200-418F-AE78-9851DB77B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69A20-8AF7-4B01-BED0-D5CD474A6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EFD73-191D-4522-ABA0-8E9766F61F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534385-C410-4EEC-A96D-0B3B1E346A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1D39F7-FECB-4CD0-B774-2404C5E4B5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381665-E85C-4096-BB58-BD3BB63EC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FD403-73EF-44E2-91BF-6F406C646B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96594-1E1D-48B5-902D-0D810E7827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84096-BDAE-4F94-9A08-3DA1B885A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0DA0D9-348F-4E4A-BC10-021E69F44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BE3D-8523-4411-A1F4-EEDE962F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5D83FB-749F-46D7-A51F-D49E7F9B9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ED657F-D158-4A5E-99F9-9C910759B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896DF-6211-4180-8E10-567211156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43809-0BA2-43C8-8C5E-3653E012A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DC74C-B8D2-4F86-8E8D-2511C49298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40AEE3-BB06-4FFF-BE32-8A2D3FE557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FB16B6-6DEA-4B95-A7F0-0D607B5605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5F7071-6C54-4BA3-9B84-54444B64B0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ACEE2-6257-4FAF-9EA6-5CAFAF5AD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FA1DF-DF6F-4368-A3ED-AF3BE7A9FB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795C-99E6-4AD3-98E8-855A476387F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9AF3-8C5D-4BFA-9F5C-B829A0CD3EC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7AEA-91A4-4F54-86F8-B2E6C756E43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7D1D-F735-4DBA-930A-FB38E7EF0D1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8047-C88D-4781-90E0-42B4C3E829E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CF4D-C12D-49FF-A065-570DE4868EC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5A35-9B7C-4B1D-98D2-AF98E9E464A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946A-051D-4783-9FA5-D7D61923038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D262-80AD-4064-959A-C3768392196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0DF8-7FA7-4F58-8F3E-85476D0514D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2EC1-F274-4E60-85E6-80D36AD7184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84F8-3CB8-49D3-976A-1F834B729EF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6DA2-4BE1-4319-96DC-E2AAF2AD0AC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82A1-B43C-420E-B921-49C982A9C95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illenniumassessment.org/en/index.html" TargetMode="External"/><Relationship Id="rId2" Type="http://schemas.openxmlformats.org/officeDocument/2006/relationships/hyperlink" Target="http://environment.yale.edu/TEEB" TargetMode="External"/><Relationship Id="rId3" Type="http://schemas.openxmlformats.org/officeDocument/2006/relationships/hyperlink" Target="http://www.cbd.int/incentives/overview.shtml" TargetMode="External"/><Relationship Id="rId4" Type="http://schemas.openxmlformats.org/officeDocument/2006/relationships/hyperlink" Target="http://www.wbcsd.org/bet.aspx" TargetMode="External"/><Relationship Id="rId5" Type="http://schemas.openxmlformats.org/officeDocument/2006/relationships/hyperlink" Target="http://www.unep.org/greeneconomy/greeneconomyreport/tabid/29846/default.aspx" TargetMode="External"/><Relationship Id="rId6" Type="http://schemas.openxmlformats.org/officeDocument/2006/relationships/hyperlink" Target="http://www.proecoserv.org/" TargetMode="External"/><Relationship Id="rId7" Type="http://schemas.openxmlformats.org/officeDocument/2006/relationships/slideLayout" Target="../slideLayouts/slideLayout2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755640" y="508464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ea typeface="Arial"/>
              </a:rPr>
              <a:t>Module 3:</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ea typeface="Arial"/>
              </a:rPr>
              <a:t>Conceptual Frameworks </a:t>
            </a:r>
            <a:r>
              <a:rPr b="1" lang="en-US" sz="3200" spc="-1" strike="noStrike">
                <a:solidFill>
                  <a:srgbClr val="ffcc00"/>
                </a:solidFill>
                <a:latin typeface="Arial"/>
                <a:ea typeface="SimSun"/>
              </a:rPr>
              <a:t>for Considering the Benefits of Nature </a:t>
            </a:r>
            <a:endParaRPr b="0" lang="en-US" sz="3200" spc="-1" strike="noStrike">
              <a:solidFill>
                <a:srgbClr val="ffffff"/>
              </a:solidFill>
              <a:latin typeface="Times New Roman"/>
            </a:endParaRPr>
          </a:p>
        </p:txBody>
      </p:sp>
      <p:sp>
        <p:nvSpPr>
          <p:cNvPr id="625" name="TextBox 2"/>
          <p:cNvSpPr/>
          <p:nvPr/>
        </p:nvSpPr>
        <p:spPr>
          <a:xfrm>
            <a:off x="1547640" y="260280"/>
            <a:ext cx="626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Arial"/>
              </a:rPr>
              <a:t>TEEB Training for National Level Implementation</a:t>
            </a:r>
            <a:endParaRPr b="0" lang="en-US" sz="2800" spc="-1" strike="noStrike">
              <a:solidFill>
                <a:srgbClr val="ffffff"/>
              </a:solidFill>
              <a:latin typeface="Times New Roman"/>
            </a:endParaRPr>
          </a:p>
        </p:txBody>
      </p:sp>
      <p:pic>
        <p:nvPicPr>
          <p:cNvPr id="626" name="Picture 6" descr="logo TEEB transparent print"/>
          <p:cNvPicPr/>
          <p:nvPr/>
        </p:nvPicPr>
        <p:blipFill>
          <a:blip r:embed="rId1"/>
          <a:stretch/>
        </p:blipFill>
        <p:spPr>
          <a:xfrm>
            <a:off x="3059280" y="141300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4360" y="836280"/>
            <a:ext cx="7772400" cy="118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Calibri"/>
              </a:rPr>
              <a:t>Why are Conceptual Frameworks important in ecosystem assessments?</a:t>
            </a:r>
            <a:endParaRPr b="0" lang="en-US" sz="3600" spc="-1" strike="noStrike">
              <a:solidFill>
                <a:srgbClr val="000532"/>
              </a:solidFill>
              <a:latin typeface="Arial"/>
            </a:endParaRPr>
          </a:p>
        </p:txBody>
      </p:sp>
      <p:sp>
        <p:nvSpPr>
          <p:cNvPr id="628" name="Rectangle 3"/>
          <p:cNvSpPr/>
          <p:nvPr/>
        </p:nvSpPr>
        <p:spPr>
          <a:xfrm>
            <a:off x="611280" y="2421000"/>
            <a:ext cx="7993080" cy="3157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To help</a:t>
            </a:r>
            <a:r>
              <a:rPr b="0" lang="en-GB" sz="2400" spc="-1" strike="noStrike">
                <a:solidFill>
                  <a:srgbClr val="000000"/>
                </a:solidFill>
                <a:latin typeface="Times New Roman"/>
              </a:rPr>
              <a:t> policy makers take full account of the values of ecosystem services and biodiversity in decision ma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guide</a:t>
            </a:r>
            <a:r>
              <a:rPr b="0" lang="en-US" sz="2400" spc="-1" strike="noStrike">
                <a:solidFill>
                  <a:srgbClr val="000000"/>
                </a:solidFill>
                <a:latin typeface="Times New Roman"/>
              </a:rPr>
              <a:t> analysis and define its scop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help</a:t>
            </a:r>
            <a:r>
              <a:rPr b="0" lang="en-US" sz="2400" spc="-1" strike="noStrike">
                <a:solidFill>
                  <a:srgbClr val="000000"/>
                </a:solidFill>
                <a:latin typeface="Times New Roman"/>
              </a:rPr>
              <a:t> make nature’s benefits more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provide</a:t>
            </a:r>
            <a:r>
              <a:rPr b="0" lang="en-US" sz="2400" spc="-1" strike="noStrike">
                <a:solidFill>
                  <a:srgbClr val="000000"/>
                </a:solidFill>
                <a:latin typeface="Times New Roman"/>
              </a:rPr>
              <a:t> a range of different options depending on your policy contex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630" name="PlaceHolder 2"/>
          <p:cNvSpPr>
            <a:spLocks noGrp="1"/>
          </p:cNvSpPr>
          <p:nvPr>
            <p:ph/>
          </p:nvPr>
        </p:nvSpPr>
        <p:spPr>
          <a:xfrm>
            <a:off x="755640" y="2349000"/>
            <a:ext cx="7632720" cy="2521080"/>
          </a:xfrm>
          <a:prstGeom prst="rect">
            <a:avLst/>
          </a:prstGeom>
          <a:solidFill>
            <a:srgbClr val="66ccff">
              <a:alpha val="32000"/>
            </a:srgbClr>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monstrates</a:t>
            </a:r>
            <a:r>
              <a:rPr b="0" lang="en-US" sz="3200" spc="-1" strike="noStrike">
                <a:solidFill>
                  <a:srgbClr val="000000"/>
                </a:solidFill>
                <a:latin typeface="Times New Roman"/>
              </a:rPr>
              <a:t> different conceptual frameworks that can help us better understand connections between</a:t>
            </a:r>
            <a:r>
              <a:rPr b="0" i="1" lang="en-US" sz="3200" spc="-1" strike="noStrike">
                <a:solidFill>
                  <a:srgbClr val="000000"/>
                </a:solidFill>
                <a:latin typeface="Times New Roman"/>
              </a:rPr>
              <a:t> human well-being </a:t>
            </a:r>
            <a:r>
              <a:rPr b="0" lang="en-US" sz="3200" spc="-1" strike="noStrike">
                <a:solidFill>
                  <a:srgbClr val="000000"/>
                </a:solidFill>
                <a:latin typeface="Times New Roman"/>
              </a:rPr>
              <a:t>and </a:t>
            </a:r>
            <a:r>
              <a:rPr b="0" i="1" lang="en-US" sz="3200" spc="-1" strike="noStrike">
                <a:solidFill>
                  <a:srgbClr val="000000"/>
                </a:solidFill>
                <a:latin typeface="Times New Roman"/>
              </a:rPr>
              <a:t>nature</a:t>
            </a:r>
            <a:r>
              <a:rPr b="0" lang="en-US" sz="3200" spc="-1" strike="noStrike">
                <a:solidFill>
                  <a:srgbClr val="000000"/>
                </a:solidFill>
                <a:latin typeface="Times New Roman"/>
              </a:rPr>
              <a:t> and what is required to maintain well functioning ecosystems</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ain Objectives of module 3</a:t>
            </a:r>
            <a:endParaRPr b="0" lang="en-US" sz="3600" spc="-1" strike="noStrike">
              <a:solidFill>
                <a:srgbClr val="000532"/>
              </a:solidFill>
              <a:latin typeface="Arial"/>
            </a:endParaRPr>
          </a:p>
        </p:txBody>
      </p:sp>
      <p:sp>
        <p:nvSpPr>
          <p:cNvPr id="632" name="Rectangle 3"/>
          <p:cNvSpPr/>
          <p:nvPr/>
        </p:nvSpPr>
        <p:spPr>
          <a:xfrm>
            <a:off x="539640" y="162864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lores </a:t>
            </a:r>
            <a:r>
              <a:rPr b="0" lang="en-US" sz="2400" spc="-1" strike="noStrike">
                <a:solidFill>
                  <a:srgbClr val="000000"/>
                </a:solidFill>
                <a:latin typeface="Times New Roman"/>
              </a:rPr>
              <a:t>the various existing conceptual frameworks that are available for making ecosystem assessm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dentifies</a:t>
            </a:r>
            <a:r>
              <a:rPr b="0" lang="en-GB" sz="2400" spc="-1" strike="noStrike">
                <a:solidFill>
                  <a:srgbClr val="000000"/>
                </a:solidFill>
                <a:latin typeface="Times New Roman"/>
              </a:rPr>
              <a:t> some of the trade offs, limitations and challenges of </a:t>
            </a:r>
            <a:r>
              <a:rPr b="0" lang="en-US" sz="2400" spc="-1" strike="noStrike">
                <a:solidFill>
                  <a:srgbClr val="000000"/>
                </a:solidFill>
                <a:latin typeface="Times New Roman"/>
              </a:rPr>
              <a:t>valuing ecosystems and biodiversity</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troduces</a:t>
            </a:r>
            <a:r>
              <a:rPr b="0" lang="en-GB" sz="2400" spc="-1" strike="noStrike">
                <a:solidFill>
                  <a:srgbClr val="000000"/>
                </a:solidFill>
                <a:latin typeface="Times New Roman"/>
              </a:rPr>
              <a:t> some of the major activities that are taking place at the international level that are translating these concepts into action</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1267920"/>
            <a:ext cx="8207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Module is broken down into 3 sessions:</a:t>
            </a:r>
            <a:r>
              <a:rPr b="1" lang="en-US" sz="3200" spc="-1" strike="noStrike">
                <a:solidFill>
                  <a:srgbClr val="333399"/>
                </a:solidFill>
                <a:latin typeface="Arial"/>
              </a:rPr>
              <a:t> </a:t>
            </a:r>
            <a:br>
              <a:rPr sz="3200"/>
            </a:br>
            <a:endParaRPr b="0" lang="en-US" sz="3200" spc="-1" strike="noStrike">
              <a:solidFill>
                <a:srgbClr val="000532"/>
              </a:solidFill>
              <a:latin typeface="Arial"/>
            </a:endParaRPr>
          </a:p>
        </p:txBody>
      </p:sp>
      <p:sp>
        <p:nvSpPr>
          <p:cNvPr id="634" name="PlaceHolder 2"/>
          <p:cNvSpPr>
            <a:spLocks noGrp="1"/>
          </p:cNvSpPr>
          <p:nvPr>
            <p:ph/>
          </p:nvPr>
        </p:nvSpPr>
        <p:spPr>
          <a:xfrm>
            <a:off x="250560" y="2349000"/>
            <a:ext cx="8893080" cy="3418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1</a:t>
            </a:r>
            <a:r>
              <a:rPr b="0" lang="en-GB" sz="3200" spc="-1" strike="noStrike">
                <a:solidFill>
                  <a:srgbClr val="000000"/>
                </a:solidFill>
                <a:latin typeface="Times New Roman"/>
              </a:rPr>
              <a:t>: Conceptual Frameworks</a:t>
            </a:r>
            <a:endParaRPr b="0" lang="en-US" sz="3200" spc="-1" strike="noStrike">
              <a:solidFill>
                <a:srgbClr val="000532"/>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2</a:t>
            </a:r>
            <a:r>
              <a:rPr b="0" lang="en-GB" sz="3200" spc="-1" strike="noStrike">
                <a:solidFill>
                  <a:srgbClr val="000000"/>
                </a:solidFill>
                <a:latin typeface="Times New Roman"/>
              </a:rPr>
              <a:t>: The Challenges of Ecosystem Valuation</a:t>
            </a:r>
            <a:endParaRPr b="0" lang="en-US" sz="32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3</a:t>
            </a:r>
            <a:r>
              <a:rPr b="0" lang="en-GB" sz="3200" spc="-1" strike="noStrike">
                <a:solidFill>
                  <a:srgbClr val="000000"/>
                </a:solidFill>
                <a:latin typeface="Times New Roman"/>
              </a:rPr>
              <a:t>: From</a:t>
            </a:r>
            <a:r>
              <a:rPr b="0" lang="en-GB" sz="3200" spc="-1" strike="noStrike">
                <a:solidFill>
                  <a:srgbClr val="000532"/>
                </a:solidFill>
                <a:latin typeface="Times New Roman"/>
              </a:rPr>
              <a:t> Concepts to Action</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4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636" name="PlaceHolder 2"/>
          <p:cNvSpPr>
            <a:spLocks noGrp="1"/>
          </p:cNvSpPr>
          <p:nvPr>
            <p:ph/>
          </p:nvPr>
        </p:nvSpPr>
        <p:spPr>
          <a:xfrm>
            <a:off x="457200" y="1844640"/>
            <a:ext cx="8229600" cy="4608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monstrate</a:t>
            </a:r>
            <a:r>
              <a:rPr b="0" lang="en-US" sz="2400" spc="-1" strike="noStrike">
                <a:solidFill>
                  <a:srgbClr val="000000"/>
                </a:solidFill>
                <a:latin typeface="Times New Roman"/>
              </a:rPr>
              <a:t> an understanding of the existing frameworks and under which circumstances/context they can be applied.</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gnize</a:t>
            </a:r>
            <a:r>
              <a:rPr b="0" lang="en-US" sz="2400" spc="-1" strike="noStrike">
                <a:solidFill>
                  <a:srgbClr val="000000"/>
                </a:solidFill>
                <a:latin typeface="Times New Roman"/>
              </a:rPr>
              <a:t> the main limitations and challenges of valuing ecosystems and biodiversity.</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a:t>
            </a:r>
            <a:r>
              <a:rPr b="1" lang="en-US" sz="2400" spc="-1" strike="noStrike">
                <a:solidFill>
                  <a:srgbClr val="000000"/>
                </a:solidFill>
                <a:latin typeface="Times New Roman"/>
              </a:rPr>
              <a:t> </a:t>
            </a:r>
            <a:r>
              <a:rPr b="0" lang="en-US" sz="2400" spc="-1" strike="noStrike">
                <a:solidFill>
                  <a:srgbClr val="000000"/>
                </a:solidFill>
                <a:latin typeface="Times New Roman"/>
              </a:rPr>
              <a:t>and </a:t>
            </a:r>
            <a:r>
              <a:rPr b="1" lang="en-US" sz="2400" spc="-1" strike="noStrike" u="sng">
                <a:solidFill>
                  <a:srgbClr val="000000"/>
                </a:solidFill>
                <a:uFillTx/>
                <a:latin typeface="Times New Roman"/>
              </a:rPr>
              <a:t>understand</a:t>
            </a:r>
            <a:r>
              <a:rPr b="0" lang="en-US" sz="2400" spc="-1" strike="noStrike">
                <a:solidFill>
                  <a:srgbClr val="000000"/>
                </a:solidFill>
                <a:latin typeface="Times New Roman"/>
              </a:rPr>
              <a:t> some of the major activities where these concepts are being put into action</a:t>
            </a:r>
            <a:r>
              <a:rPr b="0" lang="en-US" sz="2800" spc="-1" strike="noStrike">
                <a:solidFill>
                  <a:srgbClr val="000000"/>
                </a:solidFill>
                <a:latin typeface="Times New Roman"/>
              </a:rPr>
              <a:t>.</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Agenda</a:t>
            </a:r>
            <a:endParaRPr b="0" lang="en-US" sz="4000" spc="-1" strike="noStrike">
              <a:solidFill>
                <a:srgbClr val="000532"/>
              </a:solidFill>
              <a:latin typeface="Arial"/>
            </a:endParaRPr>
          </a:p>
        </p:txBody>
      </p:sp>
      <p:graphicFrame>
        <p:nvGraphicFramePr>
          <p:cNvPr id="638" name=""/>
          <p:cNvGraphicFramePr/>
          <p:nvPr/>
        </p:nvGraphicFramePr>
        <p:xfrm>
          <a:off x="468360" y="1989000"/>
          <a:ext cx="8207280" cy="3816360"/>
        </p:xfrm>
        <a:graphic>
          <a:graphicData uri="http://schemas.openxmlformats.org/drawingml/2006/table">
            <a:tbl>
              <a:tblPr/>
              <a:tblGrid>
                <a:gridCol w="1876320"/>
                <a:gridCol w="6330960"/>
              </a:tblGrid>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Duration (mins)</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Session</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Introduction and Icebreaker</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3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1: </a:t>
                      </a:r>
                      <a:r>
                        <a:rPr b="0" lang="en-GB" sz="1800" spc="-1" strike="noStrike">
                          <a:solidFill>
                            <a:srgbClr val="000000"/>
                          </a:solidFill>
                          <a:latin typeface="Times New Roman"/>
                          <a:ea typeface="SimSun"/>
                        </a:rPr>
                        <a:t>Conceptual Frameworks</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2:</a:t>
                      </a:r>
                      <a:r>
                        <a:rPr b="0" lang="en-GB" sz="1800" spc="-1" strike="noStrike">
                          <a:solidFill>
                            <a:srgbClr val="000000"/>
                          </a:solidFill>
                          <a:latin typeface="Times New Roman"/>
                          <a:ea typeface="SimSun"/>
                        </a:rPr>
                        <a:t>The Challenges of Ecosystem Valuation</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ffee Break</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3: </a:t>
                      </a:r>
                      <a:r>
                        <a:rPr b="0" lang="en-GB" sz="1800" spc="-1" strike="noStrike">
                          <a:solidFill>
                            <a:srgbClr val="000000"/>
                          </a:solidFill>
                          <a:latin typeface="Times New Roman"/>
                          <a:ea typeface="SimSun"/>
                        </a:rPr>
                        <a:t>From Concepts to Action</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1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ummary and Questions</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6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rap up and closure</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Ice breaker</a:t>
            </a:r>
            <a:endParaRPr b="0" lang="en-US" sz="4400" spc="-1" strike="noStrike">
              <a:solidFill>
                <a:srgbClr val="000532"/>
              </a:solidFill>
              <a:latin typeface="Arial"/>
            </a:endParaRPr>
          </a:p>
        </p:txBody>
      </p:sp>
      <p:sp>
        <p:nvSpPr>
          <p:cNvPr id="640" name="PlaceHolder 2"/>
          <p:cNvSpPr>
            <a:spLocks noGrp="1"/>
          </p:cNvSpPr>
          <p:nvPr>
            <p:ph/>
          </p:nvPr>
        </p:nvSpPr>
        <p:spPr>
          <a:xfrm>
            <a:off x="324000" y="1773000"/>
            <a:ext cx="5256000" cy="532764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w do you value nature in your workplace?</a:t>
            </a:r>
            <a:endParaRPr b="0" lang="en-US" sz="2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What frameworks do you already use in your work?</a:t>
            </a:r>
            <a:endParaRPr b="0" lang="en-US" sz="2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p:txBody>
      </p:sp>
      <p:pic>
        <p:nvPicPr>
          <p:cNvPr id="641" name="Picture 8" descr=""/>
          <p:cNvPicPr/>
          <p:nvPr/>
        </p:nvPicPr>
        <p:blipFill>
          <a:blip r:embed="rId1"/>
          <a:stretch/>
        </p:blipFill>
        <p:spPr>
          <a:xfrm>
            <a:off x="5580000" y="1844640"/>
            <a:ext cx="3564000" cy="4249800"/>
          </a:xfrm>
          <a:prstGeom prst="rect">
            <a:avLst/>
          </a:prstGeom>
          <a:ln w="0">
            <a:noFill/>
          </a:ln>
        </p:spPr>
      </p:pic>
      <p:sp>
        <p:nvSpPr>
          <p:cNvPr id="642" name="Text Box 11"/>
          <p:cNvSpPr/>
          <p:nvPr/>
        </p:nvSpPr>
        <p:spPr>
          <a:xfrm>
            <a:off x="6227640" y="5516640"/>
            <a:ext cx="33829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644" name="Text Box 3"/>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5" name="PlaceHolder 2"/>
          <p:cNvSpPr>
            <a:spLocks noGrp="1"/>
          </p:cNvSpPr>
          <p:nvPr>
            <p:ph/>
          </p:nvPr>
        </p:nvSpPr>
        <p:spPr>
          <a:xfrm>
            <a:off x="323640" y="1484280"/>
            <a:ext cx="8497800" cy="51134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ports/document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Z, 2012. Integrating Ecosystem Services into Development Planning; A stepwise approach for practitioners based on the TEEB approach. GIZ, Germany</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mar, P. (ed), 2010. The Economics of Ecosystem and Biodiversity in national and International Policy making. Earthscan, Lond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Brink, P. (ed), 2010. The Economics of Ecosystem and Biodiversity in national and International Policy making. Earthscan, Lond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P-WCMC, 2010. Ecosystems and Human Wellbeing: A Manual for Assessment Practitioners. Island Press, Washingt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tmer, H. and Gundimeda, H. (eds), 2010. The Economics of Ecosystems and Biodiversity. In Local and Regional Policy and Management Earthscan, London </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 2008. Ecosystems and Human Well-being; A framework for Assessment. Island Press, Washington</a:t>
            </a:r>
            <a:endParaRPr b="0" lang="en-US" sz="12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ebsite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ennium Ecosystem Assessment: </a:t>
            </a:r>
            <a:r>
              <a:rPr b="0" lang="en-US" sz="1200" spc="-1" strike="noStrike" u="sng">
                <a:solidFill>
                  <a:srgbClr val="66ccff"/>
                </a:solidFill>
                <a:uFillTx/>
                <a:latin typeface="Times New Roman"/>
                <a:hlinkClick r:id="rId1"/>
              </a:rPr>
              <a:t>http://www.millenniumassessment.org/en/index.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le University: </a:t>
            </a:r>
            <a:r>
              <a:rPr b="0" lang="en-US" sz="1200" spc="-1" strike="noStrike" u="sng">
                <a:solidFill>
                  <a:srgbClr val="66ccff"/>
                </a:solidFill>
                <a:uFillTx/>
                <a:latin typeface="Times New Roman"/>
                <a:hlinkClick r:id="rId2"/>
              </a:rPr>
              <a:t>http://environment.yale.edu/TEEB</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BD: </a:t>
            </a:r>
            <a:r>
              <a:rPr b="0" lang="en-US" sz="1200" spc="-1" strike="noStrike" u="sng">
                <a:solidFill>
                  <a:srgbClr val="66ccff"/>
                </a:solidFill>
                <a:uFillTx/>
                <a:latin typeface="Times New Roman"/>
                <a:hlinkClick r:id="rId3"/>
              </a:rPr>
              <a:t>http://www.cbd.int/incentives/overview.s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CSD: </a:t>
            </a:r>
            <a:r>
              <a:rPr b="0" lang="en-US" sz="1200" spc="-1" strike="noStrike" u="sng">
                <a:solidFill>
                  <a:srgbClr val="66ccff"/>
                </a:solidFill>
                <a:uFillTx/>
                <a:latin typeface="Times New Roman"/>
                <a:hlinkClick r:id="rId4"/>
              </a:rPr>
              <a:t>http://www.wbcsd.org/bet.aspx</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P Green Economy: </a:t>
            </a:r>
            <a:r>
              <a:rPr b="0" lang="en-US" sz="1200" spc="-1" strike="noStrike" u="sng">
                <a:solidFill>
                  <a:srgbClr val="66ccff"/>
                </a:solidFill>
                <a:uFillTx/>
                <a:latin typeface="Times New Roman"/>
                <a:hlinkClick r:id="rId5"/>
              </a:rPr>
              <a:t>http://www.unep.org/greeneconomy/greeneconomyreport/tabid/29846/default.aspx</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EcoServ: </a:t>
            </a:r>
            <a:r>
              <a:rPr b="0" lang="en-GB" sz="1200" spc="-1" strike="noStrike" u="sng">
                <a:solidFill>
                  <a:srgbClr val="66ccff"/>
                </a:solidFill>
                <a:uFillTx/>
                <a:latin typeface="Times New Roman"/>
                <a:hlinkClick r:id="rId6"/>
              </a:rPr>
              <a:t>http://www.proecoserv.org/</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t>
            </a:r>
            <a:r>
              <a:rPr b="0" lang="en-US" sz="1200" spc="-1" strike="noStrike">
                <a:solidFill>
                  <a:srgbClr val="000532"/>
                </a:solidFill>
                <a:latin typeface="Times New Roman"/>
              </a:rPr>
              <a:t>http://www.wavespartnership.org/wave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P: </a:t>
            </a:r>
            <a:r>
              <a:rPr b="0" lang="en-US" sz="1200" spc="-1" strike="noStrike">
                <a:solidFill>
                  <a:srgbClr val="000532"/>
                </a:solidFill>
                <a:latin typeface="Times New Roman"/>
              </a:rPr>
              <a:t>http://web.undp.org/latinamerica/biodiversity-superpower/</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GA Network: </a:t>
            </a:r>
            <a:r>
              <a:rPr b="0" lang="en-GB" sz="1200" spc="-1" strike="noStrike">
                <a:solidFill>
                  <a:srgbClr val="000532"/>
                </a:solidFill>
                <a:latin typeface="Times New Roman"/>
              </a:rPr>
              <a:t>http://www.ecosystemassessments.net/about.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Capital Project</a:t>
            </a:r>
            <a:r>
              <a:rPr b="0" lang="en-US" sz="1200" spc="-1" strike="noStrike">
                <a:solidFill>
                  <a:srgbClr val="000532"/>
                </a:solidFill>
                <a:latin typeface="Times New Roman"/>
              </a:rPr>
              <a:t>: http://www.naturalcapitalproject.org/</a:t>
            </a:r>
            <a:endParaRPr b="0" lang="en-US" sz="1200" spc="-1" strike="noStrike">
              <a:solidFill>
                <a:srgbClr val="000532"/>
              </a:solidFill>
              <a:latin typeface="Times New Roman"/>
            </a:endParaRPr>
          </a:p>
          <a:p>
            <a:pPr marL="343080" indent="-343080">
              <a:lnSpc>
                <a:spcPct val="80000"/>
              </a:lnSpc>
              <a:spcBef>
                <a:spcPts val="300"/>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32"/>
                </a:solidFill>
                <a:latin typeface="Times New Roman"/>
              </a:rPr>
              <a:t>Earth Economics: http://www.eartheconomics.org/Default.aspx</a:t>
            </a:r>
            <a:endParaRPr b="0" lang="en-US" sz="1200" spc="-1" strike="noStrike">
              <a:solidFill>
                <a:srgbClr val="000532"/>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25:55Z</dcterms:created>
  <dc:creator>KREBS</dc:creator>
  <dc:description/>
  <dc:language>en-US</dc:language>
  <cp:lastModifiedBy>KREBS</cp:lastModifiedBy>
  <dcterms:modified xsi:type="dcterms:W3CDTF">2013-08-05T13:22:32Z</dcterms:modified>
  <cp:revision>2</cp:revision>
  <dc:subject/>
  <dc:title>PowerPoint Presentation</dc:title>
</cp:coreProperties>
</file>