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6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8"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6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1"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006A6-0B95-49E8-8DD9-D5280AF9F02B}"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5A530-52FA-4111-A578-53150BBEE42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33" name="PlaceHolder 1"/>
          <p:cNvSpPr>
            <a:spLocks noGrp="1"/>
          </p:cNvSpPr>
          <p:nvPr>
            <p:ph type="sldImg"/>
          </p:nvPr>
        </p:nvSpPr>
        <p:spPr>
          <a:xfrm>
            <a:off x="1144440" y="687240"/>
            <a:ext cx="4569120" cy="3427560"/>
          </a:xfrm>
          <a:prstGeom prst="rect">
            <a:avLst/>
          </a:prstGeom>
          <a:ln w="0">
            <a:noFill/>
          </a:ln>
        </p:spPr>
      </p:sp>
      <p:sp>
        <p:nvSpPr>
          <p:cNvPr id="634"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AB4E5-4A78-46C3-BDB5-54D50A320B3E}"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a:t>
            </a:r>
            <a:r>
              <a:rPr b="0" lang="en-GB" sz="1200" spc="-1" strike="noStrike">
                <a:solidFill>
                  <a:srgbClr val="000000"/>
                </a:solidFill>
                <a:latin typeface="Calibri"/>
              </a:rPr>
              <a:t> how ecosystem valuation is a complex, spatial and institutional cross-scale problem. The science of economic valuation of ecosystems services is still relatively young, and given the nature of ecosystems, the topic of valuation can be complicated and indeed present many challeng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rstly</a:t>
            </a:r>
            <a:r>
              <a:rPr b="1" lang="en-GB" sz="1200" spc="-1" strike="noStrike" u="sng">
                <a:solidFill>
                  <a:srgbClr val="000000"/>
                </a:solidFill>
                <a:uFillTx/>
                <a:latin typeface="Calibri"/>
              </a:rPr>
              <a:t> discuss </a:t>
            </a:r>
            <a:r>
              <a:rPr b="0" lang="en-GB" sz="1200" spc="-1" strike="noStrike">
                <a:solidFill>
                  <a:srgbClr val="000000"/>
                </a:solidFill>
                <a:latin typeface="Calibri"/>
              </a:rPr>
              <a:t>the moral and ethical challenges that ecosystem valuation presents and the fact that </a:t>
            </a:r>
            <a:r>
              <a:rPr b="0" lang="en-US" sz="1200" spc="-1" strike="noStrike">
                <a:solidFill>
                  <a:srgbClr val="000000"/>
                </a:solidFill>
                <a:latin typeface="Calibri"/>
              </a:rPr>
              <a:t>the idea of placing monetary value on ecosystems in the first place essentially buys into the free-market system that in many cases can be considered to be the root cause of biodiversity loss in the first place - </a:t>
            </a:r>
            <a:r>
              <a:rPr b="0" lang="en-GB" sz="1200" spc="-1" strike="noStrike">
                <a:solidFill>
                  <a:srgbClr val="000000"/>
                </a:solidFill>
                <a:latin typeface="Calibri"/>
              </a:rPr>
              <a:t>not all values can be monetiz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condly </a:t>
            </a:r>
            <a:r>
              <a:rPr b="1" lang="en-GB" sz="1200" spc="-1" strike="noStrike" u="sng">
                <a:solidFill>
                  <a:srgbClr val="000000"/>
                </a:solidFill>
                <a:uFillTx/>
                <a:latin typeface="Calibri"/>
              </a:rPr>
              <a:t>go through</a:t>
            </a:r>
            <a:r>
              <a:rPr b="0" lang="en-GB" sz="1200" spc="-1" strike="noStrike">
                <a:solidFill>
                  <a:srgbClr val="000000"/>
                </a:solidFill>
                <a:latin typeface="Calibri"/>
              </a:rPr>
              <a:t> the various technical challenges that valuation may pres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difficulty to account for inter-linkages between different ecosystem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lack of information about the economic value of ecosystem functions, goods and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lack of tools for cross-level valu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 </a:t>
            </a:r>
            <a:r>
              <a:rPr b="0" lang="en-US" sz="1200" spc="-1" strike="noStrike">
                <a:solidFill>
                  <a:srgbClr val="000000"/>
                </a:solidFill>
                <a:latin typeface="Calibri"/>
                <a:ea typeface="SimSun"/>
              </a:rPr>
              <a:t>- Dealing with incomplete, inaccurate and/or changing data – </a:t>
            </a:r>
            <a:r>
              <a:rPr b="1" lang="en-US" sz="1200" spc="-1" strike="noStrike" u="sng">
                <a:solidFill>
                  <a:srgbClr val="000000"/>
                </a:solidFill>
                <a:uFillTx/>
                <a:latin typeface="Calibri"/>
                <a:ea typeface="SimSun"/>
              </a:rPr>
              <a:t>explain</a:t>
            </a:r>
            <a:r>
              <a:rPr b="0" lang="en-US" sz="1200" spc="-1" strike="noStrike">
                <a:solidFill>
                  <a:srgbClr val="000000"/>
                </a:solidFill>
                <a:latin typeface="Calibri"/>
                <a:ea typeface="SimSun"/>
              </a:rPr>
              <a:t> here that its impossible to understand all ecological functions/ processes/ interactions in a given area for assessment (this ties in with why the information should be used as indicative figures toward guidance, not a definitive valu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1980-718D-4422-909C-79FD43964AE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rdly, </a:t>
            </a:r>
            <a:r>
              <a:rPr b="1" lang="en-GB" sz="1200" spc="-1" strike="noStrike" u="sng">
                <a:solidFill>
                  <a:srgbClr val="000000"/>
                </a:solidFill>
                <a:uFillTx/>
                <a:latin typeface="Calibri"/>
              </a:rPr>
              <a:t>discuss </a:t>
            </a:r>
            <a:r>
              <a:rPr b="0" lang="en-GB" sz="1200" spc="-1" strike="noStrike">
                <a:solidFill>
                  <a:srgbClr val="000000"/>
                </a:solidFill>
                <a:latin typeface="Calibri"/>
              </a:rPr>
              <a:t>the various </a:t>
            </a:r>
            <a:r>
              <a:rPr b="0" i="1" lang="en-GB" sz="1200" spc="-1" strike="noStrike">
                <a:solidFill>
                  <a:srgbClr val="000000"/>
                </a:solidFill>
                <a:latin typeface="Calibri"/>
              </a:rPr>
              <a:t>systemic</a:t>
            </a:r>
            <a:r>
              <a:rPr b="0" lang="en-GB" sz="1200" spc="-1" strike="noStrike">
                <a:solidFill>
                  <a:srgbClr val="000000"/>
                </a:solidFill>
                <a:latin typeface="Calibri"/>
              </a:rPr>
              <a:t> challenges that may present themselv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whilst valuation can certainly help to inform land use decision making, it does create a means for valuing biodiversity monetarily – which, although incredibly useful in some contexts can impose new notions of ownership and property right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also th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US" sz="1200" spc="-1" strike="noStrike">
                <a:solidFill>
                  <a:srgbClr val="000000"/>
                </a:solidFill>
                <a:latin typeface="Calibri"/>
              </a:rPr>
              <a:t>there</a:t>
            </a:r>
            <a:r>
              <a:rPr b="0" lang="en-GB" sz="1200" spc="-1" strike="noStrike">
                <a:solidFill>
                  <a:srgbClr val="000000"/>
                </a:solidFill>
                <a:latin typeface="Calibri"/>
              </a:rPr>
              <a:t> is also a lack of mechanisms to promote equity distribution and value aggregation to resources and ecosystem at the local leve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netary valuation can lead to resistance amongst some stakeholder groups for fear of having their natural resources price tagged, commoditized and traded within a free marke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is a challenge of using the economic value of ecosystems to readdress market and policy failures as well as the fact th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are subjective  and that different values exist for different stakeholder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B11BB-BCA3-42F6-BD6F-91C9DB1E3F54}"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 </a:t>
            </a:r>
            <a:r>
              <a:rPr b="0" lang="en-GB" sz="1200" spc="-1" strike="noStrike">
                <a:solidFill>
                  <a:srgbClr val="000000"/>
                </a:solidFill>
                <a:latin typeface="Calibri"/>
              </a:rPr>
              <a:t>that whilst </a:t>
            </a:r>
            <a:r>
              <a:rPr b="0" lang="en-US" sz="1200" spc="-1" strike="noStrike">
                <a:solidFill>
                  <a:srgbClr val="000000"/>
                </a:solidFill>
                <a:latin typeface="Calibri"/>
              </a:rPr>
              <a:t>many challenges may exist for the application of ecosystem valuation</a:t>
            </a:r>
            <a:r>
              <a:rPr b="0" lang="en-GB" sz="1200" spc="-1" strike="noStrike">
                <a:solidFill>
                  <a:srgbClr val="000000"/>
                </a:solidFill>
                <a:latin typeface="Calibri"/>
              </a:rPr>
              <a:t>– valuation also presents many opport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Valuation creates a framework that can help nature’s values become much more economically visible and therefore fully accounted for in decision ma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policy makers usually have a strong preference for assessments that are expressed in monetary terms so to assist in their decision ma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if properly used, valuation has the potential to serve as a very and indeed powerful important tool that can contribute to more inclusive economic accounting and planning and further assist us in creating more effective strategies for natural resource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Due to the string linkages between ecosystem services and human health and well-being – the valuation of biodiversity can indeed contribute towards alleviating poverty particularly with policy responses that are orientated towards sustainable rural livelihoods etc (see module 5 for more information on policy respon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Valuation does not necessarily mean monetization and certainly, and depending on what the policy issue at hand is, does not always have to lead to marketization of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81C3A-0686-4CCD-A9C2-F9A654E9A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6ACBA-9A63-4341-9447-98E7F45A7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7718F7-6C8A-4FBE-96EA-EDD6FA2D75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03ADD2-40E5-4FCA-9FBE-CF715DFC7A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121BF0-743B-4D6F-8995-BDE9E1C05C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80731D-C5BC-4DB3-87DD-B6DB8B93B8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A0B185-1C8C-44F3-B95D-17E7740FB7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E6D2EF-875D-4699-8DE2-3EB720C2F1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9F89E6-49E6-4838-A362-A5BF8C5E8D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C37F15-E7F3-4F28-B638-57B09D202C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5F3EFA-559B-4E51-99AA-03CADA2BCE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C7AAA0C-46E3-46C7-92F5-DC844B47754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8693B-829B-456A-AE2B-63CBC4950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F855F0-5210-4FE9-B037-4049029D41C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7DB4E2-7467-49FE-81C3-50D5B4746BC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14730B-D715-4884-B0E4-6126508B66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E6B681-CD22-4942-B229-86146406A6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AD3FE2-FF3E-402F-819B-1EA2D3CB87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29497A-D5B1-4554-B2A6-F653A27FC6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C87B3B-9147-4CF6-A384-7CF84A422C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298DE8-1C06-42A8-A231-5FC0459D0C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4E3DB0-22DB-4B53-997A-4D5809A7ED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682BE3E-6436-488C-AC26-64B82528B32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4309F-BDA7-442C-96AA-14103D86E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5DF62C3-2AA9-4BF8-BC63-C79C9286E34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8DA35C8-E5DD-4343-A9E7-E5ABF5CE024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188E0E-E00A-4EAD-9C1B-917BDA2E5CC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B5F347-DCAE-4CD2-AFC6-6809D1F7AA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6CA7344-BBFC-464C-A1D7-B82A067485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CC9F512-78F1-4B13-8157-EFE55D0D33B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BA1B478-50E0-4808-9859-8A94C7EB7A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F68197-923D-4E8D-8D97-0F3763FD89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56132C-3A19-49A4-840D-E990323B69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7ABBF6-9A4B-41BD-A85F-13442D7BAA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64BD6D-4AC8-455F-A627-48763C1E8D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978CE56-3982-4395-BF82-9E955D071C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1BC70D8-9A43-4279-B872-B756D8D84B1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BE7BA6B-B780-4A0E-889E-4880A4CC556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2940F68-BD70-4823-B858-880A38554CA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5D85D37-5801-45F7-9C9F-5CA4A64FF0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838669-2C11-4298-8163-6C971C9E26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3DC401-066D-4B07-BE56-630264C27B2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DBCE41-D535-4BAA-B869-BDF2D694E05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8B56A4-33BE-4AAD-9603-CB2F20366F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6075260-96A4-4D37-B2AA-4EE8D36595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D33FB-C135-4571-9E58-FAD97CD7C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6B6ED6-4761-427D-A4AD-672647EF10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F953A8-FFEE-44F6-A29A-A950AAE044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2A8FA4-A2A5-441C-8CC6-A0335349348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F56C6F8-C2AC-487A-A1CD-E809F15D3D1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5256AFF-E207-4F4E-808F-6855840FCB3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6DFBD02-D100-4CFA-A061-76BB8A48FD5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046AA07-73FB-4BDE-A83E-C918499D259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7789D0B-A9E5-4FC1-80AA-00345666670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4CE44D1-E9CE-4910-8F43-900BABE3ED2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E8C77FD-4B7B-4C74-9130-F776214CA0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427B9-18E8-421C-8AC8-16A0DD099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542FEF6-8926-4D09-B636-3C819D2D5FE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9846026-549D-43BB-B73E-56C4FE60609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FD2161A-3F57-4354-9971-BECAD95CD6D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25684C-4A6C-43C1-8652-C43BE45B47A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D53BEFC-0B2A-472E-A487-800CB35E1EF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FC2561D-67FB-44DA-A89D-B9ED2F46FB8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D3FEF3A-3D5C-4A08-9DB7-DDD8EFF0F4E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A452237-FB87-4D5B-BE23-2942A1B4E4D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C494E27-6CCC-434B-8733-35AAE3E7E22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47CAB2C-A00C-488D-874B-3C9C3E4BDD2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946F6-F04D-4A96-B5B9-9B5B85346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CC61F17-076F-4D77-8673-674F7CA212E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B0738A1-A84E-418C-A4B9-AE8EE2D9448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8760442-3061-4968-A58D-1C1AEE95314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377C94-7A69-48A6-A219-D623DFBB707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C209EE-E0CE-46D4-82EC-242B1CAF95B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FB3AF4C-5DF8-4F22-ABA7-D09C87B013B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AFAFE04-4077-4F1D-BA58-D2A0B56C914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6B7C2F2-6A66-4DE9-A3C3-25D926B9D9D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1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0690FC9-F1DB-48C7-A0B3-596BC48240C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0705F-E77A-4C13-8DD8-FC9C6738B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24572-3520-4806-8BB3-5755F2688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24358-EC21-4018-A59D-9558CA6D7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591AE-B6A4-43D5-99C2-C211AF5C8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E03A2-CC87-4F6B-A0C2-FED8C3DFE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88BDF-290A-4E9F-8548-5EA93CACF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D5926-87B6-4768-9DC5-68106B324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3CAD07-61ED-4B67-82B5-9D79482D04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8281F2-EAF5-407F-93E8-C725F193A7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421369-8B40-4C00-B17B-858D422D6B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375A48-3891-454E-BE5A-D20CCC6135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C662F7-94B9-428F-975C-029D786499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C246A0-A320-44C1-837A-D6ED691D40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5708CB-782B-4B0D-AA33-1906A43A2F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B2882-CC3B-40DE-B367-A6B7F237C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60D08A-5B79-4043-A1B4-CC5BD5F112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BAD739-EBC4-4590-8C27-C026A8F154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5FF418-F13B-4FF1-BEBF-3986A35E77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659B53-D717-4FE2-86A3-D825FBEE76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A1F0F4-EF18-4A28-AF5F-09D5997377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D992C0-0631-43C7-80CD-9D3E87CD56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38AC32-06D3-4716-ABC2-1AF43D3082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3CD3CB-0CFA-4C16-9F39-3E219EDFAC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5522E5-B1B0-4C82-A8C1-A3CBCFBAC4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D1453A-CB3D-469B-88C9-EFAF4E7434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116E2-DF19-4E50-82A1-4D93BD8E2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E9A45B-7AB2-4A09-8C53-B5FA3F4C2C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4CB720-0666-4D75-B503-DF45746DF7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3F3470-35E8-4ACE-877F-785E4645ED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7D4307-62EE-42C2-BE52-1C20A46F0B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28AC2B-A782-429E-97A7-DF231F3CEA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7E218D-2A3E-42C3-9C2A-6EE35577D5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B9C3D0-7363-42AB-9DB2-C604F3240B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89A507-570E-4C4D-8A4F-52DAA9CE68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822DF6-2C16-49C5-BFFF-B4E0CD6EFB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F15BCE-10E1-4B0E-8A4A-8EC253876E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A160E-6A07-43A4-B246-3A8EEEB66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90595B-3DA3-4DAF-B28D-CC94484299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65204E-FDF0-4F45-806C-11B04B9CC3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68CA7E-EC91-4ECE-BEE0-8D55AB0900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358B52-9181-4F2E-BAF0-042E8A3016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7752FA-47C4-4FA0-B7C4-26AFDD857A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18B243-4E53-4894-A161-53FA4644C7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71EA55-FA16-4826-86DA-7895627CFD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539211-8E58-4F59-9E73-EBAB42EB85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59584E-2F66-46C2-80EE-6C3F3CA3E3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C91C9E-A64B-4955-8C93-0CAEF07023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C080C-D623-4BA7-9F97-391F9867F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9869C5-278D-47FC-8FE6-D862D57CCD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EFBE72-5F45-4310-8D88-A3C84D81D9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71E1BD-120D-46E1-9902-257FC2131A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8E1D69-BCC5-463C-B507-133463988B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B27EFB-D021-4EA0-B8CD-15A7BA2EB8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9F742E-D607-42C4-A6AE-F67368BE3C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C00E29-3E09-462A-B86B-861F5FC705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AB42C6-FC94-4CA7-9846-BD83C034F2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3F494A-6B4D-443C-80E2-D4DEA147DB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E9576C-0A6C-469B-AF4D-E6EA350D6F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5B8F3-B907-4BA4-9C2C-D22BD230E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7E9B37-4C0E-4B1A-BA90-61C0590450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521003-9ECF-42C3-A4FB-AB7A101A32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1C437F-FE2C-4118-8E9C-8237AD9B2F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1C637B-F8BE-49A8-AD66-728022DF08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412392-6A23-44B0-8C18-24F4431D71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1C13C3-36B0-4F35-97EA-8BDA85469A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7D37D5-A6B6-4A5A-B8BB-0350B99CAC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1799DF-4B67-4E30-B94D-CB0E2C13E0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889350-60ED-496F-A01B-039EC3ECC8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D28F70-C84E-40EF-AAE1-6AC01AE3C1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73053-3666-478A-9A56-0C354968A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8E7918-C3AC-4FCD-8C50-1C2E47B519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A7FB4D-5B83-42D2-A2D5-71F762F56B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1BF4CF-FB95-4E6A-A64E-D80BB443F7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7D2F26-5411-49AC-8403-82C07748A3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FE4BDF-5D24-46A7-9E0A-4CFAB3D339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4CBCF9-B698-4C79-A1D1-1F9EAA22F1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96E5CD-22F3-428D-A0BD-3259D04BD5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89EE8E-CB09-49BC-B952-409807B9BF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233025-C2A1-4389-846F-1A2C912F4E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F69BEE-C483-48D2-A092-B0AB072680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BD8EF-EBCC-4B8D-B1F3-50C03E4C2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27CCE9-B66F-45E0-ABEC-16484EAD5A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CC4061-21B4-4997-944C-B3FD0566B5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A13215-3413-48F9-A2ED-B35B4BCAD5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2CBB7A-FCF1-473D-ACAC-4A81915405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9BF88F-650E-4718-9D56-B3A29D8F03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024C19-800E-4CCF-864F-C01AC55F86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F512E9-D654-49E7-BD57-D9E8642586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21053B-9098-47EB-87C1-B3FC315033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58CBD1-70FF-4327-8E51-22FAEDA5B1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03D82B-767D-4F04-8E1F-9B9440505B7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9C44C-3002-47EF-9768-FDEE5FDF34F9}"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F26F-3811-4556-98C6-175B09AFA91D}"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7DF2B-1849-4496-8919-FED2611D1DBB}"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8FBC5-E5A2-4928-A17D-A7879D291180}"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F4D97-FE45-4D1D-90F5-D91A106DF7A8}"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Picture 7" descr="TEEB header"/>
          <p:cNvPicPr/>
          <p:nvPr/>
        </p:nvPicPr>
        <p:blipFill>
          <a:blip r:embed="rId2"/>
          <a:stretch/>
        </p:blipFill>
        <p:spPr>
          <a:xfrm>
            <a:off x="-12600" y="0"/>
            <a:ext cx="9156600" cy="774720"/>
          </a:xfrm>
          <a:prstGeom prst="rect">
            <a:avLst/>
          </a:prstGeom>
          <a:ln w="0">
            <a:noFill/>
          </a:ln>
        </p:spPr>
      </p:pic>
      <p:sp>
        <p:nvSpPr>
          <p:cNvPr id="57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74" name="Picture 9" descr="TEEB_Diamond_notext"/>
          <p:cNvPicPr/>
          <p:nvPr/>
        </p:nvPicPr>
        <p:blipFill>
          <a:blip r:embed="rId3"/>
          <a:stretch/>
        </p:blipFill>
        <p:spPr>
          <a:xfrm>
            <a:off x="8317080" y="6354720"/>
            <a:ext cx="501480" cy="503280"/>
          </a:xfrm>
          <a:prstGeom prst="rect">
            <a:avLst/>
          </a:prstGeom>
          <a:ln w="0">
            <a:noFill/>
          </a:ln>
        </p:spPr>
      </p:pic>
      <p:sp>
        <p:nvSpPr>
          <p:cNvPr id="57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7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9" name="PlaceHolder 5"/>
          <p:cNvSpPr>
            <a:spLocks noGrp="1"/>
          </p:cNvSpPr>
          <p:nvPr>
            <p:ph type="sldNum" idx="4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41F16-6EEA-46A3-A85F-01381691E072}"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BBC03-0A51-4D09-AEE6-15B452777BA3}"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2D647-F900-4F10-9824-A800B99ECBD2}"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B2C79-9261-4EDE-955B-935117AB51A6}"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077E1-215F-4EC4-9D25-65A7D5403A19}"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654C5-D0C3-4D1D-83A3-AC6DE8E43E96}"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BE68-7BA3-4504-AFB1-673F67662A1C}"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AD2E-C196-4010-9265-F4A2FA150B15}"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A9491-1714-45F3-AE00-ADB1DEE213BE}"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4" name="TextBox 2"/>
          <p:cNvSpPr/>
          <p:nvPr/>
        </p:nvSpPr>
        <p:spPr>
          <a:xfrm>
            <a:off x="1476360" y="5300640"/>
            <a:ext cx="6265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c00"/>
                </a:solidFill>
                <a:latin typeface="Arial"/>
                <a:ea typeface="SimSun"/>
              </a:rPr>
              <a:t>Session 2: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Arial"/>
                <a:ea typeface="Arial"/>
              </a:rPr>
              <a:t>The Challenges of Ecosystem Valuation</a:t>
            </a:r>
            <a:endParaRPr b="0" lang="en-US" sz="2800" spc="-1" strike="noStrike">
              <a:solidFill>
                <a:srgbClr val="ffffff"/>
              </a:solidFill>
              <a:latin typeface="Times New Roman"/>
            </a:endParaRPr>
          </a:p>
        </p:txBody>
      </p:sp>
      <p:pic>
        <p:nvPicPr>
          <p:cNvPr id="625" name="Picture 5" descr="logo TEEB transparent print"/>
          <p:cNvPicPr/>
          <p:nvPr/>
        </p:nvPicPr>
        <p:blipFill>
          <a:blip r:embed="rId1"/>
          <a:stretch/>
        </p:blipFill>
        <p:spPr>
          <a:xfrm>
            <a:off x="3132000" y="1484280"/>
            <a:ext cx="3240360" cy="352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2"/>
          <p:cNvSpPr/>
          <p:nvPr/>
        </p:nvSpPr>
        <p:spPr>
          <a:xfrm>
            <a:off x="395280" y="1700280"/>
            <a:ext cx="8518680" cy="46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23366"/>
                </a:solidFill>
                <a:latin typeface="Times New Roman"/>
              </a:rPr>
              <a:t>Moral/Ethical challenges:</a:t>
            </a:r>
            <a:endParaRPr b="0" lang="en-US" sz="2400" spc="-1" strike="noStrike">
              <a:solidFill>
                <a:srgbClr val="ffffff"/>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idea of placing monetary value on ecosystems buys into the free-market system </a:t>
            </a:r>
            <a:endParaRPr b="0" lang="en-US" sz="2400" spc="-1" strike="noStrike">
              <a:solidFill>
                <a:srgbClr val="ffffff"/>
              </a:solidFill>
              <a:latin typeface="Times New Roman"/>
            </a:endParaRPr>
          </a:p>
          <a:p>
            <a:pPr marL="343080" indent="-343080">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23366"/>
                </a:solidFill>
                <a:latin typeface="Times New Roman"/>
              </a:rPr>
              <a:t>Technical challenges:</a:t>
            </a:r>
            <a:endParaRPr b="0" lang="en-US" sz="2400" spc="-1" strike="noStrike">
              <a:solidFill>
                <a:srgbClr val="ffffff"/>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fficulty to account for inter-linkages between different ecosystem services</a:t>
            </a:r>
            <a:endParaRPr b="0" lang="en-US" sz="2400" spc="-1" strike="noStrike">
              <a:solidFill>
                <a:srgbClr val="ffffff"/>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k of information about the economic value of ecosystem functions and tools for cross-level valuation </a:t>
            </a:r>
            <a:endParaRPr b="0" lang="en-US" sz="2400" spc="-1" strike="noStrike">
              <a:solidFill>
                <a:srgbClr val="ffffff"/>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ling with incomplete, inaccurate and/or changing data</a:t>
            </a:r>
            <a:endParaRPr b="0" lang="en-US" sz="2400" spc="-1" strike="noStrike">
              <a:solidFill>
                <a:srgbClr val="ffffff"/>
              </a:solidFill>
              <a:latin typeface="Times New Roman"/>
            </a:endParaRPr>
          </a:p>
        </p:txBody>
      </p:sp>
      <p:sp>
        <p:nvSpPr>
          <p:cNvPr id="627" name="PlaceHolder 1"/>
          <p:cNvSpPr>
            <a:spLocks noGrp="1"/>
          </p:cNvSpPr>
          <p:nvPr>
            <p:ph type="title"/>
          </p:nvPr>
        </p:nvSpPr>
        <p:spPr>
          <a:xfrm>
            <a:off x="539280" y="980640"/>
            <a:ext cx="820764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Ecosystem Valuation; The Challenges</a:t>
            </a:r>
            <a:endParaRPr b="0" lang="en-US" sz="32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468360" y="1844640"/>
            <a:ext cx="8445600" cy="5157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323366"/>
                </a:solidFill>
                <a:latin typeface="Times New Roman"/>
              </a:rPr>
              <a:t>Systemic challenges can be:</a:t>
            </a:r>
            <a:endParaRPr b="0" lang="en-US" sz="2500" spc="-1" strike="noStrike">
              <a:solidFill>
                <a:srgbClr val="ffffff"/>
              </a:solidFill>
              <a:latin typeface="Times New Roman"/>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a:t>
            </a:r>
            <a:r>
              <a:rPr b="0" lang="en-US" sz="2400" spc="-1" strike="noStrike">
                <a:solidFill>
                  <a:srgbClr val="000000"/>
                </a:solidFill>
                <a:latin typeface="Times New Roman"/>
              </a:rPr>
              <a:t> </a:t>
            </a:r>
            <a:r>
              <a:rPr b="1" lang="en-US" sz="2200" spc="-1" strike="noStrike">
                <a:solidFill>
                  <a:srgbClr val="000000"/>
                </a:solidFill>
                <a:latin typeface="Times New Roman"/>
              </a:rPr>
              <a:t>Creating new notions</a:t>
            </a:r>
            <a:r>
              <a:rPr b="0" lang="en-US" sz="2200" spc="-1" strike="noStrike">
                <a:solidFill>
                  <a:srgbClr val="000000"/>
                </a:solidFill>
                <a:latin typeface="Times New Roman"/>
              </a:rPr>
              <a:t> of </a:t>
            </a:r>
            <a:r>
              <a:rPr b="0" i="1" lang="en-US" sz="2200" spc="-1" strike="noStrike">
                <a:solidFill>
                  <a:srgbClr val="000000"/>
                </a:solidFill>
                <a:latin typeface="Times New Roman"/>
              </a:rPr>
              <a:t>ownership</a:t>
            </a:r>
            <a:r>
              <a:rPr b="0" lang="en-US" sz="2200" spc="-1" strike="noStrike">
                <a:solidFill>
                  <a:srgbClr val="000000"/>
                </a:solidFill>
                <a:latin typeface="Times New Roman"/>
              </a:rPr>
              <a:t> and </a:t>
            </a:r>
            <a:r>
              <a:rPr b="0" i="1" lang="en-US" sz="2200" spc="-1" strike="noStrike">
                <a:solidFill>
                  <a:srgbClr val="000000"/>
                </a:solidFill>
                <a:latin typeface="Times New Roman"/>
              </a:rPr>
              <a:t>property</a:t>
            </a:r>
            <a:r>
              <a:rPr b="0" lang="en-US" sz="2200" spc="-1" strike="noStrike">
                <a:solidFill>
                  <a:srgbClr val="000000"/>
                </a:solidFill>
                <a:latin typeface="Times New Roman"/>
              </a:rPr>
              <a:t> rights</a:t>
            </a:r>
            <a:endParaRPr b="0" lang="en-US" sz="2200" spc="-1" strike="noStrike">
              <a:solidFill>
                <a:srgbClr val="ffffff"/>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 </a:t>
            </a:r>
            <a:r>
              <a:rPr b="1" lang="en-US" sz="2200" spc="-1" strike="noStrike">
                <a:solidFill>
                  <a:srgbClr val="000000"/>
                </a:solidFill>
                <a:latin typeface="Times New Roman"/>
              </a:rPr>
              <a:t>Lack of mechanisms</a:t>
            </a:r>
            <a:r>
              <a:rPr b="0" lang="en-US" sz="2200" spc="-1" strike="noStrike">
                <a:solidFill>
                  <a:srgbClr val="000000"/>
                </a:solidFill>
                <a:latin typeface="Times New Roman"/>
              </a:rPr>
              <a:t> to promote equity distribution and value aggregation to resources and ecosystem at the local level</a:t>
            </a:r>
            <a:endParaRPr b="0" lang="en-US" sz="2200" spc="-1" strike="noStrike">
              <a:solidFill>
                <a:srgbClr val="ffffff"/>
              </a:solidFill>
              <a:latin typeface="Times New Roman"/>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3)</a:t>
            </a:r>
            <a:r>
              <a:rPr b="0" lang="en-US" sz="2400" spc="-1" strike="noStrike">
                <a:solidFill>
                  <a:srgbClr val="000000"/>
                </a:solidFill>
                <a:latin typeface="Times New Roman"/>
              </a:rPr>
              <a:t> </a:t>
            </a:r>
            <a:r>
              <a:rPr b="0" lang="en-US" sz="2200" spc="-1" strike="noStrike">
                <a:solidFill>
                  <a:srgbClr val="000000"/>
                </a:solidFill>
                <a:latin typeface="Times New Roman"/>
              </a:rPr>
              <a:t>Fear of having  </a:t>
            </a:r>
            <a:r>
              <a:rPr b="1" lang="en-US" sz="2200" spc="-1" strike="noStrike">
                <a:solidFill>
                  <a:srgbClr val="000000"/>
                </a:solidFill>
                <a:latin typeface="Times New Roman"/>
              </a:rPr>
              <a:t>natural resources price tagged</a:t>
            </a:r>
            <a:r>
              <a:rPr b="0" lang="en-US" sz="2200" spc="-1" strike="noStrike">
                <a:solidFill>
                  <a:srgbClr val="000000"/>
                </a:solidFill>
                <a:latin typeface="Times New Roman"/>
              </a:rPr>
              <a:t>,          commoditized and traded within a free market</a:t>
            </a:r>
            <a:endParaRPr b="0" lang="en-US" sz="2200" spc="-1" strike="noStrike">
              <a:solidFill>
                <a:srgbClr val="ffffff"/>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4)</a:t>
            </a:r>
            <a:r>
              <a:rPr b="0" lang="en-US" sz="2400" spc="-1" strike="noStrike">
                <a:solidFill>
                  <a:srgbClr val="000000"/>
                </a:solidFill>
                <a:latin typeface="Times New Roman"/>
              </a:rPr>
              <a:t> </a:t>
            </a:r>
            <a:r>
              <a:rPr b="1" lang="en-US" sz="2200" spc="-1" strike="noStrike">
                <a:solidFill>
                  <a:srgbClr val="000000"/>
                </a:solidFill>
                <a:latin typeface="Times New Roman"/>
              </a:rPr>
              <a:t>Use of the economic value</a:t>
            </a:r>
            <a:r>
              <a:rPr b="0" lang="en-US" sz="2200" spc="-1" strike="noStrike">
                <a:solidFill>
                  <a:srgbClr val="000000"/>
                </a:solidFill>
                <a:latin typeface="Times New Roman"/>
              </a:rPr>
              <a:t> appropriately of ecosystems to re-address market and policy failures</a:t>
            </a:r>
            <a:endParaRPr b="0" lang="en-US" sz="2200" spc="-1" strike="noStrike">
              <a:solidFill>
                <a:srgbClr val="ffffff"/>
              </a:solidFill>
              <a:latin typeface="Times New Roman"/>
            </a:endParaRPr>
          </a:p>
        </p:txBody>
      </p:sp>
      <p:sp>
        <p:nvSpPr>
          <p:cNvPr id="629" name="PlaceHolder 1"/>
          <p:cNvSpPr>
            <a:spLocks noGrp="1"/>
          </p:cNvSpPr>
          <p:nvPr>
            <p:ph type="title"/>
          </p:nvPr>
        </p:nvSpPr>
        <p:spPr>
          <a:xfrm>
            <a:off x="539280" y="980640"/>
            <a:ext cx="820764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Ecosystem Valuation; The Challenges</a:t>
            </a:r>
            <a:br>
              <a:rPr sz="3200"/>
            </a:br>
            <a:r>
              <a:rPr b="1" lang="en-US" sz="1800" spc="-1" strike="noStrike">
                <a:solidFill>
                  <a:srgbClr val="323366"/>
                </a:solidFill>
                <a:latin typeface="Arial"/>
                <a:ea typeface="SimSun"/>
              </a:rPr>
              <a:t>Continued…</a:t>
            </a:r>
            <a:endParaRPr b="0" lang="en-US" sz="18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2"/>
          <p:cNvSpPr/>
          <p:nvPr/>
        </p:nvSpPr>
        <p:spPr>
          <a:xfrm>
            <a:off x="468360" y="1341360"/>
            <a:ext cx="835164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Valuation </a:t>
            </a:r>
            <a:r>
              <a:rPr b="1" lang="en-GB" sz="2200" spc="-1" strike="noStrike">
                <a:solidFill>
                  <a:srgbClr val="000000"/>
                </a:solidFill>
                <a:latin typeface="Times New Roman"/>
              </a:rPr>
              <a:t>creates a framework</a:t>
            </a:r>
            <a:r>
              <a:rPr b="0" lang="en-GB" sz="2200" spc="-1" strike="noStrike">
                <a:solidFill>
                  <a:srgbClr val="000000"/>
                </a:solidFill>
                <a:latin typeface="Times New Roman"/>
              </a:rPr>
              <a:t> that can help nature’s values become more economically visible and accounted for in decision making</a:t>
            </a:r>
            <a:endParaRPr b="0" lang="en-US" sz="2200" spc="-1" strike="noStrike">
              <a:solidFill>
                <a:srgbClr val="ffffff"/>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If properly used, valuation can </a:t>
            </a:r>
            <a:r>
              <a:rPr b="1" lang="en-GB" sz="2200" spc="-1" strike="noStrike">
                <a:solidFill>
                  <a:srgbClr val="000000"/>
                </a:solidFill>
                <a:latin typeface="Times New Roman"/>
              </a:rPr>
              <a:t>contribute to economic accounting</a:t>
            </a:r>
            <a:r>
              <a:rPr b="0" lang="en-GB" sz="2200" spc="-1" strike="noStrike">
                <a:solidFill>
                  <a:srgbClr val="000000"/>
                </a:solidFill>
                <a:latin typeface="Times New Roman"/>
              </a:rPr>
              <a:t> and planning creating more </a:t>
            </a:r>
            <a:r>
              <a:rPr b="1" lang="en-GB" sz="2200" spc="-1" strike="noStrike">
                <a:solidFill>
                  <a:srgbClr val="000000"/>
                </a:solidFill>
                <a:latin typeface="Times New Roman"/>
              </a:rPr>
              <a:t>effective strategies</a:t>
            </a:r>
            <a:r>
              <a:rPr b="0" lang="en-GB" sz="2200" spc="-1" strike="noStrike">
                <a:solidFill>
                  <a:srgbClr val="000000"/>
                </a:solidFill>
                <a:latin typeface="Times New Roman"/>
              </a:rPr>
              <a:t> for natural resource management</a:t>
            </a:r>
            <a:endParaRPr b="0" lang="en-US" sz="2200" spc="-1" strike="noStrike">
              <a:solidFill>
                <a:srgbClr val="ffffff"/>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Valuation of biodiversity can </a:t>
            </a:r>
            <a:r>
              <a:rPr b="1" lang="en-GB" sz="2200" spc="-1" strike="noStrike">
                <a:solidFill>
                  <a:srgbClr val="000000"/>
                </a:solidFill>
                <a:latin typeface="Times New Roman"/>
              </a:rPr>
              <a:t>contribute towards alleviating poverty</a:t>
            </a:r>
            <a:endParaRPr b="0" lang="en-US" sz="2200" spc="-1" strike="noStrike">
              <a:solidFill>
                <a:srgbClr val="ffffff"/>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Valuation does not always necessarily mean monetization and have to lead to marketization of nature. It relies heavily on what the policy is at hand</a:t>
            </a:r>
            <a:endParaRPr b="0" lang="en-US" sz="2200" spc="-1" strike="noStrike">
              <a:solidFill>
                <a:srgbClr val="ffffff"/>
              </a:solidFill>
              <a:latin typeface="Times New Roman"/>
            </a:endParaRPr>
          </a:p>
        </p:txBody>
      </p:sp>
      <p:sp>
        <p:nvSpPr>
          <p:cNvPr id="631" name="PlaceHolder 1"/>
          <p:cNvSpPr>
            <a:spLocks noGrp="1"/>
          </p:cNvSpPr>
          <p:nvPr>
            <p:ph type="title"/>
          </p:nvPr>
        </p:nvSpPr>
        <p:spPr>
          <a:xfrm>
            <a:off x="539280" y="907560"/>
            <a:ext cx="820764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Ecosystem Valuation; The Opportunities</a:t>
            </a:r>
            <a:endParaRPr b="0" lang="en-US" sz="32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5T12:38:39Z</dcterms:created>
  <dc:creator>KREBS</dc:creator>
  <dc:description/>
  <dc:language>en-US</dc:language>
  <cp:lastModifiedBy>KREBS</cp:lastModifiedBy>
  <dcterms:modified xsi:type="dcterms:W3CDTF">2013-08-05T13:25:05Z</dcterms:modified>
  <cp:revision>2</cp:revision>
  <dc:subject/>
  <dc:title>PowerPoint Presentation</dc:title>
</cp:coreProperties>
</file>