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971A-3704-4359-9F68-5CA94A403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40C-16A2-41C0-9E07-9C897839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FA911-A813-400B-833B-E5BB8707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63AC4-65E3-4BCF-A743-6643AC74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61894-0D75-4F4F-9D23-48E6D03B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BDC5A-F3FD-49F9-A38F-4BE5E1FE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53DE9-3FBF-48F3-A45B-C0708AE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EFB93-8AAA-4043-B9BB-92611FE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D2637-C110-4B03-BA95-5C4BB77E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8D8405-0C83-4184-8C7A-45B48634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4D091-AD29-4F91-900F-FA65ADF7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B3F9E-E3C9-4403-A90F-DB2CAC4B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30B-72C5-44D6-8D1A-4E27698E9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505B64-96EE-4A1A-A5E5-9EF78721E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04E0-DA0D-4674-B898-8FAA7D59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4FE6F-936F-446B-9C5B-C212BF9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13618-C437-448A-A1CC-B956B1AB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55772-27FB-4071-B32E-D2FBEB3F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390F1-8E37-48FC-8911-5949F950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88119-31B5-4F62-8E13-5A7DC409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AA6DD-C77E-4131-8669-2B02677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A1064-7BAE-4D58-A277-5E90CDA7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57CC8F-2B8F-4BE3-94D9-AB3699DE7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0C6-F8CE-42DE-89CE-1B5F8FB8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3959C-8D94-4916-9DDB-D4421E5D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0BB2B-6C9C-49E7-A0F5-7C2B27B7C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30C28B-0963-4819-8DC2-8E5D99E6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E6847-3996-4E6E-9691-1E03320E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68EBA8-1917-4337-9AF2-04E63938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BEE04-F94C-4199-8234-5032BC6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9D278-D8B6-4896-B17C-157C29BD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361D0-18D7-4F2F-BE91-E86F6A61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0B2E3-4E0E-4995-BCFC-9761EE4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2F736-1697-49F0-83E2-281136F6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26B-03AC-433D-B943-4FA6FAC5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C3029-87DF-4C50-8835-AF5DAFD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F9DB-F5FC-4D45-B6E8-0B6A53EF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C44EA-4885-4CC5-B875-6D45F0FB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D6E27-C918-45C5-8F2D-34EF7963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FD261-1D6D-40B7-AEF7-E3BCA42B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89A7C-68B9-4951-91D7-49AC05D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759A4-9EF6-4265-8780-17EC5B3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B5983-DD74-4A0B-9133-EE5AA652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9AE72-6C6A-4E18-A48E-C986B3932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E7371-2261-43FF-8083-29C997F2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7641-CE0F-4344-B74C-BA4E5506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BA0641-9F60-4BEE-8DC0-0A5BF35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79362-C926-4694-8195-B4121EFA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C9DF1-D11E-4536-8971-94509448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20474-32E1-45B5-9D8E-A87F8D0B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A40909-911D-48E3-A1B1-3490910D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7E3D03-DB2F-4BD1-B9C9-62562E18F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C0011-3246-4BBB-B41C-4E9E0AD4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F6E20-4C84-413F-8081-AA56B80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2EFED5-2726-4A25-96B2-AD67B831A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6B0506-FC6D-4289-BB60-23AA1122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9938-2B64-47E3-B3FA-DA1A4D86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ADA9D-7044-48DC-9E1C-D576430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6D6ED-4291-47D1-A21E-2C66F6D1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96C6EB-EC07-40AF-9DFA-929A8504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E80AA9-8BB7-4FC9-B143-0A7FAD01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BCAC94-A075-4644-8BAB-32A80B9B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EBC0D-0934-444B-8A29-89B248AC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A6AAA-C0C8-49F0-9AD5-426C501B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0202-F351-49A7-ACD4-EB3ADD53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5088-C419-4652-8FF5-A55E0F88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55952-8874-4C4C-80B9-BB6440B5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1964C-9C08-45E8-86BB-80CF1704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85BB-EDEF-4910-9A65-8FC805E5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39CD-85D8-4DD8-8F2D-7E7B0B91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CD2D6-9A6D-4F62-8B6E-95B4716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7027-2A47-4D5A-92C2-AF8543DD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D78C-FF00-4ACA-BAC3-A4C21F51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7FE92-6447-4C36-9674-5B04F24D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17239-0CDE-4628-89A1-05669A37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31624-AFA9-41F4-923B-F10BC9BD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62B6D-88CC-44A1-B3CB-F61C0213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58160-9BC2-416F-A3F9-91EE0C80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ECB0-B87C-441E-B7AD-77C9F837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646A-EB54-4893-A887-3E759819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B96B-6F54-40E0-B37D-232B51F2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46864-B986-4498-AC62-F3902020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1992-7BEA-4DCD-9F67-FCABFA78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6ED8B-7318-46D0-8E75-87D76DE3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7434A-E8BD-4EE4-8628-56FDBE43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4662F-B560-4C62-8DBA-1ECA0CF9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179A-568B-4F0F-9FE3-39FB95B7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39BBE-29AC-470F-8EF4-ECED86E09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5FBE-81E3-4BD9-A7E2-93BB5C58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8E76E-BA13-4132-9C88-AA00C488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713-ECE8-477A-AAC2-770687ACC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D70D-CA92-42D2-8CB1-143F657B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A0D1-36E0-4531-8A51-5C849A2E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177F-EF7A-43E4-8B09-A03D6AE3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EEEA-B4EF-4542-BF72-33C48E2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425BF-0335-4AF2-85B9-603676A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033B6-7DD6-4F35-8F09-754E61E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5C75A-3D0C-4B43-BEC6-7B6C65BA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491C6-FA8D-40D9-B0B5-2E555553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E092E-21B1-413E-8AEF-AB1D65C2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51669-B748-441E-8732-57FD8590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BF98-36DD-473A-890A-A2195CBC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AD57-604A-4DAD-9EED-A862702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4BDAA-4CC1-4743-BBAB-81ECA00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07C2-0904-4317-9A36-3F389B12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397E7-59E4-4AB5-BBB3-4C632CDB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E4D84-7D9F-43FC-BBE9-198BD7F3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9AAB2-67D6-4614-B7C6-AFAB3CC58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717D-6EC0-44DB-AA33-E0C1116C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9DCB1-E218-4025-B9C7-9487057F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78521-EC1F-42F9-B9C1-ABB52C0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62C32-E12B-4B4D-B81D-CC65DFE3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62B-C76A-4D30-A8F2-E873817A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6D26-26E1-4863-B048-8561773F9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E664F2-06F0-4D9D-A5DF-DE02A5261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EDF73-25A6-4C5A-A78E-AEE095D4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C2D58-8AF4-4F5F-8E5F-CA558FE7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C2264-2AB5-4855-ABD1-CDBA939F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B9703-E4C8-46A6-86A9-B0BF3174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C8BF-41F7-4D2C-8FB0-4E24415D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0AAC3-1456-4F15-AC78-B4125130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9196-0814-4396-8A66-D23521F5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BA29E-EF43-4124-B3D6-9220978F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B0F-1F26-4C86-B6FD-C4FE9704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7F72C-693E-4D5A-8C34-C9D0F385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04C58-2C66-4A03-9F4E-4504386E1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E35CA-65B4-4E05-AA96-B6DB4101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4084A-89F5-4149-8D99-ABFCF90A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FE185-9F8F-40D6-A741-C3F4A104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6E369-0973-48B5-A204-64478710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B6EA0-F3FF-4200-9CDA-A7039915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2D442-1230-4A37-86C8-DE681FD0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30B8C-930D-4530-92C0-323C9F39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B5BB0-30B9-4F1D-8FE3-836C0F69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C6B7-B7D9-4A64-9B0E-A14C6A0A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9A90-60FB-4CD3-9119-F3BA44D8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9C34E-E118-4773-A1B3-42AB6E5E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AC88C-1734-4EFF-B764-6F21F1DD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FE04A-5CEF-4FDF-99D8-71733283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01878-B5F0-4C2B-92C4-98B67F692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A96A8-9816-45CE-94DF-14ED0BA2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93516E-A898-4894-A32F-0097B426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0C3B1-A433-4F7A-B4C6-0ABAC856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E8B31-825E-4E13-95C7-2F421D00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D941A-8DE2-4381-B244-684AB47D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533C-7A35-4CA1-B4FA-B2A93305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4D679-04E0-4C85-BF5B-1387B139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4EDAA-64DA-470C-B741-F25CDF58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8E1FEF-45AA-4A09-8408-43D12A9F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6FDE3-C964-4159-B60A-596D9231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9D62-9E86-43E1-B2C6-022763BD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BC4C7-BF8A-437B-AEDA-6F044450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31865-5FFF-4C98-AC0F-C0DA2F9A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0B4EDD-824B-48F9-91EE-C5C87ED4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62F65-EDD9-4809-AE84-3A759D71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4240D0-942B-4836-A8CB-09E9D5D9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8214-C61C-490B-B72D-3092FFA51B39}" type="slidenum">
              <a:rPr b="0" lang="en-US" sz="1400" spc="-1" strike="noStrike">
                <a:solidFill>
                  <a:srgbClr val="000532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C105-B3BC-452B-959C-6BE0E1FD2AB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5BF30-1C42-4DF2-9117-E59E82EDA997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9C7D-6065-4E3B-A2DD-C45502AC5A07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F854-79A4-48E9-8962-8961FC38CAEF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030-EA27-4EC8-A6E9-10EC2C081FEE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7176-A26B-4EF4-868C-141044478DEC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005F-35D1-49C9-AF6E-0FF5C00B5B46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107E-889C-44A6-B205-7AE5A71C70EB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507-639A-42D0-A663-7CB4E18A8B8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DBA0-C6AA-4398-9E47-F1E8C58C7796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SimSun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0DAD-3E58-43A5-AFC7-8AB14BD9E429}" type="slidenum"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Key Documents for Module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3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692360"/>
            <a:ext cx="84978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: The Ecological and Economic Foundations. Earthscan, London 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 in National and International Policy making. Earthscan, Lond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, 2010. The Economics of Ecosystem and Biodiversity for Local and Regional Policymakers. Earthscan, London.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P-WCMC, 2010. Ecosystems and Human Wellbeing: A Manual for Assessment Practitioners. Island Press, Washingt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, 2008. Ecosystems and Human Well-being; A framework for Assessment. Island Press, Washington</a:t>
            </a:r>
            <a:endParaRPr b="0" lang="en-US" sz="24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53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5:13:51Z</dcterms:created>
  <dc:creator>KREBS</dc:creator>
  <dc:description/>
  <dc:language>en-US</dc:language>
  <cp:lastModifiedBy>KREBS</cp:lastModifiedBy>
  <dcterms:modified xsi:type="dcterms:W3CDTF">2013-08-05T15:14:25Z</dcterms:modified>
  <cp:revision>1</cp:revision>
  <dc:subject/>
  <dc:title>Key Documents for Module</dc:title>
</cp:coreProperties>
</file>