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4692-38E3-4E80-9B66-1A2C28C3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7009-CFD6-4A88-BE28-09C75365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7EFC0-3CC4-4CDE-9C72-C7CE53E9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006B2-B248-40AA-A1A9-A61001DA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B878D-9F89-4CE4-936A-E0654221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1411F-4D3C-4724-8C27-65A0782E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A6C9C-840A-4D0F-9A75-FB9F0A5C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62446-6C43-45F3-817C-A70CA79A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8A013-CC45-4E8C-A055-3DE6033C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CB0B1-7018-43E1-AA2D-A99125C0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A85B3-3319-40F6-98CA-D3ED23EC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1EAD1-CFB9-44F1-BCCE-948E10B0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1A3E-9D4E-409E-A703-A968480C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F7C61-AF63-439F-ACA6-CB8D19B5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B03AC-AFA4-4A18-BE8B-D9CD9A4A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7E71F-F910-4E8D-9078-F7BAEF60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ECEF1-EE22-4870-AE9C-4E2EC971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516A3-A82F-457C-BE66-894BA032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DEADB-70F5-4933-B212-ABA87732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77EC3-4396-49A9-B8E3-69E5CD6F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36834-F016-4781-955E-E6ED48DB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1F4C8-BD43-4B51-BFE7-315E47A1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E882E-8927-4585-AE23-FBBA3437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B98B-6DA1-4CF5-A63E-A22824EE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2EB03-2F57-4EB4-9C6E-FADA8FCD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6C3FE-2790-4F8C-BAE8-D29EAE17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5AFFF-D66F-4BE3-9A72-6C7EA89F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3256F-174C-490F-BFC7-BDEC55CB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50370-D561-4403-81EC-61174432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04BE1-7F10-4F0A-BC1F-CC262F19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230DB-61C9-4F86-99BB-C31C2D98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383C7-C4A5-4F01-A210-CF16BAF6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0ADA7-AC79-4A12-B64C-23E65B87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6333D-40D8-44F1-8268-FE49BC83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D650-4710-47C8-810C-CADAA968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CF55F-075B-4106-968B-A5090E4C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082AC-6678-48AB-9F2F-43E3A8BC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93740-1BA8-46DB-8ED3-C9EB50AB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204E5-0CA1-4704-84AC-2CCA6022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FCBAD-0E5D-4BBD-BD84-2C147292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68E91-E74E-4226-8FE6-8F566738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72DA5-CEA4-4440-9D64-8268E3CD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6A07A-A2C4-42B1-8797-6FB0989F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32419-A8C7-4F88-A404-5BD8F96A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76FCB-4EBB-4B23-A12A-7EDC2BB5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6EDB-E51E-433A-AF51-4E5FF14D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BDAA1-3684-4CA1-A6CC-F97B3ADB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E877E-85F1-444B-A2DE-4FD81AE9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6108E-FF19-48EC-8B97-9479FCF5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E79F6-D8FC-4BE3-839E-B1600843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E103E-287B-4D83-A511-FB53DB5D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15A2F5-0978-4C92-AF7D-58DDCD42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5DAA49-F449-44C5-83CC-0E347C8A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0DFE6A-E690-4781-974D-A3464011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9F427E-7E14-4455-B7A1-766B8484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68228F-D1A7-4DD1-8AB0-962EEA79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FA9D-D5FD-4E8E-B418-F1B447CE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1E5922-5221-441C-9CD2-30DAB18A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881F19-01E5-445E-93E5-77EDAE3D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7ADE56-1740-4826-9C6C-270A38E6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D5BFDC-EBD2-419B-A564-86BA4756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4E5142-C34B-411A-9F11-B7E720CC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369803-2696-4E77-B55C-02F73B58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EC514E-3E9B-432B-A8AA-132E6C15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E960-8438-4573-BF96-CD18F8F1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2EF2-B2D5-42A8-8AD3-7C5B7E05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61DE-0844-4216-8D81-C11A37CD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CB2B-F6FB-4AE5-B6D8-E15BE166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029B-4A9D-49CA-BB65-C0E0F865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2F34-DA90-4708-945C-8FDBA921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1F9C-12A3-48AF-8415-B350ADCE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6642-DC9F-4054-85BF-06093AB5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A58E-D665-4DBB-AA2F-A4C30FC5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647D-A5FB-42B6-99F1-CD0DB1AF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0BA7F-8EC9-44EA-AF3A-578ACBB8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02C39-D5ED-411E-A596-5E9570EA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0F4DB-5C78-42C4-992E-B8046ADB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C8EDB-0C70-4502-9170-55627B85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EDAF7-A152-42BE-9707-FB060AE8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B17D-4BB9-4980-9352-10E7E111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E6AAB-64F7-4723-829F-8B0245E9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B1C52-72C7-437A-99E4-409BBABD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51B83-0381-45FF-8A32-466C10F3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0064E-5F83-43CC-9E23-E443CC4B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DAFBC-6274-4D4A-996D-B4D0FBF7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82004-CEA2-414E-B1F2-BAEB663D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8C29E-AF3D-4192-BE30-6E1BB254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14761-1AC4-4772-B77C-98DA37F1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C43AA-1702-4DF2-B23E-952182F0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2481A-3213-432A-AC04-982C296D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B1AB-74D4-47ED-AB87-2C13D78F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83CDA-85B5-4AAE-9B52-F1E754CB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4E53A-A659-436C-A5B6-9921F9EA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89F25-2699-4EE0-8411-6CCA65C3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BB710-5DAC-4D9A-8C89-961F282C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FB35E-5E73-441A-9121-6E570AB0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1D240-9B05-4B20-86E5-DD623F5D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10BBD-71A5-4ED0-8388-B8859EB3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F1A71-0AA5-4D1E-8AA3-34BB35F5A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EF15A-A5C1-48EA-874C-8F3D0AE3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D77C0-90F6-4806-9E56-194DCA58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1F35-5F98-4420-B7F2-EA578B81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08DEE-5AC2-4584-B4D2-E735EC1E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16FC1-185F-4535-AED4-BE6AE125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6AF83-6059-4C6F-8E6C-8543C9B0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06B2F-DD10-4E6E-9CB0-F3752291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BF852-4577-4F12-BA7B-A1866319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94A8F-B9DE-4F06-B205-F1ECDCB4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8FAE4-80E6-44D1-A069-2C15119C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4A501-D62E-4DD2-80F5-7E71D08C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EA90A-ED57-4B11-AD2E-56A987B6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F31D2-63FB-45A2-9B3C-35E246C9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06FB-0D8E-48A1-99C5-AAA22036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71A58-9CB8-4AED-A117-9ECE38E5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257C4-B055-4329-9DB5-3B6874F2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0BF58-42B9-4C86-B18A-804A32B2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8235A-ED9D-4064-B33C-2A39EE35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C28AD-1926-4F54-9E55-5870232C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4777F-452D-4AEA-AD59-C3769176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13E4E-CD56-4175-8530-7B8DCD55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8E6EF-ED5A-47D8-B8E8-0CB415D6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4A266-095D-462D-B13E-F4903752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56241-B583-44DC-861C-0746B583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870D-51E0-4D77-BF1A-232A9916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C0CCA-1E76-4EFB-B563-B0BAADCF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DD391-813B-47B6-9B9A-C1150742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888A7-DA1A-42E2-BA9A-917EBCE9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40099-A94D-43C6-80B1-657853E5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E5A40-BCBE-4F94-8A9D-BECDC7BA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A6325-CCA9-4151-AFFB-040E177F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B8A46-4E7D-490D-8B8A-D096B5E9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EF2C3-E707-41A9-8A2B-83B53373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DC3AA-1183-40DA-9F5D-02F76F04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09E43-65F3-45CF-88F9-6A49835D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E102-11E7-4989-A645-13861E9C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DD425-32DB-44C8-B3A1-44C3F611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55B64-1EED-4B25-A768-5791AEAD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246E3-5AE9-4C7F-B721-15B2EEEC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27D14-6519-4C88-95FF-4A315A56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2448C-E48C-4117-ABB3-62AE5637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E91E6-729A-479D-8A44-4677FBCC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A4B2A-612B-4B0C-BB44-FA3AD615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0B040-7559-413D-92D3-3D76345E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BB6DE-7C8D-4647-900B-8ECA5145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FE99D-073D-45FA-8508-C552F81C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9D29-F143-4B8F-962F-E7C15910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DDFAE-211E-4E46-9A16-99EAA30D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74E47-4854-4328-B9FB-12A87A27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976E1-07B3-462E-9E51-647FE4DC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F2DBC-BDC8-4687-AA5C-BFC63173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9FAE8-6FA8-4A7B-B96A-4004FD5F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DFD2E-5EE2-4FAE-A135-9392577F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E9675-DC3A-4795-AB78-C3EF2C3F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1CEC2-3631-49D4-8CB6-334B7230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A98E5-469F-4FAE-BB11-F06577DD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169F0-875B-422F-9C82-132E0823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09CF-E95A-4B55-8B3A-25812741A1EE}" type="slidenum">
              <a:rPr b="0" lang="en-US" sz="1400" spc="-1" strike="noStrike">
                <a:solidFill>
                  <a:srgbClr val="000532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DC00-B402-4B07-9356-3BA871D9086F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807F-4504-4B27-B4E0-47D2E9140BDE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9375-6A3F-4D73-96BA-2EB167E43084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A91B-E9AB-4CA9-B613-1D3B6471A2D0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7B77-6847-45DE-99C2-30F58D22FE7F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11DC-F281-4D67-B07E-A1D1FEB7CD19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6E8F-332F-457D-B4B3-59787D3C2F89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83A5-31D4-4E2A-A7A0-31C5891228B2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BAA6-9B79-4317-AF7C-EE505DAE9F5C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92E3-6208-48F5-BFFC-49FB214A237D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44D0-A6D9-4C9F-9DCB-BA033D2AEA10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3366"/>
                </a:solidFill>
                <a:latin typeface="Arial"/>
                <a:ea typeface="SimSun"/>
              </a:rPr>
              <a:t>Key Documents for Module</a:t>
            </a:r>
            <a:endParaRPr b="0" lang="en-US" sz="36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00000" y="242100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94920" y="1692360"/>
            <a:ext cx="84978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P, 2010. The Economics of Ecosystem and Biodiversity: The Ecological and Economic Foundations. Earthscan, London 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P, 2010. The Economics of Ecosystem and Biodiversity in National and International Policy making. Earthscan, London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P, 2010. The Economics of Ecosystem and Biodiversity for Local and Regional Policymakers. Earthscan, London.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Z, 2012. Integrating Ecosystem Services into Development Planning; A stepwise approach for practitioners based on the TEEB approach. GIZ, Germany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P-WCMC, 2010. Ecosystems and Human Wellbeing: A Manual for Assessment Practitioners. Island Press, Washington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, 2008. Ecosystems and Human Well-being; A framework for Assessment. Island Press, Washington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5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5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5:13:51Z</dcterms:created>
  <dc:creator>KREBS</dc:creator>
  <dc:description/>
  <dc:language>en-US</dc:language>
  <cp:lastModifiedBy>KREBS</cp:lastModifiedBy>
  <dcterms:modified xsi:type="dcterms:W3CDTF">2013-08-05T15:14:25Z</dcterms:modified>
  <cp:revision>1</cp:revision>
  <dc:subject/>
  <dc:title>Key Documents for Module</dc:title>
</cp:coreProperties>
</file>