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4D83-6602-4355-89C1-FF9B5967CA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ABC8-1867-4359-8B68-810287DB2CD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Welc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rticipants to Modu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xpla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valuation is important for correcting missing inform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don’t do so then there is an inherent bias towards exploitative extraction as such extraction is generally assessed in monetary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also be mindful that TEEB is not anti-development; so if the compass is corrected then maybe, in some cases, out-and-out conservation alternatives are not the best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n many cases the wrong decisions are being mad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mphasi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valuation is not just about $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in focus is on $ valuation BUT TEEB is a broad church and also includes evaluation in non-monetary te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valuation in $ terms is either inappropriate or impossible to carry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uation is tool for self reflection so policy makers can recognize the valu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Highlight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the learning outco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Explain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how these outcomes can be used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module is about enacting valuation in the field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What we  have as an entry point is ‘the decision in question’, e.g. allow mining concession or retain habitat in its current sta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module does </a:t>
            </a:r>
            <a:r>
              <a:rPr b="0" i="1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not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contribute directly to this entry point, i.e. it does not frame the policy question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xplai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nda of module and timings of each s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ighligh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time keeping so to keep course on sched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Purpose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e aim of this Icebreaker is to explore attitudes to valuation of the participants and in their spheres of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nic quote: Should we price na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f the price for a wetland is £10k per hectare and the developer is willing to pay this amou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orse still, what if a consultant for the developer cherry-picks a low per hectare value for the wetlan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s why the module discusses pitf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8B31-F8D5-4AA7-9D63-23BB6794E78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Provi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participants with key list of useful resources for module 4 as a handout and highlight some of the most useful references for the training cou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EB at Yale has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SEE is the main academic body of relev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SP will be launching a database of valuation estimates and developing expert groups on ecosystem services and 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5919-8BF0-4FF0-AEF7-C390533379B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06C-8594-4E59-BCC6-736D9733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F90-91F4-4437-BB4B-9482B942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92981-5347-4AED-8770-35894AA5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35CEA-428D-417A-B6C1-5FDD4A1F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B6F29-BDD8-4E7F-8EA3-6F94B355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B99AD-287C-439A-9DF9-CF0E6FC9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BB4D1-765F-4025-BFC8-6A8F70E8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20B2A-B1B4-4DDA-BF36-C07680D8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50CE3-FD09-4D38-A699-932C3F5A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364E7-4E9E-42A7-BF1C-9EA0E9F3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0B4BD-6D12-479F-BD1E-87817CD5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E1866-3934-40D5-B3B2-7E97568F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32F-C91E-41EA-94C7-3A8A212D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E9A8B-499D-4FCD-ADAB-82C08708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0659E-FE80-4254-BFE3-D145ACD9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E5651-70DC-4202-BC42-C3BF676A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384BC-4C60-484E-87E5-7B1BC5B2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250F0-9422-4C79-9042-CFE47D12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470DA-2E7D-4C1F-B1B4-CBC29D84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1E62A-3D43-4DD3-98B6-C3757CDB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72402-1C85-414A-A041-333BFE10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14AF4-7035-456F-A875-FB36648A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A781E-9375-4E75-870C-B476B885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EFE-26F3-497A-A5B4-C87A5D03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B47E1-89FE-4AD9-9251-31017378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7187A-BCC7-4EA9-8600-BC763D14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71096-D33F-49BF-AC16-6A4EFA95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A5C79-2DBB-46A7-87D8-1474D276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C526B-6F3F-48AB-93F1-A12AAA69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E5671-6C3F-4E2D-A2E0-AFF271B3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33F53-0D6B-483D-882B-2F693CF2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40A7F-1E05-4401-B58C-7DDCBFFE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C7730-2FE6-41C1-BB88-08BE04E1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73161-5625-4985-A401-710F6BCE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0D1C-4BB4-47DD-989B-8F7BCAB6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60556-FA0C-4DEE-907D-A881F1F5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B4331-F10D-4660-9092-50BC0A9B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71226-C220-4163-9EED-5A446010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29F1C-67A4-4C87-AF59-D18335D8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314BB-199D-4F57-AD1D-36AE836E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BC6E2-B479-4C28-911E-610C81A4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9AE5F-59C4-4FC8-B371-FB39E4EC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100BF-62A8-4DAE-8E08-F2869943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B3A76-C3EE-49C4-9F04-FC45072A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57D7C-ADE1-41E6-9566-C88B54F8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A440-293D-4805-8812-56392B57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071F5-7BF6-4379-8A84-34C64B01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BBF2F-DDC2-4E52-81F0-92B87931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6371F-A18F-4A38-BB95-6AC4E037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9067F-FBDE-42FF-8993-08298304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D3328-CBF9-4655-8090-6D90F051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6F186-C084-437A-B576-FF437EA4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28566-FD93-4BE1-942C-FCBB00CF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9AE54-8CF4-4582-B76C-8C2F33D9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3A1A9-2369-47BB-85E7-905CDB89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D5AC6-EE47-4331-AF42-D755220D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68C5-E224-4454-8E55-EFB0296C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19ED6-49C4-407D-8104-38422E77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90AA2-7DF1-4AFD-A712-B0ADA24E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C486C-A07E-4D91-B47C-2C0AE2C6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CFCD6-E5E1-4F35-9DE1-62B81C84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BA6CF-97F1-403E-A6DF-103B326C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DE491-67EA-45A9-BE5F-C822DA93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96319-482F-4C93-848C-9417A28F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9365-D8A2-4369-9136-6725E25A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E8A5-0395-4788-87EF-43FC4D6A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26F6-0074-465B-B5E1-047D31C3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E29A-4B88-4E30-B1C9-4B2CCB87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578-B7C0-4C63-A7B2-3605AEC7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C846-FF50-4C5B-97E5-BCDA2CC8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30F6-3630-48B0-AE30-92182CA8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F47D-09CB-4E7D-8336-59613EC3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07EC-DF10-4E94-A1C3-6E81E3D2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7201-F027-4E16-B2DD-6B1F4BD3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4D8E6-B771-43C2-BBD3-C40B1F19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96C59-9E1C-4C0E-9EB1-B2F299FC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77C50-DD23-4C38-A3BE-32D999CA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431FA-AB35-423A-9CE1-23DB04D5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B8F1D-2EEB-4321-8C95-CF771EA0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40D-4441-41A7-8FB0-E9DB3C04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2AE16-0B40-41C0-904E-27E0BFE4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3D2C7-B1CE-494D-ABD5-A60FCEF8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F06EB-FB9A-4D11-A93B-57A37673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D0559-8972-4673-AFD7-FC9B7A44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BFEF-788D-441F-B59D-1A697A52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7EEE7-0EBA-4CFF-8AA5-14C60F55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FFF2-0081-43A3-84B5-69FAC058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FFA3-330A-48B0-88A6-00789171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C5F8-CC25-4C9E-90AC-5182C35F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7E29F-A5FD-4035-A332-6D6E87FC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817-AA21-4011-8FCF-9F3DB0D3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6D1A6-4C73-4DA6-9E4D-9572AF5B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36E1D-C344-4CBB-8C53-DE3AB0D5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3524E-69A4-466E-AD10-78CDA5E4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5DB55-5F2F-44C5-9AB7-17819D86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D84A5-2EC2-4D72-B04D-5A1CEB7E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A9539-055C-4C4F-9EBC-125C1B56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E41DA-0D6D-44D5-8D8F-ADFDBBE8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2E6F6-58EB-485E-B66E-5166B67F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82BE0-41FD-44D5-8DE2-8D8FEBE3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57AF0-8319-43E0-91E8-9EE1B68C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1BA-549D-4715-A7C0-D8214CA6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048A2-7102-4895-B8C3-C8F18EA4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36DA1-CA3C-4E21-B0D6-EDCEF600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CB798-7FC0-42BB-8CA5-C02C2919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302A4-9ED8-4ED5-B925-9E2ECEBF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57E20-E61F-4B49-A106-1985CD46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49978-B767-42F5-B11E-5500A8AF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E1A1B-71A2-4FF9-B65F-1CE781CE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860EA-82FB-4167-A3D3-79802749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25F66-383C-4993-A779-BC7CC513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BCDA0-4521-4C32-8AB1-35652566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FA0F-9E1F-4312-8122-85E17092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444A0-8144-42A5-A910-0D931F47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AD007-E0EB-4357-87D2-8CF2353E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9A3CA-4A99-4831-88D6-15AA301F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2E6A9-8337-4299-B9D5-FE54BA91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56133-FA52-47EB-A114-BDD348FF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AAEC1-FE6C-45CB-B78C-B900690F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27D5F-A73E-4643-8D2B-904F29C4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A4933-671B-4609-AD64-1302901C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532D7-C777-4343-A5EC-4E9635C7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1B7C6-E790-4CE1-BAC9-E8E6CA36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B20-CCDB-4888-A361-846940D3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9F62B-FFB7-4F82-B767-0DE421F0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6D148-703B-4943-BDF8-871238EB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B0F27-0B5E-40E9-9A89-BFCF128A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7B754-4F70-4256-B65D-9CB2B0D6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BE8E5-F00D-40F0-A898-479E74F9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0B5CB-C506-4366-85D6-7907CE82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FD716-4506-4343-B452-50EDB425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92E41-364B-4E99-B5C0-DF90AA6A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0591D-1293-4632-814F-00897730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EFC37-CB62-4757-AA14-717CC905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D97-A8EF-45F7-B395-D0365E57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53BBF-FDEF-4799-95EC-55BA4E0A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0319A-D57F-45B0-87BF-D12AA5AF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4EB6D-94AE-440D-97C0-D9969E68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A07E7-CD7D-48E3-873E-70D74802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4A417-3BBC-4010-B12B-E4965DA9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11725-7517-4316-9BAE-B8033BB0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371E2-7147-4F2C-8885-BEBBAA6E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2EA61-3396-4AE6-A922-1F00DA36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20CCC-0657-4C2A-A957-04A36C15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A6E16-3239-4713-A80B-C2A68E3A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539-7E3E-4629-8165-67BC845F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DFB79-5207-442E-A2B6-46FEECAA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48D7C-0429-4185-A72E-DCAFFF35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49921-2F84-4FE7-9357-70D0B23A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6CD1E-E83B-44DF-A505-C3F9AB7C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D53CB-AAB9-4165-AE8E-87D9A9F5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C2568-34F4-41FC-B4A1-9429B7E3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2AAE7-DCE3-47FF-90FF-C99EF4AA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6B601-BD89-4908-B0ED-A81EB6E3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E5283-9D86-4329-85D5-AA725D9B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F6BCE-3DA6-429A-90BF-CE6865B2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E8EE-D56B-46EB-9F4B-3B6CFAB97568}" type="slidenum">
              <a:rPr b="0" lang="en-US" sz="1400" spc="-1" strike="noStrike">
                <a:solidFill>
                  <a:srgbClr val="000532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C200-CEAB-478F-8241-5C13A273FD1C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4964-616C-4B81-B7CD-7C536AB995DB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42F0-33C0-47AD-B349-FC56B1A7BC31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FA78-EFBB-4458-9C70-ABAFBF2869B1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8189-3EC8-472B-9A12-BC94A47F3997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0FA2-273C-4D0C-BFD6-7CEE5F81C269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DD17-547E-43EE-830D-751AD2B57DD7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625C-5B61-419E-A8B4-9A03EEC1AC4E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389E-272D-4DB0-A975-4F9ED5629CC8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27F7-C417-4ACD-9F5D-E8AA32D57533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5061-2C34-4D9C-A77B-0D02A8523A93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vironment.yale.edu/TEEB" TargetMode="External"/><Relationship Id="rId2" Type="http://schemas.openxmlformats.org/officeDocument/2006/relationships/hyperlink" Target="http://www.isecoeco.org/" TargetMode="External"/><Relationship Id="rId3" Type="http://schemas.openxmlformats.org/officeDocument/2006/relationships/hyperlink" Target="http://www.ecoservices.asu.edu/ecoservicesproject/people.html" TargetMode="External"/><Relationship Id="rId4" Type="http://schemas.openxmlformats.org/officeDocument/2006/relationships/hyperlink" Target="http://www.fsd.nl/esp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"/>
          <p:cNvSpPr/>
          <p:nvPr/>
        </p:nvSpPr>
        <p:spPr>
          <a:xfrm>
            <a:off x="-181080" y="-179280"/>
            <a:ext cx="9649080" cy="7208640"/>
          </a:xfrm>
          <a:prstGeom prst="rect">
            <a:avLst/>
          </a:prstGeom>
          <a:solidFill>
            <a:srgbClr val="3233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1476360" y="4797360"/>
            <a:ext cx="62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cc00"/>
                </a:solidFill>
                <a:latin typeface="Arial"/>
                <a:ea typeface="SimSun"/>
              </a:rPr>
              <a:t>Module 4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cc00"/>
                </a:solidFill>
                <a:latin typeface="Arial"/>
                <a:ea typeface="SimSun"/>
              </a:rPr>
              <a:t>Valu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Box 2"/>
          <p:cNvSpPr/>
          <p:nvPr/>
        </p:nvSpPr>
        <p:spPr>
          <a:xfrm>
            <a:off x="1547640" y="620640"/>
            <a:ext cx="62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c00"/>
                </a:solidFill>
                <a:latin typeface="Arial"/>
                <a:ea typeface="SimSun"/>
              </a:rPr>
              <a:t>TEEB Training for National Level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6" descr="logo TEEB transparent print"/>
          <p:cNvPicPr/>
          <p:nvPr/>
        </p:nvPicPr>
        <p:blipFill>
          <a:blip r:embed="rId1"/>
          <a:stretch/>
        </p:blipFill>
        <p:spPr>
          <a:xfrm>
            <a:off x="3348000" y="1700280"/>
            <a:ext cx="2691000" cy="273672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7"/>
          <p:cNvSpPr/>
          <p:nvPr/>
        </p:nvSpPr>
        <p:spPr>
          <a:xfrm>
            <a:off x="262728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81864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23366"/>
                </a:solidFill>
                <a:latin typeface="Arial"/>
              </a:rPr>
              <a:t>Why is Valuation important?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719360"/>
            <a:ext cx="822960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ulty compass” </a:t>
            </a:r>
            <a:endParaRPr b="0" lang="en-US" sz="2600" spc="-1" strike="noStrike">
              <a:solidFill>
                <a:srgbClr val="00053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ation of extractive (non-conservation) alternatives is routine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itting values can lead to outcomes: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reduces societal wellbeing </a:t>
            </a:r>
            <a:endParaRPr b="0" lang="en-US" sz="2200" spc="-1" strike="noStrike">
              <a:solidFill>
                <a:srgbClr val="00053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disproportionately affects the po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f the compass is corrected….</a:t>
            </a:r>
            <a:endParaRPr b="0" lang="en-US" sz="2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62728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366"/>
                </a:solidFill>
                <a:latin typeface="Arial"/>
              </a:rPr>
              <a:t>Module Goal</a:t>
            </a:r>
            <a:endParaRPr b="0" lang="en-US" sz="40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632720" cy="2521080"/>
          </a:xfrm>
          <a:prstGeom prst="rect">
            <a:avLst/>
          </a:prstGeom>
          <a:solidFill>
            <a:srgbClr val="66ccff">
              <a:alpha val="3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have an understanding of how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chan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state of ecosystems and the limitations of these valuation methodologies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262728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23366"/>
                </a:solidFill>
                <a:latin typeface="Arial"/>
              </a:rPr>
              <a:t>Learning Outcomes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854360"/>
            <a:ext cx="822960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s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 of ecosystem service values within a decision-making context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s that are affected by changes in ecosystem services brought about by the decision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propriate method(s) to measure these values and who can undertake valuation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ra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isting estimates of these values and what adjustments are needed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mitations of valuation and barriers to acceptance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262728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23366"/>
                </a:solidFill>
                <a:latin typeface="Arial"/>
              </a:rPr>
              <a:t>Module Agenda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854360"/>
            <a:ext cx="822960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68360" y="1747800"/>
          <a:ext cx="7923240" cy="4389480"/>
        </p:xfrm>
        <a:graphic>
          <a:graphicData uri="http://schemas.openxmlformats.org/drawingml/2006/table">
            <a:tbl>
              <a:tblPr/>
              <a:tblGrid>
                <a:gridCol w="1811160"/>
                <a:gridCol w="6112080"/>
              </a:tblGrid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uration (mi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468a4b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00193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ss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001932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roduction and Icebreak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ession 1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: Analysing value: context and fundamen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roup Exerc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ffee Brea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ession 2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Valuation methods that use primary 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roup Exercis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u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ession 3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enefits Transfer: ‘borrowing’ values from extant studi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Knowledge che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ession 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: Criticisms of valu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roup Exerc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468a4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ummary and Ques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468a4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6" name="Text Box 50"/>
          <p:cNvSpPr/>
          <p:nvPr/>
        </p:nvSpPr>
        <p:spPr>
          <a:xfrm>
            <a:off x="262728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81864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23366"/>
                </a:solidFill>
                <a:latin typeface="Arial"/>
              </a:rPr>
              <a:t>Icebreaker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231840" y="1854360"/>
            <a:ext cx="5014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ynic is a man who knows the price of everything and the value of nothing” [Oscar Wilde]</a:t>
            </a:r>
            <a:endParaRPr b="0" lang="en-US" sz="26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minant is valuation in your sphere of experience?</a:t>
            </a:r>
            <a:endParaRPr b="0" lang="en-US" sz="26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valuation something positive or a pill that needs to be swallowed?</a:t>
            </a:r>
            <a:endParaRPr b="0" lang="en-US" sz="26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use of ‘ecosystem services’ just a new fad?</a:t>
            </a:r>
            <a:endParaRPr b="0" lang="en-US" sz="26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532"/>
              </a:solidFill>
              <a:latin typeface="Arial"/>
            </a:endParaRPr>
          </a:p>
        </p:txBody>
      </p:sp>
      <p:pic>
        <p:nvPicPr>
          <p:cNvPr id="599" name="Picture 6" descr=""/>
          <p:cNvPicPr/>
          <p:nvPr/>
        </p:nvPicPr>
        <p:blipFill>
          <a:blip r:embed="rId1"/>
          <a:stretch/>
        </p:blipFill>
        <p:spPr>
          <a:xfrm>
            <a:off x="5246640" y="2484360"/>
            <a:ext cx="3800520" cy="256536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7"/>
          <p:cNvSpPr/>
          <p:nvPr/>
        </p:nvSpPr>
        <p:spPr>
          <a:xfrm>
            <a:off x="7093080" y="494172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©123rf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262728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23366"/>
                </a:solidFill>
                <a:latin typeface="Arial"/>
              </a:rPr>
              <a:t>Key Resources for Module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3960" y="1762200"/>
            <a:ext cx="822960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EB @ Yale</a:t>
            </a:r>
            <a:endParaRPr b="0" lang="en-US" sz="2800" spc="-1" strike="noStrike">
              <a:solidFill>
                <a:srgbClr val="0005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1"/>
              </a:rPr>
              <a:t>http://environment.yale.edu/TEEB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ational Society for Ecological Economics (ISEE)</a:t>
            </a:r>
            <a:endParaRPr b="0" lang="en-US" sz="2800" spc="-1" strike="noStrike">
              <a:solidFill>
                <a:srgbClr val="0005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2"/>
              </a:rPr>
              <a:t>http://www.isecoeco.org/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Services group at Arizona State University</a:t>
            </a:r>
            <a:endParaRPr b="0" lang="en-US" sz="2800" spc="-1" strike="noStrike">
              <a:solidFill>
                <a:srgbClr val="0005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3"/>
              </a:rPr>
              <a:t>http://www.ecoservices.asu.edu/ecoservicesproject/people.html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system Service Partnership</a:t>
            </a:r>
            <a:endParaRPr b="0" lang="en-US" sz="2800" spc="-1" strike="noStrike">
              <a:solidFill>
                <a:srgbClr val="0005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4"/>
              </a:rPr>
              <a:t>http://www.fsd.nl/esp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262728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5:03:55Z</dcterms:created>
  <dc:creator>KREBS</dc:creator>
  <dc:description/>
  <dc:language>en-US</dc:language>
  <cp:lastModifiedBy>KREBS</cp:lastModifiedBy>
  <dcterms:modified xsi:type="dcterms:W3CDTF">2013-08-05T15:05:43Z</dcterms:modified>
  <cp:revision>1</cp:revision>
  <dc:subject/>
  <dc:title>PowerPoint Presentation</dc:title>
</cp:coreProperties>
</file>