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A8B8-305E-42E2-8A9D-29AAA1110D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3932-8B34-45A8-9614-829C3FB895E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Welc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rticipants to Module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Expla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valuation is important for correcting missing inform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don’t do so then there is an inherent bias towards exploitative extraction as such extraction is generally assessed in monetary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also be mindful that TEEB is not anti-development; so if the compass is corrected then maybe, in some cases, out-and-out conservation alternatives are not the best cho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n many cases the wrong decisions are being mad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Emphasi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valuation is not just about $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in focus is on $ valuation BUT TEEB is a broad church and also includes evaluation in non-monetary ter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valuation in $ terms is either inappropriate or impossible to carry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luation is tool for self reflection so policy makers can recognize the valu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Highlight</a:t>
            </a: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the learning outco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ffffff"/>
                </a:solidFill>
                <a:uFillTx/>
                <a:latin typeface="Calibri"/>
                <a:ea typeface="Times New Roman"/>
              </a:rPr>
              <a:t>Explain</a:t>
            </a: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how these outcomes can be used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module is about enacting valuation in the field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What we  have as an entry point is ‘the decision in question’, e.g. allow mining concession or retain habitat in its current sta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The module does </a:t>
            </a:r>
            <a:r>
              <a:rPr b="0" i="1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not</a:t>
            </a:r>
            <a:r>
              <a:rPr b="0" lang="en-GB" sz="1000" spc="-1" strike="noStrike">
                <a:solidFill>
                  <a:srgbClr val="ffffff"/>
                </a:solidFill>
                <a:latin typeface="Calibri"/>
                <a:ea typeface="Times New Roman"/>
              </a:rPr>
              <a:t> contribute directly to this entry point, i.e. it does not frame the policy question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Explai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nda of module and timings of each ses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ighligh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time keeping so to keep course on sched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Calibri"/>
              </a:rPr>
              <a:t>Purpose: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the aim of this Icebreaker is to explore attitudes to valuation of the participants and in their spheres of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ynic quote: Should we price nat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at if the price for a wetland is £10k per hectare and the developer is willing to pay this amou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orse still, what if a consultant for the developer cherry-picks a low per hectare value for the wetland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is is why the module discusses pitf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47F1-952A-491C-BB5E-A3912403CE99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Provi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participants with key list of useful resources for module 4 as a handout and highlight some of the most useful references for the training cou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EB at Yale has vide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SEE is the main academic body of relev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SP will be launching a database of valuation estimates and developing expert groups on ecosystem services and 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59AD-C4A1-4A40-A942-480387173A60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0B47-2569-4A50-A05A-CBD7436B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F329-E8DA-444C-A4C9-E379D0C5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A3903-BFA0-4E27-9CEE-DBF147EA0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1F27D-71F4-4859-B8D1-EEA228BC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15E04-2D7A-40DD-97DF-D6FA52F8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D30EC-70DF-40DC-A48B-E545490C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845C0-FE0C-450E-ADED-29592DB0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329BA-D05E-429F-ACE1-649B8D95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B13ED1-6918-4F02-85AA-048DF3EF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AD9D3-4858-4A4F-9A10-EDFB30572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601A9C-C369-49EB-A0FA-EB3F726BD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7C37C-AA58-4605-84B2-325AB5AAE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AC72-365B-4233-971A-937B065E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E2B4D-ACDA-4801-90B1-C21C2F48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25F65-87EF-436B-9C22-6B1E2447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AF6F4-3F59-4C6E-98E5-ED9FE428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DB846-0079-4C1B-93DF-BCC8F619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C1B93-8B80-483D-B38F-B64DCD47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CA191-33E2-4539-A5D2-5F4CFE89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50A4A-01E4-4522-B3CD-0E43121F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61BEFD-5EA7-4EF0-9CA5-FABA8E14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6F392-3E09-4E6A-8643-EF791A01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70412-151D-4F08-A4C1-BF1772F4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5937-6866-4B9E-8B14-83F90078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97A4D-9114-417D-AB50-2F071FF18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5B704-4567-4472-8493-8B672FA8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4D956-937B-433B-8ED2-F127866D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1D877-A9D7-449E-A262-3CFAA47B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79A63-F181-47D5-B282-67B281AF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DCA51A-C240-48AD-BCEB-E601A9DF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D0BA68-A66F-49DE-8DD3-1CA3F02D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746A6A-E250-4480-9E6E-CF0FBB22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74ED4-7275-4E82-8078-2CB17498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F54B9-DA79-4E06-BFF0-215AFDED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CEF05-F048-41C4-BDB6-369C946F9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DA599-ADCF-4600-884A-29E9CED1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536D8B-E637-4086-93F7-93876DCA4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9FD911-8397-41EE-B3DC-A0BBDECCE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A3825-0025-4044-880F-8487DFE5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CFA1B-52E1-4ACB-AF55-2644EF63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545D5-3C18-4A9D-B498-E6A9774D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7DFB1-BD9F-410D-8F13-4FDDDE82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CD4561-4A04-4FE5-8B0C-112582D0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8131DD-9E96-48C7-A56F-2EDC6768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ACB5C-D3A2-4A90-91BA-4978D775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B77B-3039-4F2C-AB4E-AFC335643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EEA83-2265-41D8-8D77-F0C50B61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CBB1B-55CF-48E3-BC8D-8A1DF0C4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FCA8D2-FB3D-40CD-9C9E-9CF79130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BB9D5-5E27-4C36-8E09-E1E14019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3F4D52-790C-4E42-B4E0-A0DAF674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B6D663-8FA5-4FEB-804E-1E710B5AC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0D548C-40F2-4FB3-A6B5-74535596C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387088-F2BD-4C09-BB2A-16BF53E5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E0FE14-CC74-4C9C-B759-92094ECD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1B2D3-1DDE-4A9C-90CC-004FB7D0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8E4F-4B4E-471D-8D0A-76E9DA12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CCC9D-D24A-411B-B9AA-1C8FCF58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D5AFE-AD5E-4EEF-97E8-94F2D645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CDEF1-4C2D-488B-A7A2-D3F8F8F0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9563E-C532-44B0-9B0F-1911A8DA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18C7E5-B67B-4D1B-A0E7-3ED609CD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374581-E3E5-446A-B37A-D343D556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EFEF25-7ADE-4FB3-9628-59FD2CC1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D041-7841-4681-BCF7-03022F5C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D1DB-170A-4C27-B414-D34BD8A9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59EF-3D16-4A8D-920D-18AFD9C6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F03A-4959-4145-ABF7-C2E78BDE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D702-D10A-49EF-B63A-35490DAF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2BA1-B4E8-4428-A825-80E0DA96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70BA5-8FA3-4C46-8277-96440EB0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639A-CF81-4EB4-A941-C2B30473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166B-342C-4F33-A3FE-332B83ED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8242-EFC1-44D2-AACE-AC10A041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F1935-C786-4AA3-A910-9DDC1D0B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5873C-8FFB-40AA-ABD8-FE6A9CA0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8D3E1-B459-4B1D-B9CF-D0457864A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59846-90B8-49DB-BE30-33D292F0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2F448-7E9B-40B4-AC28-24200563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DA2B-B0A0-449B-BDFB-4ADF7CA3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3FAAD-C5AE-41D8-86E9-6CF37783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42914-48DC-46D6-B828-D0554694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E601C-8DEC-4BF3-B306-5984C7DA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2D835-F77F-4843-B1FC-C031453B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C75EB-1395-42A6-89A2-3299D7CC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57A5A-A553-4559-91C5-40D91D4F1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D194E-2047-4CD3-8476-ED635C3D5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62010-BD5F-43DF-8A67-774E1466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ED6D7-64F0-48F6-9CF9-417DE2C1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460F0-612C-48DF-BD3A-6B08D7A2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B665-1745-4CE5-AA41-4D192600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8F261-8FD6-4574-AF79-B99171C0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4BF8A-001D-4991-93D1-9DB333FB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7626C-4CA2-45F5-821E-83B7BABD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98BAF-6CF9-477C-A821-AD20FA52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F8EFA-D9DE-43D3-8C30-3A0D2812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077C0-5E6D-41AE-A5EF-398B36CB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FB7B7-EA29-4E6F-AF36-AEFA948C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51C73-58D5-4502-834A-2C99AEBF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B02AC-77FF-4544-85B9-1C4EA145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3BA09-91DF-4967-A985-569EBED8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2178-E343-48E3-A57D-C64F6BC6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21543-3F02-401E-87C3-492A98D40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A732E-08FF-47B1-A35F-023074FA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40162-A599-48D3-8252-AEEBF4AA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DBCCC-0973-46BA-9141-663ECF56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B8F41-25B3-4AE7-9854-3F64F941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0E660-AF8E-47B5-B3AB-DFA750EF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34706-B643-489F-8C0E-857DE369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7B320-5A02-4C57-BD93-8910336D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99286-A722-4C30-9853-FD924527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BE332-4820-41C8-92E6-DAFB2729C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2E5F-E1A0-468A-849F-27F7A4FF0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9CEB9-7164-49AC-A76E-116F2685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0F9D5-E306-4E18-A3E7-948EA4330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7228E-AAE1-4B92-9E2F-A1652199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A0EB9-B306-42A5-85A2-18583515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DE0BB-BD6B-40C1-BAA2-076FEAE7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BBB72-69ED-4736-BB4F-015BF0B7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C3AAA-89F5-46E7-82D6-8A100905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1BEE9-9F30-4438-B90F-47E76EFB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E6D52-01DF-4B40-9AAA-50F027AB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F68D1-DEDB-4DDA-93BA-4470942B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F0D8-D4C7-492B-95DA-F5D8DAA5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4FB14-C52F-4666-B516-65D82BFA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B2E21-040A-4A3A-BB95-15DCFEB0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143FB-30ED-48C7-B282-843B64FE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79E27-9AED-4AA7-AABB-86926F4A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5EBD6-76A6-424A-803F-B614EE90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FFB05-5987-4A72-BD28-02B62AB7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C451C-9BE6-452A-B198-B6571E89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9A582-9657-43A6-A1EA-71DC6AD9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5E0A3-7C7A-4FAD-8DBE-2895C72D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FD052-B16F-4271-84E3-5F5E5B08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1B91-BC26-40E5-87C7-252646EC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B402E-E20D-4C19-9312-49E76367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3F781-71D1-4902-8FE2-E4F461AF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A9DFE-8405-4A59-8B79-D84DD237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FAF9B-C068-4C46-8A0D-A1152A93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1D286-3E32-40A1-AF9C-583BB924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4D460-23CD-45F2-A3E4-93C2630C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B8174-F1F3-4EC1-9910-F5A29E8B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054752-9664-4765-A64F-FE992E28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633A7-3B31-43C7-8C36-BA492FF32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34EBD-DEE0-4538-88D1-0398179D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AF7E-DF84-4FC6-B4EF-011187FD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57646-F0C3-408B-AE65-D167FF9A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5A5D3-13FF-498B-8A86-44BEF072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90D3C-2F54-480B-B652-F8CB42B9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9EAF5-0ABD-4DE6-B6D7-AEF5586E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DF694-F093-4416-9E5B-FA55F8AE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60D02-9070-4C4F-96EF-20CB6532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3CBF6-1427-41BA-BD30-31B97A9F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76B42-AF34-4A83-997F-E0391EA1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ED4B7-D407-4E54-AA28-162A2E88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B923A-0D67-4C3E-8CAB-4DFEFC62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4825-C69C-401A-8679-40AFE71F6F8E}" type="slidenum">
              <a:rPr b="0" lang="en-US" sz="1400" spc="-1" strike="noStrike">
                <a:solidFill>
                  <a:srgbClr val="000532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AD57-36FF-4F9F-BE0B-D9358384D344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B71A6-80CF-4A5D-8863-A8D4237C42EE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6C6D-55CF-4BA7-A409-093D5F3D5D28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B278-04D8-4992-83E0-90EB62B2443D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0A56-6C6D-49F1-B5C4-B347DFFA3E66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7EF4-0419-43EB-AF4F-50B330FD060F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DAEC-4C1A-4BFC-AA81-24B861761FB6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353E-9246-4EF1-85D7-FA96F22F62C2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ADB5-6C2C-42C1-9CF2-4835984F254F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834D9-FE81-41E0-8A6A-1C25DC0F431B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478A-7A16-44E3-9043-CBA0A60D71C9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vironment.yale.edu/TEEB" TargetMode="External"/><Relationship Id="rId2" Type="http://schemas.openxmlformats.org/officeDocument/2006/relationships/hyperlink" Target="http://www.isecoeco.org/" TargetMode="External"/><Relationship Id="rId3" Type="http://schemas.openxmlformats.org/officeDocument/2006/relationships/hyperlink" Target="http://www.ecoservices.asu.edu/ecoservicesproject/people.html" TargetMode="External"/><Relationship Id="rId4" Type="http://schemas.openxmlformats.org/officeDocument/2006/relationships/hyperlink" Target="http://www.fsd.nl/esp" TargetMode="External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1"/>
          <p:cNvSpPr/>
          <p:nvPr/>
        </p:nvSpPr>
        <p:spPr>
          <a:xfrm>
            <a:off x="-181080" y="-179280"/>
            <a:ext cx="9649080" cy="7208640"/>
          </a:xfrm>
          <a:prstGeom prst="rect">
            <a:avLst/>
          </a:prstGeom>
          <a:solidFill>
            <a:srgbClr val="3233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TextBox 2"/>
          <p:cNvSpPr/>
          <p:nvPr/>
        </p:nvSpPr>
        <p:spPr>
          <a:xfrm>
            <a:off x="1476360" y="4797360"/>
            <a:ext cx="626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cc00"/>
                </a:solidFill>
                <a:latin typeface="Arial"/>
                <a:ea typeface="SimSun"/>
              </a:rPr>
              <a:t>Module 4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cc00"/>
                </a:solidFill>
                <a:latin typeface="Arial"/>
                <a:ea typeface="SimSun"/>
              </a:rPr>
              <a:t>Valuation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Box 2"/>
          <p:cNvSpPr/>
          <p:nvPr/>
        </p:nvSpPr>
        <p:spPr>
          <a:xfrm>
            <a:off x="1547640" y="620640"/>
            <a:ext cx="62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cc00"/>
                </a:solidFill>
                <a:latin typeface="Arial"/>
                <a:ea typeface="SimSun"/>
              </a:rPr>
              <a:t>TEEB Training for National Level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6" descr="logo TEEB transparent print"/>
          <p:cNvPicPr/>
          <p:nvPr/>
        </p:nvPicPr>
        <p:blipFill>
          <a:blip r:embed="rId1"/>
          <a:stretch/>
        </p:blipFill>
        <p:spPr>
          <a:xfrm>
            <a:off x="3348000" y="1700280"/>
            <a:ext cx="2691000" cy="273672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7"/>
          <p:cNvSpPr/>
          <p:nvPr/>
        </p:nvSpPr>
        <p:spPr>
          <a:xfrm>
            <a:off x="2627280" y="6613560"/>
            <a:ext cx="36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©TEEB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81864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23366"/>
                </a:solidFill>
                <a:latin typeface="Arial"/>
              </a:rPr>
              <a:t>Why is Valuation important?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7200" y="1719360"/>
            <a:ext cx="822960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faulty compass” </a:t>
            </a:r>
            <a:endParaRPr b="0" lang="en-US" sz="2600" spc="-1" strike="noStrike">
              <a:solidFill>
                <a:srgbClr val="00053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valuation of extractive (non-conservation) alternatives is routine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itting values can lead to outcomes: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reduces societal wellbeing </a:t>
            </a:r>
            <a:endParaRPr b="0" lang="en-US" sz="2200" spc="-1" strike="noStrike">
              <a:solidFill>
                <a:srgbClr val="000532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disproportionately affects the poo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if the compass is corrected….</a:t>
            </a:r>
            <a:endParaRPr b="0" lang="en-US" sz="26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6" name="Text Box 5"/>
          <p:cNvSpPr/>
          <p:nvPr/>
        </p:nvSpPr>
        <p:spPr>
          <a:xfrm>
            <a:off x="2627280" y="6613560"/>
            <a:ext cx="36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©TEEB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366"/>
                </a:solidFill>
                <a:latin typeface="Arial"/>
              </a:rPr>
              <a:t>Module Goal</a:t>
            </a:r>
            <a:endParaRPr b="0" lang="en-US" sz="40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7632720" cy="2521080"/>
          </a:xfrm>
          <a:prstGeom prst="rect">
            <a:avLst/>
          </a:prstGeom>
          <a:solidFill>
            <a:srgbClr val="66ccff">
              <a:alpha val="3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have an understanding of how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ue chan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state of ecosystems and the limitations of these valuation methodologies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2627280" y="6613560"/>
            <a:ext cx="36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©TEEB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23366"/>
                </a:solidFill>
                <a:latin typeface="Arial"/>
              </a:rPr>
              <a:t>Learning Outcomes</a:t>
            </a:r>
            <a:endParaRPr b="0" lang="en-US" sz="36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854360"/>
            <a:ext cx="822960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egoris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s of ecosystem service values within a decision-making context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keholders that are affected by changes in ecosystem services brought about by the decision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ppropriate method(s) to measure these values and who can undertake valuation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y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rai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isting estimates of these values and what adjustments are needed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gni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imitations of valuation and barriers to acceptance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2627280" y="6613560"/>
            <a:ext cx="36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©TEEB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360" y="81864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23366"/>
                </a:solidFill>
                <a:latin typeface="Arial"/>
              </a:rPr>
              <a:t>Module Agenda</a:t>
            </a:r>
            <a:endParaRPr b="0" lang="en-US" sz="36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7200" y="1854360"/>
            <a:ext cx="822960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468360" y="1747800"/>
          <a:ext cx="7923240" cy="4389480"/>
        </p:xfrm>
        <a:graphic>
          <a:graphicData uri="http://schemas.openxmlformats.org/drawingml/2006/table">
            <a:tbl>
              <a:tblPr/>
              <a:tblGrid>
                <a:gridCol w="1811160"/>
                <a:gridCol w="6112080"/>
              </a:tblGrid>
              <a:tr h="274680"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Duration (min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468a4b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001932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Sess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001932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roduction and Icebreak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ession 1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: Analysing value: context and fundamen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Group Exerci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ffee Brea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ession 2: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Valuation methods that use primary da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Group Exercise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un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ession 3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enefits Transfer: ‘borrowing’ values from extant studi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Knowledge check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ession 4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: Criticisms of valua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2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Group Exercis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468a4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ummary and Quest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468a4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6" name="Text Box 50"/>
          <p:cNvSpPr/>
          <p:nvPr/>
        </p:nvSpPr>
        <p:spPr>
          <a:xfrm>
            <a:off x="2627280" y="6613560"/>
            <a:ext cx="36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©TEEB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81864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23366"/>
                </a:solidFill>
                <a:latin typeface="Arial"/>
              </a:rPr>
              <a:t>Icebreaker</a:t>
            </a:r>
            <a:endParaRPr b="0" lang="en-US" sz="36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231840" y="1854360"/>
            <a:ext cx="50148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ynic is a man who knows the price of everything and the value of nothing” [Oscar Wilde]</a:t>
            </a:r>
            <a:endParaRPr b="0" lang="en-US" sz="26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minant is valuation in your sphere of experience?</a:t>
            </a:r>
            <a:endParaRPr b="0" lang="en-US" sz="26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valuation something positive or a pill that needs to be swallowed?</a:t>
            </a:r>
            <a:endParaRPr b="0" lang="en-US" sz="26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e use of ‘ecosystem services’ just a new fad?</a:t>
            </a:r>
            <a:endParaRPr b="0" lang="en-US" sz="26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532"/>
              </a:solidFill>
              <a:latin typeface="Arial"/>
            </a:endParaRPr>
          </a:p>
        </p:txBody>
      </p:sp>
      <p:pic>
        <p:nvPicPr>
          <p:cNvPr id="599" name="Picture 6" descr=""/>
          <p:cNvPicPr/>
          <p:nvPr/>
        </p:nvPicPr>
        <p:blipFill>
          <a:blip r:embed="rId1"/>
          <a:stretch/>
        </p:blipFill>
        <p:spPr>
          <a:xfrm>
            <a:off x="5246640" y="2484360"/>
            <a:ext cx="3800520" cy="256536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7"/>
          <p:cNvSpPr/>
          <p:nvPr/>
        </p:nvSpPr>
        <p:spPr>
          <a:xfrm>
            <a:off x="7093080" y="4941720"/>
            <a:ext cx="80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SimSun"/>
              </a:rPr>
              <a:t>©123rf.com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7"/>
          <p:cNvSpPr/>
          <p:nvPr/>
        </p:nvSpPr>
        <p:spPr>
          <a:xfrm>
            <a:off x="2627280" y="6613560"/>
            <a:ext cx="36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©TEEB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23366"/>
                </a:solidFill>
                <a:latin typeface="Arial"/>
              </a:rPr>
              <a:t>Key Resources for Module</a:t>
            </a:r>
            <a:endParaRPr b="0" lang="en-US" sz="36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3960" y="1762200"/>
            <a:ext cx="822960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EB @ Yale</a:t>
            </a:r>
            <a:endParaRPr b="0" lang="en-US" sz="2800" spc="-1" strike="noStrike">
              <a:solidFill>
                <a:srgbClr val="0005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1"/>
              </a:rPr>
              <a:t>http://environment.yale.edu/TEEB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national Society for Ecological Economics (ISEE)</a:t>
            </a:r>
            <a:endParaRPr b="0" lang="en-US" sz="2800" spc="-1" strike="noStrike">
              <a:solidFill>
                <a:srgbClr val="0005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2"/>
              </a:rPr>
              <a:t>http://www.isecoeco.org/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Services group at Arizona State University</a:t>
            </a:r>
            <a:endParaRPr b="0" lang="en-US" sz="2800" spc="-1" strike="noStrike">
              <a:solidFill>
                <a:srgbClr val="0005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3"/>
              </a:rPr>
              <a:t>http://www.ecoservices.asu.edu/ecoservicesproject/people.html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system Service Partnership</a:t>
            </a:r>
            <a:endParaRPr b="0" lang="en-US" sz="2800" spc="-1" strike="noStrike">
              <a:solidFill>
                <a:srgbClr val="000532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4"/>
              </a:rPr>
              <a:t>http://www.fsd.nl/esp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2627280" y="6613560"/>
            <a:ext cx="36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©TEEB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5:03:55Z</dcterms:created>
  <dc:creator>KREBS</dc:creator>
  <dc:description/>
  <dc:language>en-US</dc:language>
  <cp:lastModifiedBy>KREBS</cp:lastModifiedBy>
  <dcterms:modified xsi:type="dcterms:W3CDTF">2013-08-05T15:05:43Z</dcterms:modified>
  <cp:revision>1</cp:revision>
  <dc:subject/>
  <dc:title>PowerPoint Presentation</dc:title>
</cp:coreProperties>
</file>