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9CC2-E37F-44C1-BFAD-190B0352C52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51FF-4BCB-408D-ABCB-D5A0D608DD1D}"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7560"/>
          </a:xfrm>
          <a:prstGeom prst="rect">
            <a:avLst/>
          </a:prstGeom>
          <a:ln w="0">
            <a:noFill/>
          </a:ln>
        </p:spPr>
      </p:sp>
      <p:sp>
        <p:nvSpPr>
          <p:cNvPr id="609"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F4FB-230D-4184-A5D6-F045A0D8CD30}" type="slidenum">
              <a:rPr b="0" lang="it-IT" sz="1200" spc="-1" strike="noStrike">
                <a:solidFill>
                  <a:srgbClr val="000000"/>
                </a:solidFill>
                <a:latin typeface="Calibri"/>
                <a:ea typeface="SimSun"/>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are a number of motivations for decision-makers to undertake valu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markets – e.g. leisure and recreation in a forest. If no entrance fee then no value in market per se – but still affects our well-being so economically releva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pollution – what is best for the profit-maximizing  private firm/agent/individual is unlikely to be what is best for societ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programs – costly to exchequer, also opportunity cost (foregone income from say conversion to agricultural land); need to justify policy actions especially in light of recession/tight funding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RA – to get data on resource use in a systemic form to track changes over time in stocks and flows of natural resour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key concepts underlying economic approaches to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i="1" lang="en-GB" sz="1200" spc="-1" strike="noStrike" u="sng">
                <a:solidFill>
                  <a:srgbClr val="000000"/>
                </a:solidFill>
                <a:uFillTx/>
                <a:latin typeface="Calibri"/>
              </a:rPr>
              <a:t> </a:t>
            </a:r>
            <a:r>
              <a:rPr b="0" lang="en-GB" sz="1200" spc="-1" strike="noStrike">
                <a:solidFill>
                  <a:srgbClr val="000000"/>
                </a:solidFill>
                <a:latin typeface="Calibri"/>
              </a:rPr>
              <a:t>that what we value is the marginal change in ecosystem service provision relative to a counterfactual (without policy or management) scenario or tren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minus without – similar to concept of ‘additionality’. But add the notion that if the baseline has some service provision decreasing then benefits of a policy are anything better than this decli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nk to TEEB typology of services – we are valuing what nature does, i.e. its benefits to people.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nk of a dam building project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provision of CO2 sequestration have gone up or down without the project?</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vailability and quality of freshwater gone up or down without the project?</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the project, what will happen to CO2 sequestration or water quality/availabilit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BEE3-826C-4868-9E0A-21FE21EB890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marginal changes we are valuing must be bounded in terms of scale and sc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at consideration of scale and scope ties in the effect of policy change with the population that benefits and thus values that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need not completely align, particularly where multiple ecosystem services are being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cy at a catchment level may produce local, regional and global benefits – these need to be considered. And, are there distributional issues and trade-offs across these beneficiaries?</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14CD-C58C-46BD-9916-7002101E437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valuation is most frequently carried out within the conceptual framework of Total Economic Value as introduced in Module 3. Here we will consider it in greater detail and how it might be applied in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a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ypology that economists have us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a typology of this kind is that if we do not categorise all the types of benefits that nature and ecosystems provide then we end up systematically under-estimating value (if we omit some categ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 can conceive of Total Economic Value as consisting of a number of elements relating to both our use of ecosystem services either directly or indirectly, and importantly also the potential benefits from non-use of the resour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1" lang="en-US" sz="1200" spc="-1" strike="noStrike">
                <a:solidFill>
                  <a:srgbClr val="000000"/>
                </a:solidFill>
                <a:latin typeface="Calibri"/>
              </a:rPr>
              <a:t> </a:t>
            </a:r>
            <a:r>
              <a:rPr b="0" lang="en-US" sz="1200" spc="-1" strike="noStrike">
                <a:solidFill>
                  <a:srgbClr val="000000"/>
                </a:solidFill>
                <a:latin typeface="Calibri"/>
              </a:rPr>
              <a:t>that TEV is considered from a purely human perspective. Whilst we might value the existence of say a habitat or species we cannot know its own intrinsic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slide </a:t>
            </a:r>
            <a:r>
              <a:rPr b="1" lang="en-GB" sz="1200" spc="-1" strike="noStrike" u="sng">
                <a:solidFill>
                  <a:srgbClr val="000000"/>
                </a:solidFill>
                <a:uFillTx/>
                <a:latin typeface="Calibri"/>
              </a:rPr>
              <a:t>outline </a:t>
            </a:r>
            <a:r>
              <a:rPr b="0" lang="en-GB" sz="1200" spc="-1" strike="noStrike">
                <a:solidFill>
                  <a:srgbClr val="000000"/>
                </a:solidFill>
                <a:latin typeface="Calibri"/>
              </a:rPr>
              <a:t> the different elements of T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use values are considered to be either direct or indirect. Direct use values include both consumptive uses such as food and raw materials and non-consumptive uses such as recreation, cultural heritage and well-being. This distinction is clear in that consumptive uses either permanently deplete non-renewable resources or temporarily prevent others from consuming renewable resources. Non-consumptive uses do not deplete the resource, but may temporarily prevent others from enjoying it, for example through crowding at recreational s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rect use values relate to the benefits we receive from regulating ecosystem services, for example pest control, pollination, water regulation and purification, and climate reg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option values relate to the potential future availability of ecosystem services, as such although we are not currently using those services they are often categorised as being linked to use values rather than non-u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non-use values can be considered as either philanthropic towards other people or altruistic towards na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quest values arise from knowing that future generations will have access to a particular natural resource, whilst altruistic value is the satisfaction of knowing that others in the current generation will have access to a resource. These types of value can therefore be used to consider issues of intergenerational and intragenerational equity. There is also an important distinction here with option value. Option value relates to the potential use of the resource by the person(s) expressing the value, bequest and altruistic values relate to potential use by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istence value is the satisfaction from knowing a species, ecosystem or resource ex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whilst we can conceive of these types of value, in reality when undertaking valuation these may be inseparable motivations for value rather than individually identifiable elements of value. That is we may be unable to observe or elicit a value for either purely use or non-use elements of TEV. </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4857-5F6B-4E30-9625-216AF737FD6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table illustrates the main links between the elements of TEV and different types of ecosystem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different categories of ecosystem service can provide different and multiple types of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sioning services are most clearly related to consumptive direct use values. Concerns for sustainability and resilience of resource use may also motivate option value and non-u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ulating services are most closely linked to indirect use values and to a lesser extent option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services are related to non-consumptive direct use values, but we might also hold option and non-use values for some types of cultural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bitat and supporting services underpin other ecosystem services and to avoid double counting are not separately valued.</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FB10-302C-4AC4-9DC5-4DB2694CFF9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rganise</a:t>
            </a:r>
            <a:r>
              <a:rPr b="0" lang="en-GB" sz="1200" spc="-1" strike="noStrike">
                <a:solidFill>
                  <a:srgbClr val="000000"/>
                </a:solidFill>
                <a:latin typeface="Calibri"/>
              </a:rPr>
              <a:t> the participants into pairs and </a:t>
            </a:r>
            <a:r>
              <a:rPr b="1" lang="en-GB" sz="1200" spc="-1" strike="noStrike" u="sng">
                <a:solidFill>
                  <a:srgbClr val="000000"/>
                </a:solidFill>
                <a:uFillTx/>
                <a:latin typeface="Calibri"/>
              </a:rPr>
              <a:t>ask</a:t>
            </a:r>
            <a:r>
              <a:rPr b="0" lang="en-GB" sz="1200" spc="-1" strike="noStrike">
                <a:solidFill>
                  <a:srgbClr val="000000"/>
                </a:solidFill>
                <a:latin typeface="Calibri"/>
              </a:rPr>
              <a:t> them to undertake the listed tasks:</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the key ecosystems in your country and list the main ecosystem services they provide</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 the elements of TEV associated with those ecosystem services</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nformation on the value of those ecosystem services do you think is available?</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major gaps in this valu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Ask</a:t>
            </a:r>
            <a:r>
              <a:rPr b="0" lang="en-GB" sz="1200" spc="-1" strike="noStrike">
                <a:solidFill>
                  <a:srgbClr val="000000"/>
                </a:solidFill>
                <a:latin typeface="Calibri"/>
              </a:rPr>
              <a:t> each group to report on their findings and </a:t>
            </a:r>
            <a:r>
              <a:rPr b="1" lang="en-GB" sz="1200" spc="-1" strike="noStrike" u="sng">
                <a:solidFill>
                  <a:srgbClr val="000000"/>
                </a:solidFill>
                <a:uFillTx/>
                <a:latin typeface="Calibri"/>
              </a:rPr>
              <a:t>write </a:t>
            </a:r>
            <a:r>
              <a:rPr b="0" lang="en-GB" sz="1200" spc="-1" strike="noStrike">
                <a:solidFill>
                  <a:srgbClr val="000000"/>
                </a:solidFill>
                <a:latin typeface="Calibri"/>
              </a:rPr>
              <a:t>these up on the whiteboard/flip-chart</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E16A-C504-4D75-A368-5E3E7788E20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0B0D9-A23A-4969-A28F-320BDAC74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7F21-A5EB-4197-BBA2-71A1A973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F83EE-027C-4CE3-AE15-085C2B069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1A942-B4F1-43E5-85E1-00F131F267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26DC38-0656-433F-9698-C08A46900E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B9B57-6A21-4AF6-84C0-D126E0297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2AB64-A2ED-4047-ABD3-931AA02C9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4ECFE-DD9E-40A2-A9D0-D70D3EC65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452C10-A09E-42A0-8945-52C00EBDC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607DDB-1641-4124-BAA6-A133AEBD1A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E6B94E-5BEE-447E-9267-AF5F3A780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0F1211-448A-4C36-A888-6D4F4B2D85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2FBC1-733E-461B-BB33-A2954E676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A16744-08B4-4993-88EB-9679CD4233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EB28F3-F0FD-4398-B60F-A565030480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D6373F-D46F-4020-A719-BBDCBE4719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D361E-3955-4D12-B429-B2CA7A41F8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D3F15A-AB88-4CD7-91F6-34F14D163D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2F1164-96D6-401D-8D40-2889CC0BE4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414303-BF96-4F6E-87EC-3DBD30DCEF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30BDC-45B0-4440-8FF7-97A4871D5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DC5621-C7CC-4C8C-A595-4322F3B689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366FFD-8C86-499A-A0BA-E1AD824A7F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1C01A-9103-40D7-A44F-5FF76920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9603AE-BF5C-45FC-85F9-1A9D0E8658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AD4A88-3A50-4BDA-A4EE-E5A6B1A5BA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119451-5F0D-46A9-B282-7EBA89B132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D930B2-C5F5-4029-9629-A507CB419A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6D4162-9149-4208-AE1E-E2F235E7F5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3A990-70FA-4DB3-A1B2-A5D9E64142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1388C-55FB-471E-A52B-78A943409F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80EBD3-F07D-46E7-AFF5-91D3AD15CF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EBB590-7D67-4A3E-BA68-C58AE5797F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C4A909-3E59-4809-9596-1C025D5934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E006E-A9E8-445A-98B5-914DE89E0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7469F-2FD6-4C44-B94E-4C9ACEDAF4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5043A9-E208-47FC-BC29-2889E145A4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7F7324-9462-43E8-8A70-1DA14EAE7B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737422-C44C-4335-881D-E4A2CCE37D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CBD867-858B-4069-8854-62E79562BA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E79FA8-CFAB-443D-96B6-C732B0B2C2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276CAF-1F9A-4509-8F7A-D72CA38601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5E6863-62A0-46F6-AB51-D99E8FB13A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47CCD0-B29A-4033-9C33-B9EA7ED653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FCA973-53F7-43B4-B646-379EFF5BB5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B9C48-EDD2-42A2-A8F6-FFAA15125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5DB71-DE98-43E0-B248-BEF96B9678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F533B0-1253-4902-8171-104CE86CBE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3522A7-41AC-45BE-B8FC-9E11DC72D8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B563BE-6A8B-4BBE-87EB-FB3531D337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1CEA28-59F3-49B1-9599-97983B5945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4E8EAE-C936-4315-A397-9A97B6FB4F9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3034F5-64CA-4A03-9512-BBA445F9D3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3AB0EB-2E42-405B-9624-8D1240F85F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493854-8D4C-4B2C-B43C-940AB11B2B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B07E59-345B-4B1C-AD01-63E57DD13E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6D370-6FB2-40D9-A5C0-99CE3E08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BA1DBF-4398-4574-9763-8A0AD7EFCB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B152F0-421C-4DA5-910F-BA0E2D8A12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FB9CF2-CFB5-43C1-B75C-04669AB877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024C75-ACB5-4129-8263-5660B98778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399816-3648-41B8-A901-CFCFB44E13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CC04CA-262F-4DEC-BA16-E14CC9E8E1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7D3B64-9C8B-4519-A6ED-7587E45A82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26DEA-57B9-4CBE-9BC8-13A794D5B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71CC4-3ABF-44E8-B359-3B30155D7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7C9C9-F213-4689-9E66-604E2ED9E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5BA0-DB3F-4C37-8D07-B455484A0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6160-CA54-4905-83D1-DCB2FD5A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1D594-3441-47FB-9E93-EDF58B6A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7E0C-B38C-4914-8B02-93C7931D2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0475-0326-4A04-9DE9-66266ED04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66A3B-2095-4634-8BC7-1D340E77F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9F6C3-32FA-407E-B1D2-FBE2F2330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310DC-EFC6-43CA-996F-A2C09351A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161A8-F90B-4BB5-99A8-A04AF8EF8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21F31-AFC3-46DD-805E-3C0143D85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AEAB3-F082-4547-83AC-F6D7D4975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318DA-3C5D-457E-988D-0AFE041A6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FCDB-9452-43A1-89D5-7331090A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3988F-9E9A-41A2-9231-6FBB69AB5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3A7D1-1528-4716-9FFB-5682DDD57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B0613-E425-4512-B9D6-27DBDEDC4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D549F-A94F-401B-BF0C-E23CFCA93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7A002-DC29-4BCE-BAC2-F877D544D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5476BA-CB06-4A83-8E0E-0D94C18C0C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6B73EF-D610-4C50-AD37-9A55FBD3EF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4D776-A790-4398-A6FA-CA1D756290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DA253-CCAF-47DB-B23E-D8D4BB6F4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F50CA-9143-462A-95F7-70C49A48E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BE6EC-C670-4825-8D53-35E10DCDE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7A0F3-4D51-4643-986E-810F30989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F8E0F-BDFD-43B3-B01A-E83F9CD34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DE49A-2515-4F5E-8599-94C643045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2E22B-4E03-4666-8DEA-AC756B5E9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EEA42-88F6-4920-A11D-8C969C3A5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CF145-0BB9-4C72-90D5-B4FEE826E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81C52-A49B-4F33-9871-295C29CEC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97FC5-B329-4CE2-AEBC-865B42AF2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9BEA9-D16F-4DA8-B480-38AF50330D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FC228E-4ACB-4652-82F0-3250DBCEA0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F899E-79C7-445E-938C-5B1FD9B1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AD74C-6AF4-40F7-AC9F-59971DBE3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FEE11-26E2-44FE-A25B-4306D7AC7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5A8BD-A57F-4B96-BCEF-E9C5FDEB4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2F155-C70C-4986-AB29-09A540454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714BE-67B5-40E0-9171-6A1412766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47193-5278-42C4-8C01-E2BA3C7F8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74F37-6DE8-4A67-A84F-409B04FD0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8EC88-CDBE-4702-89BA-3BCF20FEF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45B2B-FDE8-4C2E-BCB7-4944D6D2C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DD479C-02B5-4C4A-A392-B82A068120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36B80-7437-4840-866D-F4A28DFD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DF1B3-DE11-45F7-AAD9-D8C6361D7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203B72-5A35-4D16-9EB1-73D13C243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8A6CD-A8AB-441D-806E-B499D5F99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87F56-B3CE-460A-89AA-93F3CDF6BC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A9ED92-D065-4B3F-9671-203DF041C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6F51E-5E2A-421B-BAC7-AA9A24B34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A95C4-16D3-497A-92F7-1DA927D6B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4AD9D-5213-4628-822C-7D08D9B8C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E5F4E-9F42-42F8-AFFA-F2F74DCC1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9904D-C2FC-441F-8421-CC7FF55C0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5155-0C74-47A7-8E46-718B00EE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B975F-AD6D-4E12-BC3A-17760F0E6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C1592-27EA-47AF-86CD-0D5A93313C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2550F-6A56-45DB-950D-B18E8C8CF3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46428-4520-4328-968B-B814248288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CEA556-DF8C-4137-996D-72E79F87E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25B68-5660-4669-A84F-6440A5E2E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28AAA-C56B-47EF-8E3A-E3A7EDFAC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EBE84-CF97-4216-83B1-86DDBC1718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A9B3AB-6ACD-4F79-9DB3-F899B48BFC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4B33C-D129-48D7-952C-8C21A8C47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E88F9-B05A-4462-9BED-CAA348563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3449D-4681-43E6-A2F1-5196B4B18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4A72C-B3D0-4F78-874A-75DD9A58E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8F8EF-3E5B-495D-ABD0-AE735B763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9CB373-BD51-42D6-B94F-2950E43C4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B09E8-A7D2-4168-A316-0761BA9B1C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000193-CCC9-40CA-B6D6-4B57C15B51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1BF6C6-9094-4E08-9858-752B37EC33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742D36-3717-4367-AD05-FEEB920F9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D35EA-4D6B-484C-B913-0C6735C4D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BA9D2-6B4C-4EA0-BAEB-F148E1EE5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86C5-4713-4DD2-98D7-07338BDF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A0A91-FA22-40F4-93D9-78325C7877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C621D-71D1-4166-BFDE-69013EAA0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31134-59C7-4CD7-9426-E659F1A56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018F7F-1BF4-4085-BA10-F648D74E8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382DA0-AF3D-4AA4-A3B9-7DE79BD73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AC2C4-2764-4700-AF5D-3260F20177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491468-2583-4178-9AD3-7A87AE35D3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B17D68-40EC-474F-90F7-EE56D1652D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2D1A57-5ED5-47D4-8EE6-C8E927520F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8E894-ED99-4260-89B6-741D90F314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1696-B292-4472-B3CC-C4AC4A634518}"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FAD1-BE6A-4565-8BCE-4055449F963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CDF1-8AE2-4FEB-AB82-C862CB321E7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E5ED-F900-454A-B80E-3A900B7C9429}"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EEAB-14FB-4F00-8B74-04EE270D2DE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DFAD-CBE9-4F6D-91FB-806E626613FC}"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E404-2D12-4D08-8611-A4A9DA37EC27}"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AF22-D312-4FD8-A43D-4E9EF632D14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4528-25FC-4381-953E-72AAFE6F37A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0070-F4C3-4BAE-9CDF-351DAF49B9B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C8BD-621C-4943-8DCB-D5C1F3E25DEF}"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2734-E2D6-4623-BD29-3918A0D5AD75}"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44360" y="-179280"/>
            <a:ext cx="964872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743360"/>
            <a:ext cx="4824720" cy="22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Analysing value</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
        <p:nvSpPr>
          <p:cNvPr id="582"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2360" y="1898280"/>
            <a:ext cx="8229600" cy="42721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Missing and imperfect markets </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 quality and the extent of natural spaces affects our well-being</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se benefits are often not marketed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Market failures </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Does the market provide the ‘right’ level of pollution?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If  not should be value the pollution damage caused?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o ask policy questions</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Should we support conservation programs?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Natural resource accounting</a:t>
            </a:r>
            <a:endParaRPr b="0" lang="en-US" sz="2400" spc="-1" strike="noStrike">
              <a:solidFill>
                <a:srgbClr val="000532"/>
              </a:solidFill>
              <a:latin typeface="Arial"/>
            </a:endParaRPr>
          </a:p>
        </p:txBody>
      </p:sp>
      <p:sp>
        <p:nvSpPr>
          <p:cNvPr id="584" name="Rectangle 3"/>
          <p:cNvSpPr/>
          <p:nvPr/>
        </p:nvSpPr>
        <p:spPr>
          <a:xfrm>
            <a:off x="254160" y="2124000"/>
            <a:ext cx="8743680" cy="442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Text Box 5"/>
          <p:cNvSpPr/>
          <p:nvPr/>
        </p:nvSpPr>
        <p:spPr>
          <a:xfrm>
            <a:off x="1197000" y="906480"/>
            <a:ext cx="738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Why Conduct Valuation Studies?</a:t>
            </a:r>
            <a:endParaRPr b="0" lang="en-US" sz="3200" spc="-1" strike="noStrike">
              <a:solidFill>
                <a:srgbClr val="ffffff"/>
              </a:solidFill>
              <a:latin typeface="Arial"/>
            </a:endParaRPr>
          </a:p>
        </p:txBody>
      </p:sp>
      <p:sp>
        <p:nvSpPr>
          <p:cNvPr id="586"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1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Fundamentals: </a:t>
            </a:r>
            <a:r>
              <a:rPr b="1" i="1" lang="en-US" sz="3200" spc="-1" strike="noStrike">
                <a:solidFill>
                  <a:srgbClr val="323366"/>
                </a:solidFill>
                <a:latin typeface="Arial"/>
              </a:rPr>
              <a:t>Marginality</a:t>
            </a:r>
            <a:endParaRPr b="0" lang="en-US" sz="3200" spc="-1" strike="noStrike">
              <a:solidFill>
                <a:srgbClr val="000532"/>
              </a:solidFill>
              <a:latin typeface="Arial"/>
            </a:endParaRPr>
          </a:p>
        </p:txBody>
      </p:sp>
      <p:sp>
        <p:nvSpPr>
          <p:cNvPr id="588" name="PlaceHolder 2"/>
          <p:cNvSpPr>
            <a:spLocks noGrp="1"/>
          </p:cNvSpPr>
          <p:nvPr>
            <p:ph/>
          </p:nvPr>
        </p:nvSpPr>
        <p:spPr>
          <a:xfrm>
            <a:off x="457200" y="1962000"/>
            <a:ext cx="8229600" cy="38498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damentals: ‘with-minus-without’</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net effect is the policy measure having?</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e this in terms of changes in ecosystem services</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ypology of ESs</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alitative assessment</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rt judgment on whether provisioning would trend up or down</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589"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Fundamentals: </a:t>
            </a:r>
            <a:r>
              <a:rPr b="1" i="1" lang="en-GB" sz="3200" spc="-1" strike="noStrike">
                <a:solidFill>
                  <a:srgbClr val="323366"/>
                </a:solidFill>
                <a:latin typeface="Arial"/>
              </a:rPr>
              <a:t>spatial scale and scope</a:t>
            </a:r>
            <a:endParaRPr b="0" lang="en-US" sz="3200" spc="-1" strike="noStrike">
              <a:solidFill>
                <a:srgbClr val="000532"/>
              </a:solidFill>
              <a:latin typeface="Arial"/>
            </a:endParaRPr>
          </a:p>
        </p:txBody>
      </p:sp>
      <p:sp>
        <p:nvSpPr>
          <p:cNvPr id="591"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is of marginal change must be bounded in terms of spatial scale and thus scope </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Global, regional, national, sub-national, local</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io-physical versus economic scales</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 bio-physical scale (data, inter-linkages </a:t>
            </a:r>
            <a:r>
              <a:rPr b="0" i="1" lang="en-GB" sz="2200" spc="-1" strike="noStrike">
                <a:solidFill>
                  <a:srgbClr val="000000"/>
                </a:solidFill>
                <a:latin typeface="Times New Roman"/>
                <a:ea typeface="Times New Roman"/>
              </a:rPr>
              <a:t>etc</a:t>
            </a:r>
            <a:r>
              <a:rPr b="0" lang="en-GB" sz="2200" spc="-1" strike="noStrike">
                <a:solidFill>
                  <a:srgbClr val="000000"/>
                </a:solidFill>
                <a:latin typeface="Times New Roman"/>
                <a:ea typeface="Times New Roman"/>
              </a:rPr>
              <a:t>.) might be river catchment, i.e. trans-boundary</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 economic scale might be ‘national’ as this is where governance/jurisdiction applies to act on valuation outcomes  </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ust be wary of displacement effects </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Extending protected areas: does this mean more intensive resource-use just outside the protected area boundary?  </a:t>
            </a:r>
            <a:endParaRPr b="0" lang="en-US" sz="2200" spc="-1" strike="noStrike">
              <a:solidFill>
                <a:srgbClr val="000532"/>
              </a:solidFill>
              <a:latin typeface="Arial"/>
            </a:endParaRPr>
          </a:p>
        </p:txBody>
      </p:sp>
      <p:sp>
        <p:nvSpPr>
          <p:cNvPr id="592"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Total Economic Value</a:t>
            </a:r>
            <a:endParaRPr b="0" lang="en-US" sz="2800" spc="-1" strike="noStrike">
              <a:solidFill>
                <a:srgbClr val="000532"/>
              </a:solidFill>
              <a:latin typeface="Arial"/>
            </a:endParaRPr>
          </a:p>
        </p:txBody>
      </p:sp>
      <p:sp>
        <p:nvSpPr>
          <p:cNvPr id="59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EV is the sum of use and non-use val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rect use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rect use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ption valu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istence valu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quest value</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Note that valuation is from a human perspective, intrinsic value is not included</a:t>
            </a:r>
            <a:endParaRPr b="0" lang="en-US" sz="2600" spc="-1" strike="noStrike">
              <a:solidFill>
                <a:srgbClr val="000532"/>
              </a:solidFill>
              <a:latin typeface="Arial"/>
            </a:endParaRPr>
          </a:p>
        </p:txBody>
      </p:sp>
      <p:sp>
        <p:nvSpPr>
          <p:cNvPr id="595"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Value Types within the TEV Approach</a:t>
            </a:r>
            <a:endParaRPr b="0" lang="en-US" sz="3200" spc="-1" strike="noStrike">
              <a:solidFill>
                <a:srgbClr val="000532"/>
              </a:solidFill>
              <a:latin typeface="Arial"/>
            </a:endParaRPr>
          </a:p>
        </p:txBody>
      </p:sp>
      <p:pic>
        <p:nvPicPr>
          <p:cNvPr id="597" name="Picture 1" descr=""/>
          <p:cNvPicPr/>
          <p:nvPr/>
        </p:nvPicPr>
        <p:blipFill>
          <a:blip r:embed="rId1"/>
          <a:stretch/>
        </p:blipFill>
        <p:spPr>
          <a:xfrm>
            <a:off x="228600" y="1719360"/>
            <a:ext cx="8477280" cy="4605120"/>
          </a:xfrm>
          <a:prstGeom prst="rect">
            <a:avLst/>
          </a:prstGeom>
          <a:ln w="0">
            <a:noFill/>
          </a:ln>
        </p:spPr>
      </p:pic>
      <p:sp>
        <p:nvSpPr>
          <p:cNvPr id="598"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EV and ecosystem services</a:t>
            </a:r>
            <a:r>
              <a:rPr b="1" lang="en-GB" sz="2800" spc="-1" strike="noStrike">
                <a:solidFill>
                  <a:srgbClr val="333399"/>
                </a:solidFill>
                <a:latin typeface="Arial"/>
              </a:rPr>
              <a:t> </a:t>
            </a:r>
            <a:endParaRPr b="0" lang="en-US" sz="2800" spc="-1" strike="noStrike">
              <a:solidFill>
                <a:srgbClr val="000532"/>
              </a:solidFill>
              <a:latin typeface="Arial"/>
            </a:endParaRPr>
          </a:p>
        </p:txBody>
      </p:sp>
      <p:graphicFrame>
        <p:nvGraphicFramePr>
          <p:cNvPr id="600" name=""/>
          <p:cNvGraphicFramePr/>
          <p:nvPr/>
        </p:nvGraphicFramePr>
        <p:xfrm>
          <a:off x="252360" y="1808280"/>
          <a:ext cx="8686800" cy="3779640"/>
        </p:xfrm>
        <a:graphic>
          <a:graphicData uri="http://schemas.openxmlformats.org/drawingml/2006/table">
            <a:tbl>
              <a:tblPr/>
              <a:tblGrid>
                <a:gridCol w="1447920"/>
                <a:gridCol w="2467080"/>
                <a:gridCol w="1191960"/>
                <a:gridCol w="1193760"/>
                <a:gridCol w="1192320"/>
                <a:gridCol w="1193760"/>
              </a:tblGrid>
              <a:tr h="580680">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Category</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Servic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rect Us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Indirect Us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Option Valu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Non-use Valu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94644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rovision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Food; fibre; fuel; bio chemicals; natural medicines; pharmaceuticals; fresh water supply</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94644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gulat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Air-quality; climate; water; natural hazard; carbon storage; nutrient cycling; micro-climate functions </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3332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ultural </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ultural heritage; recreation and tourism; aesthetic values</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58068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Habit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support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Primary production; nutrient cycling; soil formation</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gridSpan="4">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Valued through other ES categories</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01" name="Text Box 4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roup exercise</a:t>
            </a:r>
            <a:endParaRPr b="0" lang="en-US" sz="3600" spc="-1" strike="noStrike">
              <a:solidFill>
                <a:srgbClr val="000532"/>
              </a:solidFill>
              <a:latin typeface="Arial"/>
            </a:endParaRPr>
          </a:p>
        </p:txBody>
      </p:sp>
      <p:sp>
        <p:nvSpPr>
          <p:cNvPr id="603" name=""/>
          <p:cNvSpPr txBox="1"/>
          <p:nvPr/>
        </p:nvSpPr>
        <p:spPr>
          <a:xfrm>
            <a:off x="457200" y="1854360"/>
            <a:ext cx="5059440" cy="46353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k of the key ecosystems in your country and list the main ecosystem services they provid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entify the elements of TEV associated with those ecosystem servic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information on the value of those ecosystem services do you think is availabl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there any major gaps in this value information?</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04" name="Picture 4" descr=""/>
          <p:cNvPicPr/>
          <p:nvPr/>
        </p:nvPicPr>
        <p:blipFill>
          <a:blip r:embed="rId1"/>
          <a:stretch/>
        </p:blipFill>
        <p:spPr>
          <a:xfrm>
            <a:off x="5516640" y="2303640"/>
            <a:ext cx="3371760" cy="3271680"/>
          </a:xfrm>
          <a:prstGeom prst="rect">
            <a:avLst/>
          </a:prstGeom>
          <a:ln w="0">
            <a:noFill/>
          </a:ln>
        </p:spPr>
      </p:pic>
      <p:sp>
        <p:nvSpPr>
          <p:cNvPr id="605" name="Text Box 5"/>
          <p:cNvSpPr/>
          <p:nvPr/>
        </p:nvSpPr>
        <p:spPr>
          <a:xfrm>
            <a:off x="6507000" y="5467320"/>
            <a:ext cx="80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123rf.com</a:t>
            </a:r>
            <a:endParaRPr b="0" lang="en-US" sz="800" spc="-1" strike="noStrike">
              <a:solidFill>
                <a:srgbClr val="ffffff"/>
              </a:solidFill>
              <a:latin typeface="Arial"/>
            </a:endParaRPr>
          </a:p>
        </p:txBody>
      </p:sp>
      <p:sp>
        <p:nvSpPr>
          <p:cNvPr id="606" name="Text Box 7"/>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06:01Z</dcterms:created>
  <dc:creator>KREBS</dc:creator>
  <dc:description/>
  <dc:language>en-US</dc:language>
  <cp:lastModifiedBy>KREBS</cp:lastModifiedBy>
  <dcterms:modified xsi:type="dcterms:W3CDTF">2013-08-05T15:06:45Z</dcterms:modified>
  <cp:revision>1</cp:revision>
  <dc:subject/>
  <dc:title>PowerPoint Presentation</dc:title>
</cp:coreProperties>
</file>