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5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FA58-ADA1-4CDD-B257-17D1427B46F6}"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EBA16-ED76-411A-AA06-52BA78340D96}" type="slidenum">
              <a:rPr b="0" lang="en-US" sz="1200" spc="-1" strike="noStrike">
                <a:solidFill>
                  <a:srgbClr val="ffffff"/>
                </a:solidFill>
                <a:latin typeface="Calibri"/>
                <a:ea typeface="SimSun"/>
              </a:rPr>
              <a:t>&lt;number&gt;</a:t>
            </a:fld>
            <a:endParaRPr b="0" lang="en-US" sz="1200" spc="-1" strike="noStrike">
              <a:solidFill>
                <a:srgbClr val="ffffff"/>
              </a:solidFill>
              <a:latin typeface="Arial"/>
            </a:endParaRPr>
          </a:p>
        </p:txBody>
      </p:sp>
      <p:sp>
        <p:nvSpPr>
          <p:cNvPr id="642" name="PlaceHolder 1"/>
          <p:cNvSpPr>
            <a:spLocks noGrp="1"/>
          </p:cNvSpPr>
          <p:nvPr>
            <p:ph type="sldImg"/>
          </p:nvPr>
        </p:nvSpPr>
        <p:spPr>
          <a:xfrm>
            <a:off x="1144440" y="687240"/>
            <a:ext cx="4569120" cy="3427560"/>
          </a:xfrm>
          <a:prstGeom prst="rect">
            <a:avLst/>
          </a:prstGeom>
          <a:ln w="0">
            <a:noFill/>
          </a:ln>
        </p:spPr>
      </p:sp>
      <p:sp>
        <p:nvSpPr>
          <p:cNvPr id="643"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200" spc="-1" strike="noStrike" u="sng">
              <a:solidFill>
                <a:srgbClr val="000000"/>
              </a:solidFill>
              <a:uFillTx/>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1" lang="en-GB" sz="1200" spc="-1" strike="noStrike">
                <a:solidFill>
                  <a:srgbClr val="000000"/>
                </a:solidFill>
                <a:latin typeface="Calibri"/>
              </a:rPr>
              <a:t> </a:t>
            </a:r>
            <a:r>
              <a:rPr b="0" lang="en-GB" sz="1200" spc="-1" strike="noStrike">
                <a:solidFill>
                  <a:srgbClr val="000000"/>
                </a:solidFill>
                <a:latin typeface="Calibri"/>
              </a:rPr>
              <a:t>that a further aggregation issue results from trying to sum the values for different ecosystem services supplied by a particular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Note</a:t>
            </a:r>
            <a:r>
              <a:rPr b="0" lang="en-GB" sz="1200" spc="-1" strike="noStrike">
                <a:solidFill>
                  <a:srgbClr val="000000"/>
                </a:solidFill>
                <a:latin typeface="Calibri"/>
              </a:rPr>
              <a:t> that existing valuations rarely consider interactions between ecosystem services which may be jointly provided or mutually exclus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a problem particularly with stated preference studies is part-whole bias – essentially expressed WTP for individual sites or ecosystem services may not consider other sites or ecosystem services. Consequently, summing over multiple sites or services may not be defensible. Ideally, SP studies should simultaneously value all ES supplied by an ecosystem.</a:t>
            </a: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A1B1-8FEB-4B22-AE63-287D541CFDCD}"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ecosystem services arise and are provided over differing spatial sc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ecosystems that produce services occur in small patches, over large continuous areas and interact over wide regional networ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kewise, the services produced by these ecosystem occur at different sc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On site services including recre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Off-site services such as flood preven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Global scale such as climate reg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nce the demand for services also has spatial variation. This is further complicated by the proximity of sites offering complimentary or substitute ecosystem services.</a:t>
            </a: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AE549-9F5E-4125-81EE-1AD3DC25C279}"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BT needs to carefully match characteristics and cont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Note</a:t>
            </a:r>
            <a:r>
              <a:rPr b="0" lang="en-GB" sz="1200" spc="-1" strike="noStrike">
                <a:solidFill>
                  <a:srgbClr val="000000"/>
                </a:solidFill>
                <a:latin typeface="Calibri"/>
              </a:rPr>
              <a:t> that value function and meta-analytic BT parameters should be estimated to capture the dif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78DE-D837-4A68-9DC1-943A6E77BE39}"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Recall</a:t>
            </a:r>
            <a:r>
              <a:rPr b="0" lang="en-GB" sz="1200" spc="-1" strike="noStrike">
                <a:solidFill>
                  <a:srgbClr val="000000"/>
                </a:solidFill>
                <a:latin typeface="Calibri"/>
              </a:rPr>
              <a:t> that marginality is a key issue in valuation. In this context we are considering marginality in the sense of the change in ecosystem services due to a given change in the quantity or quality of an ecosystem. For example is one additional hectare of forest worth more if it is added to a 10 hectare site than a 100 hectare site. The gain in extent is the same in both cases but the context may be important in producing different outcomes. In this example we are increasing the size of a site by either 10% o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uitively the 10% increase may seem more beneficial. But, there may be important increasing returns to scale – 11ha of forest may still be insufficient to produce desired ecosystem services. In policy terms, if there is a target to increase national forest cover by 10% accounting for non-constant marginal values and the underlying ecological processes may suggest targeting this increase on larger existing forest areas. Note that different ecosystem services will display different marginal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cognise that linear responses to changing ecosystem extent may not be appropriate due to non-linearities, step-changes and threshol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16791-A048-4963-B427-A79139D50B0D}"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due to </a:t>
            </a:r>
            <a:r>
              <a:rPr b="1" lang="en-US" sz="1200" spc="-1" strike="noStrike" u="sng">
                <a:solidFill>
                  <a:srgbClr val="000000"/>
                </a:solidFill>
                <a:uFillTx/>
                <a:latin typeface="Calibri"/>
              </a:rPr>
              <a:t>d</a:t>
            </a:r>
            <a:r>
              <a:rPr b="0" lang="en-GB" sz="1200" spc="-1" strike="noStrike">
                <a:solidFill>
                  <a:srgbClr val="000000"/>
                </a:solidFill>
                <a:latin typeface="Calibri"/>
              </a:rPr>
              <a:t>istance decay – the value of ES declines as distance between beneficiary and ES increases (likewise disamenity value declines as distance incr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ate of distance decay can be represented by spatial disco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ate of distance decay likely to vary across 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rect use values likely to have strong distance effect but this is influenced by availability of substitut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ique fauna may have low distance decay of valu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oodland recreation may have high distance decay of va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n-use values may exhibit distance decay, but cultural or political boundaries may be more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 charismatic species (e.g. pandas, tigers, whales) may have zero rate of spatial disco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it may be appropriate to consider differences in incomes and income distributions between si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a:t>
            </a:r>
            <a:r>
              <a:rPr b="0" i="1" lang="en-GB" sz="1200" spc="-1" strike="noStrike">
                <a:solidFill>
                  <a:srgbClr val="000000"/>
                </a:solidFill>
                <a:latin typeface="Calibri"/>
              </a:rPr>
              <a:t>Equity weighting </a:t>
            </a:r>
            <a:r>
              <a:rPr b="0" lang="en-GB" sz="1200" spc="-1" strike="noStrike">
                <a:solidFill>
                  <a:srgbClr val="000000"/>
                </a:solidFill>
                <a:latin typeface="Calibri"/>
              </a:rPr>
              <a:t>tries to account for these differe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 Appropriate when transferring values from developed to developing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D2844-AAA2-4600-B318-6DB88CA5432D}"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BT is reliant on the availability of suitable primary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ecosystem and ecosystem services that well or under-represen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a:t>
            </a:r>
            <a:r>
              <a:rPr b="0" lang="en-GB" sz="1200" spc="-1" strike="noStrike">
                <a:solidFill>
                  <a:srgbClr val="000000"/>
                </a:solidFill>
                <a:latin typeface="Calibri"/>
              </a:rPr>
              <a:t> that the problem in developing country contexts is not just a lack of primary studies but also under-representation of relevant ecosystems and ecosystem services in developed country studies that could be transferred.</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37B44-1FDC-441A-AB6D-1C2EFF7FFA73}"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 that the issue of marginality also impacts on whether transferred values can or should be scaled up. Specifically, per hectare values for an abundant or non-degraded ecosystem will not be appropriate for a scarce or degraded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Note</a:t>
            </a:r>
            <a:r>
              <a:rPr b="0" lang="en-GB" sz="1200" spc="-1" strike="noStrike">
                <a:solidFill>
                  <a:srgbClr val="000000"/>
                </a:solidFill>
                <a:latin typeface="Calibri"/>
              </a:rPr>
              <a:t> that the graph shows that marginal per unit values vary depending on the natural capital stock and may be subject to thresholds (which we might not know the location of).</a:t>
            </a:r>
            <a:endParaRPr b="0" lang="en-US" sz="1200" spc="-1" strike="noStrike">
              <a:solidFill>
                <a:srgbClr val="000000"/>
              </a:solidFill>
              <a:latin typeface="Calibri"/>
            </a:endParaRPr>
          </a:p>
        </p:txBody>
      </p:sp>
      <p:sp>
        <p:nvSpPr>
          <p:cNvPr id="6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6B7E8-0FC9-415B-82A1-A1A01CB5BF82}"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Summarise </a:t>
            </a:r>
            <a:r>
              <a:rPr b="0" lang="en-GB" sz="1200" spc="-1" strike="noStrike">
                <a:solidFill>
                  <a:srgbClr val="000000"/>
                </a:solidFill>
                <a:latin typeface="Calibri"/>
              </a:rPr>
              <a:t>the BT s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 </a:t>
            </a:r>
            <a:r>
              <a:rPr b="0" lang="en-GB" sz="1200" spc="-1" strike="noStrike">
                <a:solidFill>
                  <a:srgbClr val="000000"/>
                </a:solidFill>
                <a:latin typeface="Calibri"/>
              </a:rPr>
              <a:t> that te focus on ‘problems’ is because it is very tempting to avoid carrying out a primary valuation and borrow estimates from extant studies. But doing so using BT is fraught with difficulties and also can at best only provide a ballpark estimate of values. </a:t>
            </a:r>
            <a:endParaRPr b="0" lang="en-US" sz="1200" spc="-1" strike="noStrike">
              <a:solidFill>
                <a:srgbClr val="000000"/>
              </a:solidFill>
              <a:latin typeface="Calibri"/>
            </a:endParaRPr>
          </a:p>
        </p:txBody>
      </p:sp>
      <p:sp>
        <p:nvSpPr>
          <p:cNvPr id="6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B4EF-16C6-44AE-A29E-CD85DE4A4A22}"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remainder of the session will consider uncertainty in valuation</a:t>
            </a:r>
            <a:endParaRPr b="0" lang="en-US" sz="1200" spc="-1" strike="noStrike">
              <a:solidFill>
                <a:srgbClr val="000000"/>
              </a:solidFill>
              <a:latin typeface="Calibri"/>
            </a:endParaRPr>
          </a:p>
        </p:txBody>
      </p:sp>
      <p:sp>
        <p:nvSpPr>
          <p:cNvPr id="6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4488-7FC1-4224-B83A-675BD7994211}"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Introduce</a:t>
            </a:r>
            <a:r>
              <a:rPr b="0" lang="en-GB" sz="1200" spc="-1" strike="noStrike">
                <a:solidFill>
                  <a:srgbClr val="000000"/>
                </a:solidFill>
                <a:latin typeface="Calibri"/>
              </a:rPr>
              <a:t> session 3 and </a:t>
            </a:r>
            <a:r>
              <a:rPr b="1" lang="en-GB" sz="1200" spc="-1" strike="noStrike" u="sng">
                <a:solidFill>
                  <a:srgbClr val="000000"/>
                </a:solidFill>
                <a:uFillTx/>
                <a:latin typeface="Calibri"/>
              </a:rPr>
              <a:t>outline</a:t>
            </a:r>
            <a:r>
              <a:rPr b="0" lang="en-GB" sz="1200" spc="-1" strike="noStrike">
                <a:solidFill>
                  <a:srgbClr val="000000"/>
                </a:solidFill>
                <a:latin typeface="Calibri"/>
              </a:rPr>
              <a:t> the contents of the session on benefits transfer.</a:t>
            </a: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DBA13-D551-41A9-BA1A-855D1AFC781D}"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we there is often uncertainty about ecosystem functioning and how this in turn provides ecosystem services. Specifically, we can more easily measure and consequently value the quantity rather quality of ecosystems. This may not be a problem if quality of ecosystem or service provision does not vary across the extent of the ecosystem.</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where we know the probability of an environmental outcome (a state of nature) we can use that probability to estimate the </a:t>
            </a:r>
            <a:r>
              <a:rPr b="0" i="1" lang="en-US" sz="1200" spc="-1" strike="noStrike">
                <a:solidFill>
                  <a:srgbClr val="000000"/>
                </a:solidFill>
                <a:latin typeface="Calibri"/>
              </a:rPr>
              <a:t>expected</a:t>
            </a:r>
            <a:r>
              <a:rPr b="0" lang="en-US" sz="1200" spc="-1" strike="noStrike">
                <a:solidFill>
                  <a:srgbClr val="000000"/>
                </a:solidFill>
                <a:latin typeface="Calibri"/>
              </a:rPr>
              <a:t> </a:t>
            </a:r>
            <a:r>
              <a:rPr b="0" i="1" lang="en-US" sz="1200" spc="-1" strike="noStrike">
                <a:solidFill>
                  <a:srgbClr val="000000"/>
                </a:solidFill>
                <a:latin typeface="Calibri"/>
              </a:rPr>
              <a:t>value </a:t>
            </a:r>
            <a:r>
              <a:rPr b="0" lang="en-US" sz="1200" spc="-1" strike="noStrike">
                <a:solidFill>
                  <a:srgbClr val="000000"/>
                </a:solidFill>
                <a:latin typeface="Calibri"/>
              </a:rPr>
              <a:t>– potential outcomes, and their values, are weighted by the probability of occurre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a study by Barbier of mangroves applied the probability of the occurrence of storm events to estimates of the economic damage caused by those events. From this the value of the storm protection benefits can be estimated.</a:t>
            </a: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91C6C-16B6-4EB0-A4C8-10B335CE15AC}"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i="1" lang="en-GB" sz="1200" spc="-1" strike="noStrike" u="sng">
                <a:solidFill>
                  <a:srgbClr val="000000"/>
                </a:solidFill>
                <a:uFillTx/>
                <a:latin typeface="Calibri"/>
              </a:rPr>
              <a:t> </a:t>
            </a:r>
            <a:r>
              <a:rPr b="0" lang="en-GB" sz="1200" spc="-1" strike="noStrike">
                <a:solidFill>
                  <a:srgbClr val="000000"/>
                </a:solidFill>
                <a:latin typeface="Calibri"/>
              </a:rPr>
              <a:t>that when using stated preference methods we often assume that people know their preferences for ecosystem services with certainty. However, people are often unfamiliar with the service, the ecosystem providing it and the process of expressing WTP for ecosystem services. These are hypothetical markets for unfamiliar and intangible goods.</a:t>
            </a: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9C77A-9C2B-4911-B8DE-6458D05FE6F0}"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 that the valuation literature indicates some positive association between certainty scores and prior knowledge of the good being valued or attitudes towards the hypothetical market.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a:t>
            </a:r>
            <a:r>
              <a:rPr b="0" lang="en-GB" sz="1200" spc="-1" strike="noStrike">
                <a:solidFill>
                  <a:srgbClr val="000000"/>
                </a:solidFill>
                <a:latin typeface="Calibri"/>
              </a:rPr>
              <a:t> that this approach considers how certain respondents were about the value their answer to a WTP question not their certainty about the value itsel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7EC3-3676-48BE-8546-83222F295030}"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 that this approach directly considers certainty about the stated valu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TP is elicited over a range of bids with different levels of certain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ssible to model threshold valu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t, how do respondents interpret concepts such as ‘probably no’ or ‘very unlikely’ and do they do so in the sam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B141-C66B-4619-8E69-268FC4B36AEA}"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 that this is a further approach to consider certainty over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payment ladder use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umn A increase bids with ‘definitely yes’ respo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lumn B decreasing amounts ‘definitely no’ respo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certainty range identif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this option does 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voids interpretation of ‘possibly’ or ‘probabl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certainty is inversely related to knowledge and experience of the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9B9C-EA6C-47A4-B377-1135881AB882}"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final source uncertainty arises from the valuation approach adop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ith respect to stated preference method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se are consistent with economic theory – but depends on how surveys create incenti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ategic behaviour can be mitigated by appropriate choice of elicitation meth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in resource-constrained situations where the finance is not available for primary valuation and/or only a wide ballpark estimate of value is required it may be appropriate to use benefit transf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BT takes existing values (however determined) from a ‘study site’ and transfers or applies them to a similar ‘policy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a:t>
            </a:r>
            <a:r>
              <a:rPr b="0" lang="en-US" sz="1200" spc="-1" strike="noStrike" u="sng">
                <a:solidFill>
                  <a:srgbClr val="000000"/>
                </a:solidFill>
                <a:uFillTx/>
                <a:latin typeface="Calibri"/>
              </a:rPr>
              <a:t> </a:t>
            </a:r>
            <a:r>
              <a:rPr b="0" lang="en-US" sz="1200" spc="-1" strike="noStrike">
                <a:solidFill>
                  <a:srgbClr val="000000"/>
                </a:solidFill>
                <a:latin typeface="Calibri"/>
              </a:rPr>
              <a:t>the four categories of BT</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simplest approach to BT is to take the main WTP or value estimate from the study site and directly apply it to the policy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can be a per person, per household or for environmental units such as per hectare and is then multiplied by the relevant population or quantity at the policy 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a:t>
            </a:r>
            <a:r>
              <a:rPr b="0" lang="en-GB" sz="1200" spc="-1" strike="noStrike">
                <a:solidFill>
                  <a:srgbClr val="000000"/>
                </a:solidFill>
                <a:latin typeface="Calibri"/>
              </a:rPr>
              <a:t> that this is quick and simple, but require study and policy sites or populations to be very similar. Although some simple adjustments can be made to account for differences in incomes or prices.</a:t>
            </a:r>
            <a:endParaRPr b="0" lang="en-US" sz="12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AA099-6E8D-4AB7-9969-DA9489873582}"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variables such as income and age of the respondents are likely to determine values, and by estimating regression models for the study site we can account for these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then replace the values of these significant variables from the study site with their values from the policy si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se </a:t>
            </a:r>
            <a:r>
              <a:rPr b="0" lang="en-US" sz="1200" spc="-1" strike="noStrike">
                <a:solidFill>
                  <a:srgbClr val="000000"/>
                </a:solidFill>
                <a:latin typeface="Calibri"/>
              </a:rPr>
              <a:t> that although this accounts for difference between sites it fundamentally assumes that preference structures are the same, i.e. the coefficients in the regression models do not change between sit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meta-analysis collects a dataset of many valuation studies relating to a particular ecosystem type, for example forests or wetlands. Then for a common set of variables estimates a benefit function, i.e. a regression model explaining the observed values.</a:t>
            </a:r>
            <a:r>
              <a:rPr b="0" lang="en-GB" sz="1200" spc="-1" strike="noStrike">
                <a:solidFill>
                  <a:srgbClr val="000000"/>
                </a:solidFill>
                <a:latin typeface="Calibri"/>
              </a:rPr>
              <a:t>	</a:t>
            </a:r>
            <a:r>
              <a:rPr b="0" lang="en-GB" sz="1200" spc="-1" strike="noStrike">
                <a:solidFill>
                  <a:srgbClr val="000000"/>
                </a:solidFill>
                <a:latin typeface="Calibri"/>
              </a:rPr>
              <a:t>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iscuss</a:t>
            </a:r>
            <a:r>
              <a:rPr b="0" lang="en-GB" sz="1200" spc="-1" strike="noStrike">
                <a:solidFill>
                  <a:srgbClr val="000000"/>
                </a:solidFill>
                <a:latin typeface="Calibri"/>
              </a:rPr>
              <a:t> the following as assumptions of meta-analysi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 underlying meta-valuation function exists that relates values to site and study characteristics, primary studies provide point values to estimate this func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fferences between sites can be captured through a price vect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lues are stable over time or vary in a systematic wa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imary valuation studies provide ‘correct’ val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D3C8-C70E-4D14-B694-14158249CD03}"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as our confidence in BT approaches increases so does their complexity (and therefore cost and time requirements). In some cases unit BT may be accurate. Depending on the amount of existing data and the need to search for review studies, meta-analytic BT may be as resource intensive as a primary valuation study; but if planning to transfer to several policy sites then meta-analysis might be cost-effective.</a:t>
            </a:r>
            <a:endParaRPr b="0" lang="en-US" sz="1200" spc="-1" strike="noStrike">
              <a:solidFill>
                <a:srgbClr val="000000"/>
              </a:solidFill>
              <a:latin typeface="Calibri"/>
            </a:endParaRPr>
          </a:p>
        </p:txBody>
      </p:sp>
      <p:sp>
        <p:nvSpPr>
          <p:cNvPr id="6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3374-BF75-4940-8B01-AFE0BCB68BF2}"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one the key issues in BT is transfer errors – the difference between transferred values and actual values where these have been coll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 </a:t>
            </a:r>
            <a:r>
              <a:rPr b="0" lang="en-US" sz="1200" spc="-1" strike="noStrike">
                <a:solidFill>
                  <a:srgbClr val="000000"/>
                </a:solidFill>
                <a:latin typeface="Calibri"/>
              </a:rPr>
              <a:t>the three sources of err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Errors in original measures of value at study site</a:t>
            </a:r>
            <a:r>
              <a:rPr b="0" lang="en-GB" sz="1200" spc="-1" strike="noStrike">
                <a:solidFill>
                  <a:srgbClr val="000000"/>
                </a:solidFill>
                <a:latin typeface="Calibri"/>
              </a:rPr>
              <a:t>. Due to weak methodology, unreliable data, analyst errors, bias inherent in valuation meth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Errors arising during transfer</a:t>
            </a:r>
            <a:r>
              <a:rPr b="0" lang="en-GB" sz="1200" spc="-1" strike="noStrike">
                <a:solidFill>
                  <a:srgbClr val="000000"/>
                </a:solidFill>
                <a:latin typeface="Calibri"/>
              </a:rPr>
              <a:t>. Generalisation error occurs when differences between sites not accounted for. Preferences and values may change over tim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Publication selection bias</a:t>
            </a:r>
            <a:r>
              <a:rPr b="0" lang="en-GB" sz="1200" spc="-1" strike="noStrike">
                <a:solidFill>
                  <a:srgbClr val="000000"/>
                </a:solidFill>
                <a:latin typeface="Calibri"/>
              </a:rPr>
              <a:t>: journal editors prefer significant results and novel or innovative methods and applications. May not suit the needs of BT practitioners. ‘Grey’ literature may be more appropri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Note</a:t>
            </a:r>
            <a:r>
              <a:rPr b="0" lang="en-US" sz="1200" spc="-1" strike="noStrike">
                <a:solidFill>
                  <a:srgbClr val="000000"/>
                </a:solidFill>
                <a:latin typeface="Calibri"/>
              </a:rPr>
              <a:t> that by specifically considering differences between sites, value function and meta-analytic BT should result in lower errors, or greater confidence in the transfer.</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another challenge of BT is dealing with aggregation of values. We need to know how many people or units to aggregate per unit values 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se</a:t>
            </a:r>
            <a:r>
              <a:rPr b="0" lang="en-US" sz="1200" spc="-1" strike="noStrike">
                <a:solidFill>
                  <a:srgbClr val="000000"/>
                </a:solidFill>
                <a:latin typeface="Calibri"/>
              </a:rPr>
              <a:t> that per unit area transfer </a:t>
            </a:r>
            <a:r>
              <a:rPr b="0" lang="en-GB" sz="1200" spc="-1" strike="noStrike">
                <a:solidFill>
                  <a:srgbClr val="000000"/>
                </a:solidFill>
                <a:latin typeface="Calibri"/>
              </a:rPr>
              <a:t>focuses on the supply of ecosystem services rather than demand, but needs to value received rather than potential services. Assumes value reflects preferences of the ‘mark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9CD92-BA00-4082-9D0E-4B36B3E11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6EA5E-4096-4418-902B-DDE28AB2E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D82533-C2C0-4DDA-87B4-2A982F90159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993D47-BBC3-453E-ACFC-34A9C2ED7E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B3EE33-D116-4F53-8858-78C15344A8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F6EB3E-EC51-4C55-B029-9F29FF0918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A6AAEB-338B-43D0-B00E-EBE72538B9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CB44E1-5787-47B5-8A46-1625B0FF48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D00538-4BA9-49D8-B267-8C73E91E38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EE9BB6-73D0-42AA-829C-D2D4A00AFEE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A02F99-AC3F-44AE-B87D-4BD9D45FE1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010384E-BFF3-45D3-99B4-0D63E577F7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C7EFE-D9E5-4765-B253-D2844294E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BC4C77-F25A-4EEC-A4C3-511FEE7F486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77BD52-E7C7-4913-9AB5-BC436F7F50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1042B2-B0B9-4458-9297-0774D21A0C6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BD10A8C-566E-4A36-A631-14B99AAE14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687EB3-C74B-4EE8-BB71-DE50F53080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96DA65-C433-43EF-925E-E3EAF7CA8C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CBC362E-13E1-4E34-8B15-664FC12C4D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49D707-D040-4BB1-88D1-B7495C9C54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EA3EEA-DB96-404B-9F01-264D5B8443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2E03BE8-0AE6-4A26-B216-5B5901CAC86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BF268-DEEE-40CF-A4AE-B1816D4FC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7D8363B-C5C8-4D12-89ED-801B29E1B75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CF05E29-65EF-4EC8-B9D2-2468CC29A0E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B87198B-7661-44F5-BAA1-00A90F102C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3A6612-59B1-4535-A339-3A5606F139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8D6B04-7C0D-422D-B225-EB854771C5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C806D8-CE82-4E97-AE0C-CDE1BCC4A1E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0E66E5-A0CF-4EFC-985C-77F6EC22325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20D924-2EF7-475E-828A-6315C8D652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1CAE1E-A5D6-4623-B011-7DB2DD4933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BF3A527-85D1-409C-8DD8-17D3A86217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ACDFC6-CE14-4416-A6B1-06116350C3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36FA474-9B39-4BC6-9B98-889F7544E6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AC8DEB2-527D-468E-8BAF-DDAF486F9FC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2C666C9-1F05-45F6-B683-B28FC948B8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A04E22A-3BF7-49EB-AC06-79D2E30B404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6F5B98-872D-484A-8496-AED21CF085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0C9961-B0C3-4F6D-8011-67D6ACDCCA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EADE72-4CCD-442D-92B6-C16C7F63D4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EA07C0-111B-4986-95BA-78B4BA92CB0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77E20A1-055A-4DED-8027-1362999ABB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C93191D-C3F4-4F28-B945-E390D8DB6C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013EE4-8857-498A-94C1-AEF105ADC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F9889B-39B9-4802-8B93-F69F4E0A7D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E51B98-0C1D-45ED-9568-36C85635D4E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330D00-98C7-485F-97A5-1A413537F3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9A11F06-CD3A-4B65-A3F1-BFCA7832341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F06BAA9-3B88-410F-9EF9-6FBB28F7A3A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7922E92-67C4-4FDE-98F6-B5348EFC1B0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56DABA4-1CB6-4A54-BEDC-854F1065E9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12533D3-DCA0-4A77-B338-AC07C6982C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84458C1-5AB8-4E7C-93F5-FA8475B0309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7A84154-714D-45EB-8333-EE8BC4D2E4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EBC48-AC3A-499D-B80C-E6F2AAFF7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FD84FBE-98F0-4C4B-B766-B4B9DE5FB9C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E202C78-C557-40A8-AEEE-BE47F27B189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7AD079-A27A-44A7-856A-3F9165FB97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7B90786-93C2-4B51-9572-736962F2786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7D9350-D7F8-4A96-B65E-D600870115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37ECF2D-A2C0-469C-9C07-912DF65D497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2F5CE85-5631-4DE8-AA0E-5D6DC781D71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3E384-05D5-440F-BAE8-7383B4E00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9DD51-33AA-40DC-BDEC-894A5B0DE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C4B43-3DA7-40D9-8F94-EB0409D2C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7F23F-94B4-4412-98E9-4B07F4B84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04E2B-38FF-4BD6-8889-E6194F864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B6151-777B-44D6-92D3-D239C20B0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A06FD-6A3C-4A01-91CA-4B94D0803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7DC59-AFF3-49DD-AEEB-1E9B23956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207A55-9BEB-46BB-9F54-030875F4C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9C5DF-2512-486C-9984-BFF6396205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58ABAD-CA8B-4DAB-ADF4-2EF4C25257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C98FDC-7DFF-4DE4-86DE-26C5BC1FA7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1214A5-1A7C-4FA3-8225-97A43D055A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A0789F-22C0-4B36-A441-FAC3C132BF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45E6E2-AD0E-42D4-A1AE-A13F76DA55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708B6-CB1D-4D67-9734-04413E430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A127E0-D312-4939-9000-418E385AC7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2D458-C453-47D5-BB93-1653F8E37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AF709-6272-4DBF-BF3D-7115A8DFC9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13FAA7-2198-4090-B9DA-CA0A33B719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B2EF5B-9B95-4204-A5BB-6BD2BF5E4C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6A923A-CED1-4664-A664-C4367EC62E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349AF0A-8ECB-4CFD-ABF7-FAC438CC29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FA0C04-6F47-40D0-BF8B-92BF88A531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9FDAD6-B623-46C8-9A2F-8ABDC9B3E9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F007DA-2C2C-4347-8D35-5169DDC099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FC552-763C-4229-9000-696A1D26F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D9533F-0E42-4158-A351-DFBEE7F515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24CB73-E427-4BD5-B22F-8A3D60B459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FDE28B-7835-4F38-9A0E-010C496619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16F6D-D65D-4D01-9606-063BD79428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13E107-13B9-4C0D-9483-E12315CDA7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C8D3A5-9FC3-4C8B-896A-7F7E1CCF9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476D4A-F6C0-49A2-87BF-09332B18DC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366D98-FC94-408D-AFA4-0BFE56C534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AB0B7D-0187-4324-B767-212270497D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74B9DA-AEC2-4DC6-87DB-E9E6984B2E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F4A8B0-1A62-49FB-8A97-FE08C9247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27E5C7-0FC0-4F68-848F-26BEFEA043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043B58-71C3-4FC1-9241-5741735088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524B68-9EBB-4BA5-960B-E5BCF9386A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AE75B2-EA52-459A-997B-E0B42FAE2C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67B933-1AC9-4FAF-B39C-32318B86DE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C9BAF7-D6D4-44C0-8660-3216FAEFF7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C531DC-A550-4122-A4EA-6239D7797F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5A27D5-A02D-46FB-BA00-8D552BF94F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327AE3-BB83-4415-BE1A-4B6BBDED29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E3BC5E-9195-46DA-A505-0BEC78B17E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7EAEE-F841-4C42-9E6E-48DA9196C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847B0FA-5655-4EAB-8849-9E471307A50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499134-117A-46C6-B7B3-C870C4150AB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98D4E0-C73C-45EF-90D1-42072BF2C6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7C0A79-3E5A-4253-A1FF-742FF714EE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5AFC9A-B629-4DCE-94CB-C80E382E43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BC36FD-AC0D-4419-A976-819F5BDC7D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29F5BD-4D4F-4705-89A2-BFF99F719B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0704FA-62A3-4161-A891-BE138A3609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43BEC3-5FB3-4DD5-BF4E-0A31815EE7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A45479-5B93-4929-8015-566318159F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2117B-40C2-4130-83B2-6E0F6C997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58A834-D8DF-4BAC-B52C-22A0DAA86E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E92C61-ECCB-45A9-96B8-2AB1909357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2E4F87A-ADE3-4E7C-B065-B2AD93BD84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DDD920-F6E3-43E7-B21D-4F2960FC1B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EC4CA3-55A0-4E85-B57B-548805A4EC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3A9823-9EEB-425F-8549-2CF2306E9E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864673-6F9D-4ED9-B808-F1D8D2123D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8FED6B-D36C-40A9-BBE8-27161B184E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462660-98EA-4E52-A650-7AE79794E0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BCA1FE-B2B7-411C-AD17-480E97D52C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569DC-68CE-4807-B228-1E39319D0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3BBD5D-F606-4CC2-A59F-A5C08D8DE0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FEE5C-A2F5-4625-878C-A948309D5E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4F8E93-6478-471C-9C57-8353A9753B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788ED0-0305-4298-8D08-98FFA103E6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8402AD-DB45-4494-A8C3-EA0B2A7B7F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B232E5-9D3F-44BA-9481-E884E94C6C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2E2955-1308-4542-AE4F-2A9C749394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3E1251-29AC-41DC-A2EC-DA7D9C57E6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538FEF-1B39-49D4-97BB-0B509ED8997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8DCA99-B9EF-4F50-9AD8-DEA319015C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54A8E-A455-43AA-A89A-0ACC935F0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1F2D18-392F-46F3-90AE-52B3CBFDFA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621974-5F9F-4B91-A71A-401181F101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D6BCEA-DC67-4B00-AF86-8E8C71DF9A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F8CA20-BCED-426E-A9A7-DCA554C045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02B14C-6479-4A82-9C84-17BE42CF01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43D1A6-9567-48B6-83D2-FC6E0AED02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979ED5-AF72-4FF1-8F87-825CB87781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D0838BB-DB7A-4746-BE31-B866E27B143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1B9196-1F94-460C-BEDB-0CAD8B39F0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8C81B5-625F-4C68-A266-8D385F77EC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D709A-EEB4-434E-81D5-C0759AFD9B1E}" type="slidenum">
              <a:rPr b="0" lang="en-US" sz="1400" spc="-1" strike="noStrike">
                <a:solidFill>
                  <a:srgbClr val="000532"/>
                </a:solidFill>
                <a:latin typeface="Times New Roman"/>
                <a:ea typeface="SimSun"/>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FC79-605A-4E7E-8596-8D452B8DB9F0}"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B7B34-9385-4FDA-89D1-C11A6AC0DC92}"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22D3-EC5D-4622-8898-9EA4CFDA26D4}"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204E-2CDA-46FB-AF8F-4BAF724B68B7}"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3B28-690D-4C50-8DBE-5034EB9949E2}"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E789D-F83E-4A29-8328-E8C8A12A8734}"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8D2A1-DD70-4FCD-BDD1-D7B88E5AC2F3}"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AE54B-DD63-45B3-9EB9-95DAAA21F391}"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6332-7663-4E7A-9240-A52CB1818D96}"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AB72-3274-4FC1-BF72-CF6FC0FE7A54}"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91C32-1EB7-417B-A8E2-C07CF36339EB}"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TextBox 2"/>
          <p:cNvSpPr/>
          <p:nvPr/>
        </p:nvSpPr>
        <p:spPr>
          <a:xfrm>
            <a:off x="2268360" y="4508640"/>
            <a:ext cx="482472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SimSun"/>
              </a:rPr>
              <a:t>Session 3:</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ea typeface="SimSun"/>
              </a:rPr>
              <a:t>Benefit transfer and uncertainty</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81" name="Picture 6" descr="logo TEEB transparent print"/>
          <p:cNvPicPr/>
          <p:nvPr/>
        </p:nvPicPr>
        <p:blipFill>
          <a:blip r:embed="rId1"/>
          <a:stretch/>
        </p:blipFill>
        <p:spPr>
          <a:xfrm>
            <a:off x="3276720" y="1341360"/>
            <a:ext cx="2690640" cy="273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hallenges: Aggregation </a:t>
            </a:r>
            <a:r>
              <a:rPr b="1" lang="en-GB" sz="2000" spc="-1" strike="noStrike">
                <a:solidFill>
                  <a:srgbClr val="323366"/>
                </a:solidFill>
                <a:latin typeface="Arial"/>
              </a:rPr>
              <a:t>cont…</a:t>
            </a:r>
            <a:endParaRPr b="0" lang="en-US" sz="2000" spc="-1" strike="noStrike">
              <a:solidFill>
                <a:srgbClr val="000532"/>
              </a:solidFill>
              <a:latin typeface="Arial"/>
            </a:endParaRPr>
          </a:p>
        </p:txBody>
      </p:sp>
      <p:sp>
        <p:nvSpPr>
          <p:cNvPr id="602"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ggregation also refers to summing values of different ES supplied by an ecosystem</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otential double counting – ES may be jointly provided, mutually exclusive, interacting or integral, i.e. not independent</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ggregating across multiple ES may give implausibly large numbers (recall part-whole bias)</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Challenges: Spatial scale</a:t>
            </a:r>
            <a:endParaRPr b="0" lang="en-US" sz="3200" spc="-1" strike="noStrike">
              <a:solidFill>
                <a:srgbClr val="000532"/>
              </a:solidFill>
              <a:latin typeface="Arial"/>
            </a:endParaRPr>
          </a:p>
        </p:txBody>
      </p:sp>
      <p:sp>
        <p:nvSpPr>
          <p:cNvPr id="604"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iffering </a:t>
            </a:r>
            <a:r>
              <a:rPr b="0" i="1" lang="en-GB" sz="2400" spc="-1" strike="noStrike">
                <a:solidFill>
                  <a:srgbClr val="000000"/>
                </a:solidFill>
                <a:latin typeface="Times New Roman"/>
                <a:ea typeface="Times New Roman"/>
              </a:rPr>
              <a:t>spatial scales </a:t>
            </a:r>
            <a:r>
              <a:rPr b="0" lang="en-GB" sz="2400" spc="-1" strike="noStrike">
                <a:solidFill>
                  <a:srgbClr val="000000"/>
                </a:solidFill>
                <a:latin typeface="Times New Roman"/>
                <a:ea typeface="Times New Roman"/>
              </a:rPr>
              <a:t>of ES provision add complexity to BT</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cosystems differ in scale </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S provided at different scales</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mand arises at different scales – use and non-use values</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ssues arise over heterogeneity of site and context characteristics, proximity of complimentary or substitute sites</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GIS can help account for some of these spatial issues</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hallenges: Variations in characteristics and context</a:t>
            </a:r>
            <a:endParaRPr b="0" lang="en-US" sz="2800" spc="-1" strike="noStrike">
              <a:solidFill>
                <a:srgbClr val="000532"/>
              </a:solidFill>
              <a:latin typeface="Arial"/>
            </a:endParaRPr>
          </a:p>
        </p:txBody>
      </p:sp>
      <p:sp>
        <p:nvSpPr>
          <p:cNvPr id="606"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Values are influenced by:</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Characteristics of site</a:t>
            </a:r>
            <a:r>
              <a:rPr b="0" lang="en-GB" sz="2400" spc="-1" strike="noStrike">
                <a:solidFill>
                  <a:srgbClr val="000000"/>
                </a:solidFill>
                <a:latin typeface="Times New Roman"/>
                <a:ea typeface="Times New Roman"/>
              </a:rPr>
              <a:t>: area, integrity, type of ecosystem</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Beneficiaries</a:t>
            </a:r>
            <a:r>
              <a:rPr b="0" lang="en-GB" sz="2400" spc="-1" strike="noStrike">
                <a:solidFill>
                  <a:srgbClr val="000000"/>
                </a:solidFill>
                <a:latin typeface="Times New Roman"/>
                <a:ea typeface="Times New Roman"/>
              </a:rPr>
              <a:t>: distance to site, number of beneficiaries, income, preferences, cultur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Context</a:t>
            </a:r>
            <a:r>
              <a:rPr b="0" lang="en-GB" sz="2400" spc="-1" strike="noStrike">
                <a:solidFill>
                  <a:srgbClr val="000000"/>
                </a:solidFill>
                <a:latin typeface="Times New Roman"/>
                <a:ea typeface="Times New Roman"/>
              </a:rPr>
              <a:t>: availability of substitute and complimentary sites and services</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hallenges: Non-constant marginal values</a:t>
            </a:r>
            <a:endParaRPr b="0" lang="en-US" sz="2800" spc="-1" strike="noStrike">
              <a:solidFill>
                <a:srgbClr val="000532"/>
              </a:solidFill>
              <a:latin typeface="Arial"/>
            </a:endParaRPr>
          </a:p>
        </p:txBody>
      </p:sp>
      <p:sp>
        <p:nvSpPr>
          <p:cNvPr id="608"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 ES values exhibit diminishing returns to scale</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 additional hectare of forest added to a 10ha site may be worth more than the same increase for a 100ha site</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ome ES may exhibit increasing returns to scale, e.g. area of ecosystem </a:t>
            </a:r>
            <a:r>
              <a:rPr b="0" i="1" lang="en-GB" sz="2400" spc="-1" strike="noStrike">
                <a:solidFill>
                  <a:srgbClr val="000000"/>
                </a:solidFill>
                <a:latin typeface="Times New Roman"/>
                <a:ea typeface="Times New Roman"/>
              </a:rPr>
              <a:t>needed</a:t>
            </a:r>
            <a:r>
              <a:rPr b="0" lang="en-GB" sz="2400" spc="-1" strike="noStrike">
                <a:solidFill>
                  <a:srgbClr val="000000"/>
                </a:solidFill>
                <a:latin typeface="Times New Roman"/>
                <a:ea typeface="Times New Roman"/>
              </a:rPr>
              <a:t> to support a large predator</a:t>
            </a: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inear adjustments for changing ecosystem extent are likely to be inadequate:</a:t>
            </a:r>
            <a:endParaRPr b="0" lang="en-US" sz="24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non-linearities </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step changes</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thresholds</a:t>
            </a:r>
            <a:endParaRPr b="0" lang="en-US" sz="2200" spc="-1" strike="noStrike">
              <a:solidFill>
                <a:srgbClr val="000532"/>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Challenges: Distance decay</a:t>
            </a:r>
            <a:endParaRPr b="0" lang="en-US" sz="3200" spc="-1" strike="noStrike">
              <a:solidFill>
                <a:srgbClr val="000532"/>
              </a:solidFill>
              <a:latin typeface="Arial"/>
            </a:endParaRPr>
          </a:p>
        </p:txBody>
      </p:sp>
      <p:sp>
        <p:nvSpPr>
          <p:cNvPr id="610"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Distance decay</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Rate of distance decay likely to vary across E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Direct use values likely to have strong distance effect </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Non-use values may exhibit distance decay, </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ultural or political boundaries may be more important</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ome charismatic species (e.g. pandas, tigers, whales) may have zero rate of spatial discounting</a:t>
            </a: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hallenges: Equity weighting</a:t>
            </a:r>
            <a:endParaRPr b="0" lang="en-US" sz="2800" spc="-1" strike="noStrike">
              <a:solidFill>
                <a:srgbClr val="000532"/>
              </a:solidFill>
              <a:latin typeface="Arial"/>
            </a:endParaRPr>
          </a:p>
        </p:txBody>
      </p:sp>
      <p:sp>
        <p:nvSpPr>
          <p:cNvPr id="612" name=""/>
          <p:cNvSpPr txBox="1"/>
          <p:nvPr/>
        </p:nvSpPr>
        <p:spPr>
          <a:xfrm>
            <a:off x="457200" y="1854360"/>
            <a:ext cx="8229600" cy="42717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Expectation that WTP is positively related to income</a:t>
            </a:r>
            <a:endParaRPr b="0" lang="en-US" sz="24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ncomes vary across sites and beneficiaries, so some adjustment is needed</a:t>
            </a:r>
            <a:endParaRPr b="0" lang="en-US" sz="22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ut poorer people (esp. developing countries) are more reliant on ES and vulnerable to loss of ES</a:t>
            </a:r>
            <a:endParaRPr b="0" lang="en-US" sz="24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elfare losses are higher for the poor than for the wealthy</a:t>
            </a:r>
            <a:endParaRPr b="0" lang="en-US" sz="24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Marginal utility of consumption is declining in consumption </a:t>
            </a:r>
            <a:endParaRPr b="0" lang="en-US" sz="2200" spc="-1" strike="noStrike">
              <a:solidFill>
                <a:srgbClr val="000532"/>
              </a:solidFill>
              <a:latin typeface="Arial"/>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a wealthy person with high consumption gains less from an additional unit than a poor person with lower overall consumption</a:t>
            </a:r>
            <a:endParaRPr b="0" lang="en-US" sz="2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hallenges: Availability of primary studies</a:t>
            </a:r>
            <a:endParaRPr b="0" lang="en-US" sz="2800" spc="-1" strike="noStrike">
              <a:solidFill>
                <a:srgbClr val="000532"/>
              </a:solidFill>
              <a:latin typeface="Arial"/>
            </a:endParaRPr>
          </a:p>
        </p:txBody>
      </p:sp>
      <p:sp>
        <p:nvSpPr>
          <p:cNvPr id="614"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Important to have sufficient primary studies of high quality for all relevant ecosystem types, ES, and socio-economic and cultural contexts</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ell represented: </a:t>
            </a:r>
            <a:r>
              <a:rPr b="0" i="1" lang="en-GB" sz="2400" spc="-1" strike="noStrike">
                <a:solidFill>
                  <a:srgbClr val="000000"/>
                </a:solidFill>
                <a:latin typeface="Times New Roman"/>
                <a:ea typeface="Times New Roman"/>
              </a:rPr>
              <a:t>wetlands</a:t>
            </a:r>
            <a:r>
              <a:rPr b="0" lang="en-GB" sz="2400" spc="-1" strike="noStrike">
                <a:solidFill>
                  <a:srgbClr val="000000"/>
                </a:solidFill>
                <a:latin typeface="Times New Roman"/>
                <a:ea typeface="Times New Roman"/>
              </a:rPr>
              <a:t> and </a:t>
            </a:r>
            <a:r>
              <a:rPr b="0" i="1" lang="en-GB" sz="2400" spc="-1" strike="noStrike">
                <a:solidFill>
                  <a:srgbClr val="000000"/>
                </a:solidFill>
                <a:latin typeface="Times New Roman"/>
                <a:ea typeface="Times New Roman"/>
              </a:rPr>
              <a:t>forest</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nder-represented: </a:t>
            </a:r>
            <a:r>
              <a:rPr b="0" i="1" lang="en-GB" sz="2400" spc="-1" strike="noStrike">
                <a:solidFill>
                  <a:srgbClr val="000000"/>
                </a:solidFill>
                <a:latin typeface="Times New Roman"/>
                <a:ea typeface="Times New Roman"/>
              </a:rPr>
              <a:t>marine</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grassland</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mountain</a:t>
            </a:r>
            <a:r>
              <a:rPr b="0" lang="en-GB" sz="2400" spc="-1" strike="noStrike">
                <a:solidFill>
                  <a:srgbClr val="000000"/>
                </a:solidFill>
                <a:latin typeface="Times New Roman"/>
                <a:ea typeface="Times New Roman"/>
              </a:rPr>
              <a:t> ecosystem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ell represented: </a:t>
            </a:r>
            <a:r>
              <a:rPr b="0" i="1" lang="en-GB" sz="2400" spc="-1" strike="noStrike">
                <a:solidFill>
                  <a:srgbClr val="000000"/>
                </a:solidFill>
                <a:latin typeface="Times New Roman"/>
                <a:ea typeface="Times New Roman"/>
              </a:rPr>
              <a:t>recreation</a:t>
            </a: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environmental ameniti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nder-represented: </a:t>
            </a:r>
            <a:r>
              <a:rPr b="0" i="1" lang="en-GB" sz="2400" spc="-1" strike="noStrike">
                <a:solidFill>
                  <a:srgbClr val="000000"/>
                </a:solidFill>
                <a:latin typeface="Times New Roman"/>
                <a:ea typeface="Times New Roman"/>
              </a:rPr>
              <a:t>regulating services</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Few valuation studies in developing countries</a:t>
            </a: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caling-up values of ecosystem services</a:t>
            </a:r>
            <a:endParaRPr b="0" lang="en-US" sz="3200" spc="-1" strike="noStrike">
              <a:solidFill>
                <a:srgbClr val="000532"/>
              </a:solidFill>
              <a:latin typeface="Arial"/>
            </a:endParaRPr>
          </a:p>
        </p:txBody>
      </p:sp>
      <p:sp>
        <p:nvSpPr>
          <p:cNvPr id="616" name=""/>
          <p:cNvSpPr txBox="1"/>
          <p:nvPr/>
        </p:nvSpPr>
        <p:spPr>
          <a:xfrm>
            <a:off x="539280" y="2276280"/>
            <a:ext cx="4038840" cy="38494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We may be interested in estimating the value of the total stock of an ecosystem or of all ES within a large region, i.e. to scale-up values</a:t>
            </a:r>
            <a:endParaRPr b="0" lang="en-US" sz="2200" spc="-1" strike="noStrike">
              <a:solidFill>
                <a:srgbClr val="000532"/>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We cannot simply add up all the estimated values from smaller sites</a:t>
            </a:r>
            <a:endParaRPr b="0" lang="en-US" sz="2200" spc="-1" strike="noStrike">
              <a:solidFill>
                <a:srgbClr val="000532"/>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Appropriateness of marginal values depends on our position on the ES demand curve</a:t>
            </a:r>
            <a:endParaRPr b="0" lang="en-US" sz="2200" spc="-1" strike="noStrike">
              <a:solidFill>
                <a:srgbClr val="000532"/>
              </a:solidFill>
              <a:latin typeface="Arial"/>
            </a:endParaRPr>
          </a:p>
        </p:txBody>
      </p:sp>
      <p:pic>
        <p:nvPicPr>
          <p:cNvPr id="617" name="Picture 2" descr=""/>
          <p:cNvPicPr/>
          <p:nvPr/>
        </p:nvPicPr>
        <p:blipFill>
          <a:blip r:embed="rId1"/>
          <a:stretch/>
        </p:blipFill>
        <p:spPr>
          <a:xfrm>
            <a:off x="4578480" y="2133720"/>
            <a:ext cx="4336920" cy="273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ummary on Benefits Transfer</a:t>
            </a:r>
            <a:endParaRPr b="0" lang="en-US" sz="3200" spc="-1" strike="noStrike">
              <a:solidFill>
                <a:srgbClr val="000532"/>
              </a:solidFill>
              <a:latin typeface="Arial"/>
            </a:endParaRPr>
          </a:p>
        </p:txBody>
      </p:sp>
      <p:sp>
        <p:nvSpPr>
          <p:cNvPr id="619" name=""/>
          <p:cNvSpPr txBox="1"/>
          <p:nvPr/>
        </p:nvSpPr>
        <p:spPr>
          <a:xfrm>
            <a:off x="457200" y="1854360"/>
            <a:ext cx="8229600" cy="42717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T seeks to use existing values to avoid expense and time needed for primary valuation study</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alue function and meta-analytic BT preferred to unit BT as accounts for differences between sites and beneficiaries – but can be expensive and time consuming to do robustly</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BT is prone to errors due to poor primary studies, generalisation during transfer, and publication bias</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number of challenges arise due to complex nature of ecosystems, ES provision, context and differing socio-economic factors</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caling-up raises particular challenges due to changing marginal values and critical thresholds</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81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Uncertainty: Outline</a:t>
            </a:r>
            <a:endParaRPr b="0" lang="en-US" sz="3200" spc="-1" strike="noStrike">
              <a:solidFill>
                <a:srgbClr val="000532"/>
              </a:solidFill>
              <a:latin typeface="Arial"/>
            </a:endParaRPr>
          </a:p>
        </p:txBody>
      </p:sp>
      <p:sp>
        <p:nvSpPr>
          <p:cNvPr id="621" name="PlaceHolder 2"/>
          <p:cNvSpPr>
            <a:spLocks noGrp="1"/>
          </p:cNvSpPr>
          <p:nvPr>
            <p:ph/>
          </p:nvPr>
        </p:nvSpPr>
        <p:spPr>
          <a:xfrm>
            <a:off x="457200" y="2276280"/>
            <a:ext cx="8229600" cy="3849480"/>
          </a:xfrm>
          <a:prstGeom prst="rect">
            <a:avLst/>
          </a:prstGeom>
          <a:noFill/>
          <a:ln w="0">
            <a:noFill/>
          </a:ln>
        </p:spPr>
        <p:txBody>
          <a:bodyPr anchor="t">
            <a:normAutofit/>
          </a:bodyPr>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upply uncertainty</a:t>
            </a:r>
            <a:endParaRPr b="0" lang="en-US" sz="3200" spc="-1" strike="noStrike">
              <a:solidFill>
                <a:srgbClr val="000532"/>
              </a:solidFill>
              <a:latin typeface="Arial"/>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Preference uncertainty</a:t>
            </a:r>
            <a:endParaRPr b="0" lang="en-US" sz="3200" spc="-1" strike="noStrike">
              <a:solidFill>
                <a:srgbClr val="000532"/>
              </a:solidFill>
              <a:latin typeface="Arial"/>
            </a:endParaRPr>
          </a:p>
          <a:p>
            <a:pPr marL="514440" indent="-51444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echnical uncertainty</a:t>
            </a:r>
            <a:endParaRPr b="0" lang="en-US" sz="3200" spc="-1" strike="noStrike">
              <a:solidFill>
                <a:srgbClr val="000532"/>
              </a:solidFill>
              <a:latin typeface="Arial"/>
            </a:endParaRPr>
          </a:p>
          <a:p>
            <a:pPr marL="514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a:p>
            <a:pPr marL="5144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Outline</a:t>
            </a:r>
            <a:endParaRPr b="0" lang="en-US" sz="3600" spc="-1" strike="noStrike">
              <a:solidFill>
                <a:srgbClr val="000532"/>
              </a:solidFill>
              <a:latin typeface="Arial"/>
            </a:endParaRPr>
          </a:p>
        </p:txBody>
      </p:sp>
      <p:sp>
        <p:nvSpPr>
          <p:cNvPr id="583"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Benefits transfer</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at is benefit transfer?</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pproaches to benefit transfer</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alleng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caling-up values</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Uncertainty in valuation</a:t>
            </a: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upply uncertainty </a:t>
            </a:r>
            <a:endParaRPr b="0" lang="en-US" sz="3200" spc="-1" strike="noStrike">
              <a:solidFill>
                <a:srgbClr val="000532"/>
              </a:solidFill>
              <a:latin typeface="Arial"/>
            </a:endParaRPr>
          </a:p>
        </p:txBody>
      </p:sp>
      <p:sp>
        <p:nvSpPr>
          <p:cNvPr id="623" name=""/>
          <p:cNvSpPr txBox="1"/>
          <p:nvPr/>
        </p:nvSpPr>
        <p:spPr>
          <a:xfrm>
            <a:off x="457200" y="1854360"/>
            <a:ext cx="8229600" cy="42717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e might not have information on ecosystem functioning and how biodiversity supports provision of ecosystem services</a:t>
            </a: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at we can typically measure is </a:t>
            </a:r>
            <a:r>
              <a:rPr b="0" i="1" lang="en-GB" sz="2400" spc="-1" strike="noStrike">
                <a:solidFill>
                  <a:srgbClr val="000000"/>
                </a:solidFill>
                <a:latin typeface="Times New Roman"/>
                <a:ea typeface="Times New Roman"/>
              </a:rPr>
              <a:t>quantity</a:t>
            </a:r>
            <a:r>
              <a:rPr b="0" lang="en-GB" sz="2400" spc="-1" strike="noStrike">
                <a:solidFill>
                  <a:srgbClr val="000000"/>
                </a:solidFill>
                <a:latin typeface="Times New Roman"/>
                <a:ea typeface="Times New Roman"/>
              </a:rPr>
              <a:t> rather than </a:t>
            </a:r>
            <a:r>
              <a:rPr b="0" i="1" lang="en-GB" sz="2400" spc="-1" strike="noStrike">
                <a:solidFill>
                  <a:srgbClr val="000000"/>
                </a:solidFill>
                <a:latin typeface="Times New Roman"/>
                <a:ea typeface="Times New Roman"/>
              </a:rPr>
              <a:t>quality</a:t>
            </a:r>
            <a:r>
              <a:rPr b="0" lang="en-GB" sz="2400" spc="-1" strike="noStrike">
                <a:solidFill>
                  <a:srgbClr val="000000"/>
                </a:solidFill>
                <a:latin typeface="Times New Roman"/>
                <a:ea typeface="Times New Roman"/>
              </a:rPr>
              <a:t>: </a:t>
            </a:r>
            <a:endParaRPr b="0" lang="en-US" sz="2400" spc="-1" strike="noStrike">
              <a:solidFill>
                <a:srgbClr val="000532"/>
              </a:solidFill>
              <a:latin typeface="Arial"/>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value is applied to quantity of biomass or extent of ecosystem (e.g. hectares) rather than quality</a:t>
            </a:r>
            <a:endParaRPr b="0" lang="en-US" sz="2200" spc="-1" strike="noStrike">
              <a:solidFill>
                <a:srgbClr val="000532"/>
              </a:solidFill>
              <a:latin typeface="Arial"/>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Valuation may also focus on more identifiable resources (e.g. charismatic species)</a:t>
            </a:r>
            <a:endParaRPr b="0" lang="en-US" sz="22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xtent to which this is a problem depends on motivation for valuation</a:t>
            </a:r>
            <a:endParaRPr b="0" lang="en-US" sz="2400" spc="-1" strike="noStrike">
              <a:solidFill>
                <a:srgbClr val="000532"/>
              </a:solidFill>
              <a:latin typeface="Arial"/>
            </a:endParaRPr>
          </a:p>
          <a:p>
            <a:pPr lvl="1" marL="743040" indent="-28584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f we value per hectare but there is large variability per hectare then our assessments will be flawed</a:t>
            </a:r>
            <a:endParaRPr b="0" lang="en-US" sz="22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upply uncertainty 1</a:t>
            </a:r>
            <a:endParaRPr b="0" lang="en-US" sz="3200" spc="-1" strike="noStrike">
              <a:solidFill>
                <a:srgbClr val="000532"/>
              </a:solidFill>
              <a:latin typeface="Arial"/>
            </a:endParaRPr>
          </a:p>
        </p:txBody>
      </p:sp>
      <p:sp>
        <p:nvSpPr>
          <p:cNvPr id="625"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Where states of nature are identifiable and probability can be assigned then </a:t>
            </a:r>
            <a:r>
              <a:rPr b="0" i="1" lang="en-GB" sz="2800" spc="-1" strike="noStrike">
                <a:solidFill>
                  <a:srgbClr val="000000"/>
                </a:solidFill>
                <a:latin typeface="Times New Roman"/>
                <a:ea typeface="Times New Roman"/>
              </a:rPr>
              <a:t>expected values</a:t>
            </a:r>
            <a:r>
              <a:rPr b="0" lang="en-GB" sz="2800" spc="-1" strike="noStrike">
                <a:solidFill>
                  <a:srgbClr val="000000"/>
                </a:solidFill>
                <a:latin typeface="Times New Roman"/>
                <a:ea typeface="Times New Roman"/>
              </a:rPr>
              <a:t> may be estimated</a:t>
            </a:r>
            <a:endParaRPr b="0" lang="en-US" sz="2800" spc="-1" strike="noStrike">
              <a:solidFill>
                <a:srgbClr val="000532"/>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Potential outcomes are weighted by probability of occurrence</a:t>
            </a:r>
            <a:endParaRPr b="0" lang="en-US" sz="2800" spc="-1" strike="noStrike">
              <a:solidFill>
                <a:srgbClr val="000532"/>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For example: the </a:t>
            </a:r>
            <a:r>
              <a:rPr b="0" i="1" lang="en-GB" sz="2800" spc="-1" strike="noStrike">
                <a:solidFill>
                  <a:srgbClr val="000000"/>
                </a:solidFill>
                <a:latin typeface="Times New Roman"/>
                <a:ea typeface="Times New Roman"/>
              </a:rPr>
              <a:t>expected</a:t>
            </a:r>
            <a:r>
              <a:rPr b="0" lang="en-GB" sz="2800" spc="-1" strike="noStrike">
                <a:solidFill>
                  <a:srgbClr val="000000"/>
                </a:solidFill>
                <a:latin typeface="Times New Roman"/>
                <a:ea typeface="Times New Roman"/>
              </a:rPr>
              <a:t> level of carbon sequestration of a set of forest tree species is related to rainfall patterns (states of nature)</a:t>
            </a:r>
            <a:endParaRPr b="0" lang="en-US" sz="2800" spc="-1" strike="noStrike">
              <a:solidFill>
                <a:srgbClr val="000532"/>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90756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Supply uncertainty 2</a:t>
            </a:r>
            <a:endParaRPr b="0" lang="en-US" sz="3200" spc="-1" strike="noStrike">
              <a:solidFill>
                <a:srgbClr val="000532"/>
              </a:solidFill>
              <a:latin typeface="Arial"/>
            </a:endParaRPr>
          </a:p>
        </p:txBody>
      </p:sp>
      <p:sp>
        <p:nvSpPr>
          <p:cNvPr id="627"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Barbier (2007) uses an estimated damage function (EDF) approach to values the storm protection benefits of coastal wetland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hanges in wetland area affect the probability and severity of economically damaging storm events (states of nature)</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TP for expected damages resulting from changes in ecosystem stocks</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Requires sufficient data on incidence of past events and changes in wetland area</a:t>
            </a: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Preference uncertainty</a:t>
            </a:r>
            <a:endParaRPr b="0" lang="en-US" sz="3200" spc="-1" strike="noStrike">
              <a:solidFill>
                <a:srgbClr val="000532"/>
              </a:solidFill>
              <a:latin typeface="Arial"/>
            </a:endParaRPr>
          </a:p>
        </p:txBody>
      </p:sp>
      <p:sp>
        <p:nvSpPr>
          <p:cNvPr id="629"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Valuation often assumes that preferences are known with certainty, i.e. they are aware of their WTP for a given ecosystem service</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Evidence suggests otherwise:</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spondents adopt heuristic rather than systematic mode when processing  information</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nfamiliar hypothetical market for an unfamiliar or intangible good</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re are three methods for dealing with preference uncertainty in CVM</a:t>
            </a:r>
            <a:endParaRPr b="0" lang="en-US" sz="2600" spc="-1" strike="noStrike">
              <a:solidFill>
                <a:srgbClr val="000532"/>
              </a:solidFill>
              <a:latin typeface="Arial"/>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Preference uncertainty</a:t>
            </a:r>
            <a:endParaRPr b="0" lang="en-US" sz="3200" spc="-1" strike="noStrike">
              <a:solidFill>
                <a:srgbClr val="000532"/>
              </a:solidFill>
              <a:latin typeface="Arial"/>
            </a:endParaRPr>
          </a:p>
        </p:txBody>
      </p:sp>
      <p:sp>
        <p:nvSpPr>
          <p:cNvPr id="631"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sk respondents to state how certain they are about their WTP answer (e.g. Loomis &amp; Ekstrand 1998)</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oes not solve problem of uncertainty </a:t>
            </a:r>
            <a:r>
              <a:rPr b="0" i="1" lang="en-GB" sz="2400" spc="-1" strike="noStrike">
                <a:solidFill>
                  <a:srgbClr val="000000"/>
                </a:solidFill>
                <a:latin typeface="Times New Roman"/>
                <a:ea typeface="Times New Roman"/>
              </a:rPr>
              <a:t>per s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vestigates whether respondents’ perceptions and attitudes are correlated with self-reported ‘certainty score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pic>
        <p:nvPicPr>
          <p:cNvPr id="632" name="Picture 2" descr=""/>
          <p:cNvPicPr/>
          <p:nvPr/>
        </p:nvPicPr>
        <p:blipFill>
          <a:blip r:embed="rId1"/>
          <a:stretch/>
        </p:blipFill>
        <p:spPr>
          <a:xfrm>
            <a:off x="398520" y="4508640"/>
            <a:ext cx="8480520" cy="1306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68360" y="981000"/>
            <a:ext cx="8229600" cy="87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Preference uncertainty</a:t>
            </a:r>
            <a:endParaRPr b="0" lang="en-US" sz="3200" spc="-1" strike="noStrike">
              <a:solidFill>
                <a:srgbClr val="000532"/>
              </a:solidFill>
              <a:latin typeface="Arial"/>
            </a:endParaRPr>
          </a:p>
        </p:txBody>
      </p:sp>
      <p:sp>
        <p:nvSpPr>
          <p:cNvPr id="634" name=""/>
          <p:cNvSpPr txBox="1"/>
          <p:nvPr/>
        </p:nvSpPr>
        <p:spPr>
          <a:xfrm>
            <a:off x="468360" y="1852560"/>
            <a:ext cx="8229600" cy="674640"/>
          </a:xfrm>
          <a:prstGeom prst="rect">
            <a:avLst/>
          </a:prstGeom>
          <a:noFill/>
          <a:ln w="0">
            <a:noFill/>
          </a:ln>
        </p:spPr>
        <p:txBody>
          <a:bodyPr anchor="t">
            <a:normAutofit fontScale="84000"/>
          </a:bodyPr>
          <a:p>
            <a:pPr marL="288000" indent="-2880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troduce uncertainty directly using multiple (bounded) WTP questions</a:t>
            </a:r>
            <a:endParaRPr b="0" lang="en-US" sz="2400" spc="-1" strike="noStrike">
              <a:solidFill>
                <a:srgbClr val="000532"/>
              </a:solidFill>
              <a:latin typeface="Arial"/>
            </a:endParaRPr>
          </a:p>
        </p:txBody>
      </p:sp>
      <p:pic>
        <p:nvPicPr>
          <p:cNvPr id="635" name="Picture 2" descr=""/>
          <p:cNvPicPr/>
          <p:nvPr/>
        </p:nvPicPr>
        <p:blipFill>
          <a:blip r:embed="rId1"/>
          <a:stretch/>
        </p:blipFill>
        <p:spPr>
          <a:xfrm>
            <a:off x="1422360" y="2708280"/>
            <a:ext cx="5310360" cy="39909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68360" y="865080"/>
            <a:ext cx="8229600" cy="7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Preference uncertainty</a:t>
            </a:r>
            <a:endParaRPr b="0" lang="en-US" sz="3200" spc="-1" strike="noStrike">
              <a:solidFill>
                <a:srgbClr val="000532"/>
              </a:solidFill>
              <a:latin typeface="Arial"/>
            </a:endParaRPr>
          </a:p>
        </p:txBody>
      </p:sp>
      <p:sp>
        <p:nvSpPr>
          <p:cNvPr id="637" name=""/>
          <p:cNvSpPr txBox="1"/>
          <p:nvPr/>
        </p:nvSpPr>
        <p:spPr>
          <a:xfrm>
            <a:off x="457200" y="1599840"/>
            <a:ext cx="8229600" cy="97308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k respondents to give a range of values (e.g. Hanley et al., 2009)</a:t>
            </a:r>
            <a:endParaRPr b="0" lang="en-US" sz="2400" spc="-1" strike="noStrike">
              <a:solidFill>
                <a:srgbClr val="000532"/>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p:txBody>
      </p:sp>
      <p:pic>
        <p:nvPicPr>
          <p:cNvPr id="638" name="Picture 2" descr=""/>
          <p:cNvPicPr/>
          <p:nvPr/>
        </p:nvPicPr>
        <p:blipFill>
          <a:blip r:embed="rId1"/>
          <a:stretch/>
        </p:blipFill>
        <p:spPr>
          <a:xfrm>
            <a:off x="1827360" y="2573280"/>
            <a:ext cx="5624280" cy="3932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77328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Technical uncertainty</a:t>
            </a:r>
            <a:endParaRPr b="0" lang="en-US" sz="3200" spc="-1" strike="noStrike">
              <a:solidFill>
                <a:srgbClr val="000532"/>
              </a:solidFill>
              <a:latin typeface="Arial"/>
            </a:endParaRPr>
          </a:p>
        </p:txBody>
      </p:sp>
      <p:sp>
        <p:nvSpPr>
          <p:cNvPr id="640" name=""/>
          <p:cNvSpPr txBox="1"/>
          <p:nvPr/>
        </p:nvSpPr>
        <p:spPr>
          <a:xfrm>
            <a:off x="457200" y="1672920"/>
            <a:ext cx="8229600" cy="472428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Uncertainty arises from conceptual, methodological and technical aspects of all valuation method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Credibility of stated preferences</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P methods assume that respondents answer truthfully</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Do respondents only answer truthfully if it is their interests to do so?</a:t>
            </a:r>
            <a:endParaRPr b="0" lang="en-US" sz="2600" spc="-1" strike="noStrike">
              <a:solidFill>
                <a:srgbClr val="000532"/>
              </a:solidFill>
              <a:latin typeface="Arial"/>
            </a:endParaRPr>
          </a:p>
          <a:p>
            <a:pPr lvl="1" marL="743040" indent="-2858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Surveys often do not have an mechanism to constrain strategic behaviour </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Quality of the survey will affect credibility</a:t>
            </a:r>
            <a:endParaRPr b="0" lang="en-US" sz="2200" spc="-1" strike="noStrike">
              <a:solidFill>
                <a:srgbClr val="000532"/>
              </a:solidFill>
              <a:latin typeface="Arial"/>
            </a:endParaRPr>
          </a:p>
          <a:p>
            <a:pPr lvl="1" marL="743040" indent="-28584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Sample size will affect margin of error</a:t>
            </a:r>
            <a:endParaRPr b="0" lang="en-US" sz="22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a:p>
            <a:pPr lvl="1" marL="743040" indent="-285840">
              <a:lnSpc>
                <a:spcPct val="10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What is Benefit Transfer?</a:t>
            </a:r>
            <a:endParaRPr b="0" lang="en-US" sz="2800" spc="-1" strike="noStrike">
              <a:solidFill>
                <a:srgbClr val="000532"/>
              </a:solidFill>
              <a:latin typeface="Arial"/>
            </a:endParaRPr>
          </a:p>
        </p:txBody>
      </p:sp>
      <p:sp>
        <p:nvSpPr>
          <p:cNvPr id="585" name=""/>
          <p:cNvSpPr txBox="1"/>
          <p:nvPr/>
        </p:nvSpPr>
        <p:spPr>
          <a:xfrm>
            <a:off x="457200" y="1854360"/>
            <a:ext cx="8229600" cy="4271760"/>
          </a:xfrm>
          <a:prstGeom prst="rect">
            <a:avLst/>
          </a:prstGeom>
          <a:noFill/>
          <a:ln w="0">
            <a:noFill/>
          </a:ln>
        </p:spPr>
        <p:txBody>
          <a:bodyPr anchor="t">
            <a:normAutofit/>
          </a:bodyPr>
          <a:p>
            <a:pPr lvl="1"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BT takes an existing value for an ecosystem or policy change (at the ‘study site’) and applies it to a new, similar, site (the ‘policy site’) </a:t>
            </a:r>
            <a:endParaRPr b="0" lang="en-US" sz="22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y transfer values?</a:t>
            </a:r>
            <a:endParaRPr b="0" lang="en-US" sz="2400" spc="-1" strike="noStrike">
              <a:solidFill>
                <a:srgbClr val="000532"/>
              </a:solidFill>
              <a:latin typeface="Arial"/>
            </a:endParaRPr>
          </a:p>
          <a:p>
            <a:pPr lvl="1"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Ideally new ecological and economic studies would be commissioned</a:t>
            </a:r>
            <a:endParaRPr b="0" lang="en-US" sz="2200" spc="-1" strike="noStrike">
              <a:solidFill>
                <a:srgbClr val="000532"/>
              </a:solidFill>
              <a:latin typeface="Arial"/>
            </a:endParaRPr>
          </a:p>
          <a:p>
            <a:pPr lvl="1"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New valuation studies are expensive and time consuming</a:t>
            </a:r>
            <a:endParaRPr b="0" lang="en-US" sz="22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re are four categories of BT:</a:t>
            </a:r>
            <a:endParaRPr b="0" lang="en-US" sz="2400" spc="-1" strike="noStrike">
              <a:solidFill>
                <a:srgbClr val="000532"/>
              </a:solidFill>
              <a:latin typeface="Arial"/>
            </a:endParaRPr>
          </a:p>
          <a:p>
            <a:pPr lvl="1"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Unit BT</a:t>
            </a:r>
            <a:endParaRPr b="0" lang="en-US" sz="2200" spc="-1" strike="noStrike">
              <a:solidFill>
                <a:srgbClr val="000532"/>
              </a:solidFill>
              <a:latin typeface="Arial"/>
            </a:endParaRPr>
          </a:p>
          <a:p>
            <a:pPr lvl="1"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Adjusted unit BT</a:t>
            </a:r>
            <a:endParaRPr b="0" lang="en-US" sz="2200" spc="-1" strike="noStrike">
              <a:solidFill>
                <a:srgbClr val="000532"/>
              </a:solidFill>
              <a:latin typeface="Arial"/>
            </a:endParaRPr>
          </a:p>
          <a:p>
            <a:pPr lvl="1"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Value function transfer</a:t>
            </a:r>
            <a:endParaRPr b="0" lang="en-US" sz="2200" spc="-1" strike="noStrike">
              <a:solidFill>
                <a:srgbClr val="000532"/>
              </a:solidFill>
              <a:latin typeface="Arial"/>
            </a:endParaRPr>
          </a:p>
          <a:p>
            <a:pPr lvl="1"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Times New Roman"/>
              </a:rPr>
              <a:t>Meta-analytic transfer</a:t>
            </a:r>
            <a:endParaRPr b="0" lang="en-US" sz="2200" spc="-1" strike="noStrike">
              <a:solidFill>
                <a:srgbClr val="000532"/>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lvl="1"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a:p>
            <a:pPr lvl="1"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Unit BT</a:t>
            </a:r>
            <a:endParaRPr b="0" lang="en-US" sz="3200" spc="-1" strike="noStrike">
              <a:solidFill>
                <a:srgbClr val="000532"/>
              </a:solidFill>
              <a:latin typeface="Arial"/>
            </a:endParaRPr>
          </a:p>
        </p:txBody>
      </p:sp>
      <p:sp>
        <p:nvSpPr>
          <p:cNvPr id="587" name=""/>
          <p:cNvSpPr txBox="1"/>
          <p:nvPr/>
        </p:nvSpPr>
        <p:spPr>
          <a:xfrm>
            <a:off x="457200" y="1854360"/>
            <a:ext cx="8229600" cy="4271760"/>
          </a:xfrm>
          <a:prstGeom prst="rect">
            <a:avLst/>
          </a:prstGeom>
          <a:noFill/>
          <a:ln w="0">
            <a:noFill/>
          </a:ln>
        </p:spPr>
        <p:txBody>
          <a:bodyPr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ean WTP value is taken from study site and directly applied to policy site</a:t>
            </a:r>
            <a:endParaRPr b="0" lang="en-US" sz="26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Value per person/household or per unit (e.g. hectare) is multiplied by population or units at study site</a:t>
            </a:r>
            <a:endParaRPr b="0" lang="en-US" sz="26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Quick and simple but ignores differences between study and policy sites</a:t>
            </a:r>
            <a:endParaRPr b="0" lang="en-US" sz="26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djusted unit BT</a:t>
            </a:r>
            <a:endParaRPr b="0" lang="en-US" sz="2600" spc="-1" strike="noStrike">
              <a:solidFill>
                <a:srgbClr val="000532"/>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imple adjustments made for differences between study and policy sites e.g. incomes or prices</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8" name="Object 55" descr=""/>
          <p:cNvPicPr/>
          <p:nvPr/>
        </p:nvPicPr>
        <p:blipFill>
          <a:blip r:embed="rId1"/>
          <a:stretch/>
        </p:blipFill>
        <p:spPr>
          <a:xfrm>
            <a:off x="0" y="0"/>
            <a:ext cx="158760" cy="158760"/>
          </a:xfrm>
          <a:prstGeom prst="rect">
            <a:avLst/>
          </a:prstGeom>
          <a:ln w="0">
            <a:noFill/>
          </a:ln>
        </p:spPr>
      </p:pic>
      <p:sp>
        <p:nvSpPr>
          <p:cNvPr id="589"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Value function transfer</a:t>
            </a:r>
            <a:endParaRPr b="0" lang="en-US" sz="3200" spc="-1" strike="noStrike">
              <a:solidFill>
                <a:srgbClr val="000532"/>
              </a:solidFill>
              <a:latin typeface="Arial"/>
            </a:endParaRPr>
          </a:p>
        </p:txBody>
      </p:sp>
      <p:sp>
        <p:nvSpPr>
          <p:cNvPr id="590"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Value functions (e.g. regression equations) are estimated for study site</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arameter (coefficient) estimates for explanatory variables are applied to those variable for study site</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e. variables such as income, age, attitudes etc. have the same effect on values at both study and policy sites</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akes into account wider range of differences between study and policy sites than simple adjustment of values</a:t>
            </a:r>
            <a:endParaRPr b="0" lang="en-US" sz="2600" spc="-1" strike="noStrike">
              <a:solidFill>
                <a:srgbClr val="000532"/>
              </a:solidFill>
              <a:latin typeface="Arial"/>
            </a:endParaRPr>
          </a:p>
        </p:txBody>
      </p:sp>
      <p:sp>
        <p:nvSpPr>
          <p:cNvPr id="5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Meta-analytic function transfer</a:t>
            </a:r>
            <a:endParaRPr b="0" lang="en-US" sz="3200" spc="-1" strike="noStrike">
              <a:solidFill>
                <a:srgbClr val="000532"/>
              </a:solidFill>
              <a:latin typeface="Arial"/>
            </a:endParaRPr>
          </a:p>
        </p:txBody>
      </p:sp>
      <p:sp>
        <p:nvSpPr>
          <p:cNvPr id="594"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Multiple valuation studies are collected and value function is estimated</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llows greater variation of site and socio-economic characteristics to be considered</a:t>
            </a: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Complexity of BT approaches</a:t>
            </a:r>
            <a:endParaRPr b="0" lang="en-US" sz="3200" spc="-1" strike="noStrike">
              <a:solidFill>
                <a:srgbClr val="000532"/>
              </a:solidFill>
              <a:latin typeface="Arial"/>
            </a:endParaRPr>
          </a:p>
        </p:txBody>
      </p:sp>
      <p:sp>
        <p:nvSpPr>
          <p:cNvPr id="596" name=""/>
          <p:cNvSpPr txBox="1"/>
          <p:nvPr/>
        </p:nvSpPr>
        <p:spPr>
          <a:xfrm>
            <a:off x="457200" y="1854360"/>
            <a:ext cx="8229600" cy="42717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se approaches show increasing complexity</a:t>
            </a:r>
            <a:endParaRPr b="0" lang="en-US" sz="24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nit BT may provide the most accurate transfer value if primary study was high quality, robust and site characteristics have little variation</a:t>
            </a:r>
            <a:endParaRPr b="0" lang="en-US" sz="24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eta-analytic transfer can be time consuming and expensive due to need to collect and code a database of primary studies</a:t>
            </a:r>
            <a:endParaRPr b="0" lang="en-US" sz="24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t all values are expressed in per household/person terms (e.g. production function, net factor income) or benefiting population cannot be identified, area based units (e.g. $ or £/ha) are preferred</a:t>
            </a:r>
            <a:endParaRPr b="0" lang="en-US" sz="24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Challenges: Transfer errors</a:t>
            </a:r>
            <a:endParaRPr b="0" lang="en-US" sz="3200" spc="-1" strike="noStrike">
              <a:solidFill>
                <a:srgbClr val="000532"/>
              </a:solidFill>
              <a:latin typeface="Arial"/>
            </a:endParaRPr>
          </a:p>
        </p:txBody>
      </p:sp>
      <p:sp>
        <p:nvSpPr>
          <p:cNvPr id="598"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ransferred values may differ significantly from actual values</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ree sources of error:</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rrors in original measures of value at study sit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rrors arising during transfer</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ublication selection bias</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Value function and meta-analytic transfers typically give lower transfer errors</a:t>
            </a: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Challenges: Aggregation</a:t>
            </a:r>
            <a:endParaRPr b="0" lang="en-US" sz="2800" spc="-1" strike="noStrike">
              <a:solidFill>
                <a:srgbClr val="000532"/>
              </a:solidFill>
              <a:latin typeface="Arial"/>
            </a:endParaRPr>
          </a:p>
        </p:txBody>
      </p:sp>
      <p:sp>
        <p:nvSpPr>
          <p:cNvPr id="600"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ggregation is the multiplication of unit values by the quantity of those units to estimate total value</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 household/person values – need to know size of the ‘market’, i.e. how many people hold values for the resource</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er unit area values – need to know area of ecosystem to transfer to</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5:11:18Z</dcterms:created>
  <dc:creator>KREBS</dc:creator>
  <dc:description/>
  <dc:language>en-US</dc:language>
  <cp:lastModifiedBy>KREBS</cp:lastModifiedBy>
  <dcterms:modified xsi:type="dcterms:W3CDTF">2013-08-05T15:12:31Z</dcterms:modified>
  <cp:revision>1</cp:revision>
  <dc:subject/>
  <dc:title>PowerPoint Presentation</dc:title>
</cp:coreProperties>
</file>