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32779-251C-47A6-BC80-BCA4C1B6C9E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DE7B9-0BE4-483A-874E-C1578D4E7763}" type="slidenum">
              <a:rPr b="0" lang="en-US" sz="1200" spc="-1" strike="noStrike">
                <a:solidFill>
                  <a:srgbClr val="ffffff"/>
                </a:solidFill>
                <a:latin typeface="Calibri"/>
                <a:ea typeface="SimSun"/>
              </a:rPr>
              <a:t>&lt;number&gt;</a:t>
            </a:fld>
            <a:endParaRPr b="0" lang="en-US" sz="1200" spc="-1" strike="noStrike">
              <a:solidFill>
                <a:srgbClr val="ffffff"/>
              </a:solidFill>
              <a:latin typeface="Arial"/>
            </a:endParaRPr>
          </a:p>
        </p:txBody>
      </p:sp>
      <p:sp>
        <p:nvSpPr>
          <p:cNvPr id="609" name="PlaceHolder 1"/>
          <p:cNvSpPr>
            <a:spLocks noGrp="1"/>
          </p:cNvSpPr>
          <p:nvPr>
            <p:ph type="sldImg"/>
          </p:nvPr>
        </p:nvSpPr>
        <p:spPr>
          <a:xfrm>
            <a:off x="1144440" y="687240"/>
            <a:ext cx="4569120" cy="3427560"/>
          </a:xfrm>
          <a:prstGeom prst="rect">
            <a:avLst/>
          </a:prstGeom>
          <a:ln w="0">
            <a:noFill/>
          </a:ln>
        </p:spPr>
      </p:sp>
      <p:sp>
        <p:nvSpPr>
          <p:cNvPr id="610" name="PlaceHolder 2"/>
          <p:cNvSpPr>
            <a:spLocks noGrp="1"/>
          </p:cNvSpPr>
          <p:nvPr>
            <p:ph type="body"/>
          </p:nvPr>
        </p:nvSpPr>
        <p:spPr>
          <a:xfrm>
            <a:off x="685800" y="434196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his session needs to be broken up a bit – starting with criticisms and then possible ways to respond to these criticism or indeed highlighting the potential of valuation, particularly in the context of TEEB</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is session will consider some of the criticisms that have been made of environmental valuation, specifically from within the branch of economics known as ecological economics. These criticisms should be acknowledged as they reflect a wider unease with the use of valuation and highlight some instances where valuation may not be appropriate. Specifically, valuation is often seen as falling within a ‘Western’ or capitalist philosophical and economic viewpoint which may not be universally shared.</a:t>
            </a: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378E-20AE-4FEB-885E-0987299E74CC}" type="slidenum">
              <a:rPr b="0" lang="en-GB" sz="1200" spc="-1" strike="noStrike">
                <a:solidFill>
                  <a:srgbClr val="000000"/>
                </a:solidFill>
                <a:latin typeface="Calibri"/>
                <a:ea typeface="SimSun"/>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when eliciting values from people we make a number of important assumptions about how these values ari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Outline</a:t>
            </a:r>
            <a:r>
              <a:rPr b="0" lang="en-US" sz="1200" spc="-1" strike="noStrike">
                <a:solidFill>
                  <a:srgbClr val="000000"/>
                </a:solidFill>
                <a:latin typeface="Calibri"/>
              </a:rPr>
              <a:t> the key assum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by valuing the environment we change our perception of i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notions become universal rather than persona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ter our concepts of ownership and property – specifically these may now be impli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ation commodifies nature and changes our perception and appreciation.</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model of decision-making assumed by economic theory and valuation are not consistent with empirical evidence from psychological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economics assumes rational choice rather than intuition and that the focus on the outcome of the choice in economics neglect the process by which decisions are made. In essence people can be both irrational (although not inconsistent in choices) and that the process by which a choice is made may actually influence the cho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to some extent this latter point is recognised in the potential for information and hypothetical biases in stated preference approache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 that by placing value on the environment we are in effect attaching property rights that may not have previously been recognised. In essence valuation commodifies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allocation of property rights has also been linked to the increasing emphasis on the importance of ethnic groups and indigenous population in resource management. Responsibility has been passed to these groups, but this migth also have to greater fragmentation of management and in some case confli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sely, ‘traditional’ knowledge can be consider vital to understanding the value of biodiversity necessary to obtain the value of medicinal plants, crop varieties, forest resourc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io prospecting seeks to exploit this knowledge, resources and knowledge are appropriated by ‘powerful corporations’. Biodiversity and knowledge are no longer ‘common herit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iscuss</a:t>
            </a:r>
            <a:r>
              <a:rPr b="0" lang="en-GB" sz="1200" spc="-1" strike="noStrike">
                <a:solidFill>
                  <a:srgbClr val="000000"/>
                </a:solidFill>
                <a:latin typeface="Calibri"/>
              </a:rPr>
              <a:t> with the participants whether they recognise such conflicts and how they may be resolved. Are frameworks such as the CBD’s Ecosystems Approach use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because our values and behaviour are the result of existing institutional, cultural and social norms then there may be a time-lag in response to environmental chan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values respond to scarcity, we may only recognise and respond to environmental degradation once irreversible changes have occurred or key thresholds breached. This suggests adaptive and precautionary approaches including foresight of how values may change in futu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wo criteria have been suggested upon which we can judge the appropriateness of monetary values. First, the complexity of the environmental system and our understanding of it. Essentially, simple systems and goods can be robustly valued, as we understand them, can easily form values and they respond in predictable ways to change. The second criterion is the degree of value plurality. Commodity type values, for instance those expressed in markets for goods from provisioning services are readily measured; as values reflect more ethical and cultural motives, including non-use value, our values are more complex and difficult to capture in monetary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fferent ecosystem services or environmental assets can be placed at different points relative to these two axes, where monetary valuation may be more or less appropriate or acceptable in scientific or social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Note</a:t>
            </a:r>
            <a:r>
              <a:rPr b="0" lang="en-GB" sz="1200" spc="-1" strike="noStrike">
                <a:solidFill>
                  <a:srgbClr val="000000"/>
                </a:solidFill>
                <a:latin typeface="Calibri"/>
              </a:rPr>
              <a:t> that this reflects a long standing debate in the valuation literature about what it is we are actually valuing and ultimately whether some number (value) is better than no number, and what is a useful basis for decision mak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ffffff"/>
                </a:solidFill>
                <a:uFillTx/>
                <a:latin typeface="Times New Roman"/>
                <a:ea typeface="Times New Roman"/>
              </a:rPr>
              <a:t>Explain </a:t>
            </a:r>
            <a:r>
              <a:rPr b="0" lang="en-GB" sz="1000" spc="-1" strike="noStrike">
                <a:solidFill>
                  <a:srgbClr val="ffffff"/>
                </a:solidFill>
                <a:latin typeface="Times New Roman"/>
                <a:ea typeface="Times New Roman"/>
              </a:rPr>
              <a:t> that the choice of valuation method may define the outcome of the valuation process. Vatn suggests three dimensions to this choice:</a:t>
            </a:r>
            <a:endParaRPr b="0" lang="en-US" sz="1000" spc="-1" strike="noStrike">
              <a:solidFill>
                <a:srgbClr val="000000"/>
              </a:solidFill>
              <a:latin typeface="Calibri"/>
            </a:endParaRPr>
          </a:p>
          <a:p>
            <a:pPr lvl="1" marL="743040" indent="-285840">
              <a:lnSpc>
                <a:spcPct val="9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Simple private goods versus complex common pool and public features of ecosystems</a:t>
            </a:r>
            <a:endParaRPr b="0" lang="en-US" sz="1000" spc="-1" strike="noStrike">
              <a:solidFill>
                <a:srgbClr val="000000"/>
              </a:solidFill>
              <a:latin typeface="Calibri"/>
            </a:endParaRPr>
          </a:p>
          <a:p>
            <a:pPr lvl="1" marL="743040" indent="-285840">
              <a:lnSpc>
                <a:spcPct val="9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Individual and egoistic versus social side of human behaviour and rationality</a:t>
            </a:r>
            <a:endParaRPr b="0" lang="en-US" sz="1000" spc="-1" strike="noStrike">
              <a:solidFill>
                <a:srgbClr val="000000"/>
              </a:solidFill>
              <a:latin typeface="Calibri"/>
            </a:endParaRPr>
          </a:p>
          <a:p>
            <a:pPr lvl="1" marL="743040" indent="-285840">
              <a:lnSpc>
                <a:spcPct val="9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Instrumental versus communicative type of human interaction</a:t>
            </a:r>
            <a:endParaRPr b="0" lang="en-US" sz="10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These dimensions combine to suggest either simple or complex decision making systems with the implication that monetary valuation is more suited to simple contexts.</a:t>
            </a:r>
            <a:endParaRPr b="0" lang="en-US" sz="1000" spc="-1" strike="noStrike">
              <a:solidFill>
                <a:srgbClr val="000000"/>
              </a:solidFill>
              <a:latin typeface="Calibri"/>
            </a:endParaRPr>
          </a:p>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Times New Roman"/>
              </a:rPr>
              <a:t>Furthermore the how of valuation may be more important than the value we estimate, as it is the process that uncovers the plurality and boundaries to the values we hold.</a:t>
            </a:r>
            <a:endParaRPr b="0" lang="en-US" sz="1000" spc="-1" strike="noStrike">
              <a:solidFill>
                <a:srgbClr val="000000"/>
              </a:solidFill>
              <a:latin typeface="Calibri"/>
            </a:endParaRPr>
          </a:p>
          <a:p>
            <a:pPr marL="2286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7C66D-AA95-4B8C-B0F4-B52348A223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8D1B3-7750-42EF-9D44-0B16A911A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568F2F-D8EF-48F4-8F20-0F7E0C078F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54B6D8-4F4C-4730-B6B3-66205CF7B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D6053D-94F3-4FEB-8A17-9D22227E254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4277E4-6FB1-4DB2-89DF-FC9C2B325B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AD675B-BA9A-4BF3-8DF9-566DE377F5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0E7FCD-159D-4F46-9A40-523DD2B7A0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8EF9B4-23E4-4FCE-8163-7502E27A78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19C0F1-4F71-4E47-8F2A-20CB7A569D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1FB8C8-494E-43B9-A111-403EA1398C2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692A69A-69A1-4C00-A7C2-D479471E495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61373-AA43-4968-8455-FF069B77E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7F5447-8C36-45DC-A5CA-E91B92B138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CE596D-84A0-4C1F-9824-82104953BA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ED38871-2D1E-4256-8B54-39175407E7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12D0FA-2496-4BA7-9C49-0FC5EC2A7C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84B55C3-9174-4FA8-880A-228D0575417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791B4FE-AE91-43EA-885B-B2B7F68653C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9E862C-7122-4ABE-9A87-B11B4CD343E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3F21C1-C3C5-4AFE-B783-42A2157F56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E6607B-4E32-4183-94F6-8EC8BD4B07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1D0F69-6BB4-4494-AB68-E2190BFDEC1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BC7204-7D44-4C9F-B3FF-91168598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12D3E47-751F-49DB-8553-D04285B9459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07CE866-E8CA-42AA-87CF-6460DEA829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3C55EA4-D033-4D07-8257-25F91FC998F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E7BA40-B4E6-407F-B807-1460BE25F1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6D233B-F664-4559-9B1B-ED641CA897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C525DD-E84D-4F02-B1D6-7C7126EA67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96BF5B0-BB81-444E-8101-6EE16D0C69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95A934-E58D-402C-9FE8-5CA4B83E9F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7C450B-0611-42CD-8745-B2F71FA87D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9BFC50-3942-41C7-9940-B43534A38D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F9CA4A-17D4-4B7B-84AE-452BBDC865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29D300-5513-4ACF-A0AD-E6B59CA18D8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A42F6D0-90FF-4F05-B28C-AC39BB5AEA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524F67-4799-4A29-83A6-0E7B7A96AF1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5C0F4F1-8791-44D4-9A4E-00C8C2874F5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E0FFFB-8922-4355-BB8F-FC52761DF1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B01D76-0DBC-4C6F-B0ED-764DD73441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589A38-DA7D-4857-8D87-BAFC016B40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73BECA-5D70-43DA-BBC1-66EF1A0698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A791B5B-F0AF-4C8E-919B-39331A8080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C0132C-F767-431A-9DC5-E14825D500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07E320-0F78-4BB8-BF87-460FAEAEE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73FFF1-B0D1-4AF4-99EE-5B8D6E0E1D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446BF18-E98E-4A8E-AD48-AB9B2415E90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C2FD8E-55B3-4343-9661-AFA5D631EB2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7D30E32-8B72-48E8-8B76-EFAE5DD91D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ACF60B0-AA19-4A4F-859E-9CC35780AF7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6F3494C-0F24-4EE9-A861-294D8E6D8EC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FEE686-F0F2-42F7-86FB-0D81C5668F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3360230-B3F7-42C0-AD86-EC6DA1911F9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EBBAD6-A7F6-4F25-B623-4E00881518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15556F-8375-4FBA-BC16-5A0BFF936D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6C01E-0B9D-4BEC-9AAD-EDB0F9E0F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5FCF05F-9D89-4077-AD7C-FB1257FD388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7F28C4-9950-449B-9C29-E5651D08389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E14644-A1E6-485D-9F5F-B5A3D5C2F2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237726F-1F17-442E-8D9A-29EE6B68C2A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B8058C-37E7-4F01-B3DD-3EFB8303142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247A9E6-C5B8-4CE8-A506-3DE20B3AD1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5104E0E-053B-4D46-A403-7548B462D75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1B7BD-8982-4E03-A3C0-859AB0C5AC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0C238-550D-492B-A01C-631477E09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FB95D-4C9A-4EFD-9074-0813BF3C3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BD8674-CFDB-4580-B788-6060F8B2C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6114A-D0F7-4B4D-861E-8AC6E82A9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2CFCF-BE28-4B1C-BDEB-8B188C4DE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1AC61-0EDB-40BC-AF6D-07068C77F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B0152-6AC3-4625-90D8-10E000494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0645F6-C700-4EBF-94E8-58651B8559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F567B-6844-400B-82BC-FBE543351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170FA8-7A60-4455-B129-770AE9E6D5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29DCA0-C8E7-4E8D-8B97-0BEAF7263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EB5F73-AD9E-4D56-A13B-AFFD3ECE8E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EC801-53EF-4146-9FEC-5F41B9FD28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6AEE3-536D-454F-AE06-098D5E583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3DF1E-52D6-403F-87F6-253724E7C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855CA-E607-41C5-A9B6-B3CC078789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F6001C-F841-4BE6-ADA7-0632DBAB7D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0AA69E-A6E6-4CA7-93FC-40507E888E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7E0787-70DB-40BE-AF4D-AD0BAD2FD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CA4C24-2D98-468C-B4AC-E42EFC6191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F44D9C-F558-4DB4-8ADD-4345B24DE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75849-8059-4689-835C-8F9B00F906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EFB337-CA91-417A-B463-24C9B5B3E9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F1D455-BB31-40E0-A2EE-0787AC1A8F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F87A59-D70A-4534-8AB9-2C7017812C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AF494-5DCA-4064-ABD3-22587C8ED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0E0B6-9C10-4413-B411-CD0B0116FA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203FD-75C1-4772-9A1C-A2227F0BAF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556367-BE72-418A-8A5B-A997C12205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375132-CEF7-46A2-9260-AD332D7427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8FF63-D2DE-41A4-8588-494B9CE5E0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2677E-189C-4A30-86FD-A7DFF56003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A419E9-CA01-4994-BFA0-9E9F8BE94B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880045-8752-4C02-B3F9-3AF071E0EB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C23CB8-24C5-40FB-9E94-7FF52253C5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2432F3-D91B-4AFB-B702-6926DE5829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95CFF-55DB-4DFE-96BE-1D569F9B0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089CDF-42F8-47A2-9F24-D8E0A57A4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3FA731-6E4D-4216-A593-83122BC715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5266F1-4E4F-45F4-AD12-2B4A4BA24A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8662DA-605A-41BF-BCE9-0BE72F324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2FA31-E8EE-408D-AD36-88AC569C51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0E83ED-35BC-453B-A3EF-D95A9E519C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CA7CC-A8FD-4BE6-8E0A-A9B25B2323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1727C8-DF53-4F8A-A191-0F0C725F22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8C1137-D3BC-433F-B9F3-9111ABC00A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1E7574-3854-496A-8D4C-5CF4E51EFA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AA9F2-87CA-4EE7-A3AD-2D08DD232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9AAD17-99A6-4204-8BE0-D6C1B685E7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D654AF-124F-4105-9C2A-98E3CD29F0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D955DF-0F83-4F60-A88A-79DD7A7A77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200B4C-4E55-454F-98D5-E77C1CB141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54F0F8-FD1C-4D74-9E8D-1F593B25F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C0F4C6-6014-4838-96FF-213B64FB5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695572-7C24-4435-8DD1-D7DF63AF3D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90F45-FB4A-4B5F-9443-986DDC93AD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781843-E0D7-4C45-818A-C7AD7A0B3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2D4FC-77F6-404E-9909-12B42436AE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EB2E1-7A69-4955-AD60-07DF13E00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23B914-DCDB-428D-8EF8-20020CA40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A72245-1ED5-46F5-B8B6-377946B1F9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F6B16EC-1FBF-4A36-BE4C-152AF9FF0D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55CC28-1B56-48D6-B4AA-3F98861F0E9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F49940-4DE8-4957-A19E-C53FD4BFD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16F95-382E-4C84-8CB0-4B13E729F6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222A78-E998-420E-9C41-F2307AB5A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63DFC1-BF37-4A5D-A66A-19305F9905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DDB84E-5026-4A13-A1CC-D2F3DF9952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E3E388-C886-41F1-B128-05CEFC6B5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72CA-48F0-4571-B360-8919786A8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93BB99-B81B-43EF-9169-2E9E95BD6B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9EBF0-310F-4BE0-80BB-8F113214F3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9CF121-2995-437B-A0CC-869BE23AFB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EF6F929-DA4E-44DA-AE64-10E1C0F632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3C466A-3FCC-4D2C-8F91-B0F4B0B739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1283F1-ACBF-480D-A908-29799A1E58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214BFC-0796-49C8-8302-15D98EF367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B197A7-DC3B-4DC7-8148-DDFCD394782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7D20B2-3096-4D49-B8B2-2A8477E3E7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9D1027-96A0-4A1C-875B-91871BA62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962B-D85E-4824-A9AD-6F7B98A43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864029-0F4F-4948-ACC0-E0985240C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D81DA-6510-43D7-B43B-A69D508296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F072B7-6431-4FE7-81E8-653F337862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C7308-8853-47BB-99C3-FBA9B24B09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AEBD13-BA1A-4D0A-84FB-B8F67ADF6B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DBF1A5-19C7-4A41-BB53-9872557C10A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1F2D43-2CD6-4C6D-8D92-A24AE27FE7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A72BC3-76E9-4195-B91D-2F5525D33F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8AC7E2-2BDC-435D-B7B0-D647CDCB3E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CC86F2-B9E1-4D85-94A3-87E511D2BE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ea typeface="SimSu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3BB1F-742D-4DD8-8EBD-BB9D9100D2A7}" type="slidenum">
              <a:rPr b="0" lang="en-US" sz="1400" spc="-1" strike="noStrike">
                <a:solidFill>
                  <a:srgbClr val="000532"/>
                </a:solidFill>
                <a:latin typeface="Times New Roman"/>
                <a:ea typeface="SimSun"/>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A44E1-BAAB-4398-AB69-F80D8BEA2FA9}"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849A-E341-4E18-B319-D484DB16E3B4}"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06E9-08E7-4B08-844A-46394550805E}"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13353-88B1-4368-9EF3-D806BA0164EF}"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CB5EE-7D11-44DF-9ED7-6139FE7F64E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64AE-D1F4-4E7D-B067-5275B3D657A5}"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1373-C08D-4DF2-B814-DCC850C0C333}"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4C28-28CB-4D41-A5F4-4F90759EE709}"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D54D-BFFA-4A94-A9DA-05098EEA818D}"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6244-4E16-434A-BDFE-AC060D7703EB}"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SimSun"/>
              </a:rPr>
              <a:t>TEEB Training</a:t>
            </a:r>
            <a:endParaRPr b="0" lang="en-US" sz="1600" spc="-1" strike="noStrike">
              <a:solidFill>
                <a:srgbClr val="ffffff"/>
              </a:solidFill>
              <a:latin typeface="Arial"/>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EC88-F087-44AB-BF39-6F1814D99C38}" type="slidenum">
              <a:rPr b="0" lang="en-US" sz="1400" spc="-1" strike="noStrike">
                <a:solidFill>
                  <a:srgbClr val="0005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2"/>
          <p:cNvSpPr/>
          <p:nvPr/>
        </p:nvSpPr>
        <p:spPr>
          <a:xfrm>
            <a:off x="2268360" y="4743360"/>
            <a:ext cx="4824720" cy="2297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Session 4:</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ea typeface="SimSun"/>
              </a:rPr>
              <a:t>Criticisms of valuation</a:t>
            </a: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1" name="Picture 6" descr="logo TEEB transparent print"/>
          <p:cNvPicPr/>
          <p:nvPr/>
        </p:nvPicPr>
        <p:blipFill>
          <a:blip r:embed="rId1"/>
          <a:stretch/>
        </p:blipFill>
        <p:spPr>
          <a:xfrm>
            <a:off x="3276720" y="1341360"/>
            <a:ext cx="2690640" cy="2737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4 Summary</a:t>
            </a:r>
            <a:br>
              <a:rPr sz="3600"/>
            </a:br>
            <a:r>
              <a:rPr b="1" lang="en-US" sz="3600" spc="-1" strike="noStrike">
                <a:solidFill>
                  <a:srgbClr val="323366"/>
                </a:solidFill>
                <a:latin typeface="Arial"/>
              </a:rPr>
              <a:t>The TEEB tiered approach</a:t>
            </a:r>
            <a:endParaRPr b="0" lang="en-US" sz="3600" spc="-1" strike="noStrike">
              <a:solidFill>
                <a:srgbClr val="000532"/>
              </a:solidFill>
              <a:latin typeface="Arial"/>
            </a:endParaRPr>
          </a:p>
        </p:txBody>
      </p:sp>
      <p:sp>
        <p:nvSpPr>
          <p:cNvPr id="602" name="PlaceHolder 2"/>
          <p:cNvSpPr>
            <a:spLocks noGrp="1"/>
          </p:cNvSpPr>
          <p:nvPr>
            <p:ph/>
          </p:nvPr>
        </p:nvSpPr>
        <p:spPr>
          <a:xfrm>
            <a:off x="468360" y="1844280"/>
            <a:ext cx="8300880" cy="4248360"/>
          </a:xfrm>
          <a:prstGeom prst="rect">
            <a:avLst/>
          </a:prstGeom>
          <a:noFill/>
          <a:ln w="0">
            <a:noFill/>
          </a:ln>
        </p:spPr>
        <p:txBody>
          <a:bodyPr anchor="t">
            <a:normAutofit/>
          </a:bodyPr>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RECOGNISING VALUE</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times sufficient</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ften the case where cultural and spiritual values are strong</a:t>
            </a:r>
            <a:endParaRPr b="0" lang="en-US" sz="2200" spc="-1" strike="noStrike">
              <a:solidFill>
                <a:srgbClr val="000532"/>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DEMONSTRATING VALUE</a:t>
            </a:r>
            <a:endParaRPr b="0" lang="en-US" sz="2200" spc="-1" strike="noStrike">
              <a:solidFill>
                <a:srgbClr val="000532"/>
              </a:solidFill>
              <a:latin typeface="Arial"/>
            </a:endParaRPr>
          </a:p>
          <a:p>
            <a:pPr lvl="2"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 economic terms, costs and benefits</a:t>
            </a:r>
            <a:endParaRPr b="0" lang="en-US" sz="2200" spc="-1" strike="noStrike">
              <a:solidFill>
                <a:srgbClr val="000532"/>
              </a:solidFill>
              <a:latin typeface="Arial"/>
            </a:endParaRPr>
          </a:p>
          <a:p>
            <a:pPr lvl="2"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seful to policy-makers and businesses</a:t>
            </a:r>
            <a:endParaRPr b="0" lang="en-US" sz="2200" spc="-1" strike="noStrike">
              <a:solidFill>
                <a:srgbClr val="000532"/>
              </a:solidFill>
              <a:latin typeface="Arial"/>
            </a:endParaRPr>
          </a:p>
          <a:p>
            <a:pPr lvl="2"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conomic valuation exercises</a:t>
            </a:r>
            <a:endParaRPr b="0" lang="en-US" sz="2200" spc="-1" strike="noStrike">
              <a:solidFill>
                <a:srgbClr val="000532"/>
              </a:solidFill>
              <a:latin typeface="Arial"/>
            </a:endParaRPr>
          </a:p>
          <a:p>
            <a:pPr marL="343080" indent="-343080">
              <a:lnSpc>
                <a:spcPct val="11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imes New Roman"/>
                <a:ea typeface="Times New Roman"/>
              </a:rPr>
              <a:t>CAPTURING VALUE</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utting ecosystem values into decision-making</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ough incentives and price signals</a:t>
            </a:r>
            <a:endParaRPr b="0" lang="en-US" sz="2200" spc="-1" strike="noStrike">
              <a:solidFill>
                <a:srgbClr val="000532"/>
              </a:solidFill>
              <a:latin typeface="Arial"/>
            </a:endParaRPr>
          </a:p>
          <a:p>
            <a:pPr lvl="1" marL="800280" indent="-343080">
              <a:lnSpc>
                <a:spcPct val="11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rket-based solutions not necessarily best </a:t>
            </a:r>
            <a:endParaRPr b="0" lang="en-US" sz="2200" spc="-1" strike="noStrike">
              <a:solidFill>
                <a:srgbClr val="000532"/>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Applying the tiered approach</a:t>
            </a:r>
            <a:endParaRPr b="0" lang="en-US" sz="3200" spc="-1" strike="noStrike">
              <a:solidFill>
                <a:srgbClr val="000532"/>
              </a:solidFill>
              <a:latin typeface="Arial"/>
            </a:endParaRPr>
          </a:p>
        </p:txBody>
      </p:sp>
      <p:sp>
        <p:nvSpPr>
          <p:cNvPr id="604" name=""/>
          <p:cNvSpPr txBox="1"/>
          <p:nvPr/>
        </p:nvSpPr>
        <p:spPr>
          <a:xfrm>
            <a:off x="457200" y="1854360"/>
            <a:ext cx="8229600" cy="4271760"/>
          </a:xfrm>
          <a:prstGeom prst="rect">
            <a:avLst/>
          </a:prstGeom>
          <a:noFill/>
          <a:ln w="0">
            <a:noFill/>
          </a:ln>
        </p:spPr>
        <p:txBody>
          <a:bodyPr anchor="t">
            <a:normAutofit/>
          </a:bodyPr>
          <a:p>
            <a:pPr marL="893880" indent="-893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tep 1</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dentify and assess the full range of ecosystem services affected and the implications for different groups in society</a:t>
            </a:r>
            <a:endParaRPr b="0" lang="en-US" sz="2000" spc="-1" strike="noStrike">
              <a:solidFill>
                <a:srgbClr val="000532"/>
              </a:solidFill>
              <a:latin typeface="Arial"/>
            </a:endParaRPr>
          </a:p>
          <a:p>
            <a:pPr marL="893880" indent="-893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tep 2</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stimate and demonstrate the value of ecosystem services using appropriate methods, including linkages over time and scale, local v global, current use v future use</a:t>
            </a:r>
            <a:endParaRPr b="0" lang="en-US" sz="2000" spc="-1" strike="noStrike">
              <a:solidFill>
                <a:srgbClr val="000532"/>
              </a:solidFill>
              <a:latin typeface="Arial"/>
            </a:endParaRPr>
          </a:p>
          <a:p>
            <a:pPr marL="893880" indent="-8938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Times New Roman"/>
              </a:rPr>
              <a:t>Step 3</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Capture the value of ecosystem services and seek solutions to overcome their under-valuation through economic policy instruments (subsidies, fiscal incentives, charges for access and use, payments for ecosystem services, property rights, </a:t>
            </a:r>
            <a:r>
              <a:rPr b="0" lang="en-GB" sz="2000" spc="-1" strike="noStrike">
                <a:solidFill>
                  <a:srgbClr val="000000"/>
                </a:solidFill>
                <a:latin typeface="Times New Roman"/>
                <a:ea typeface="Times New Roman"/>
              </a:rPr>
              <a:t>eco-labelling</a:t>
            </a:r>
            <a:r>
              <a:rPr b="0" lang="en-US" sz="2000" spc="-1" strike="noStrike">
                <a:solidFill>
                  <a:srgbClr val="000000"/>
                </a:solidFill>
                <a:latin typeface="Times New Roman"/>
                <a:ea typeface="Times New Roman"/>
              </a:rPr>
              <a:t> and certification etc.)</a:t>
            </a:r>
            <a:endParaRPr b="0" lang="en-US" sz="2000" spc="-1" strike="noStrike">
              <a:solidFill>
                <a:srgbClr val="000532"/>
              </a:solidFill>
              <a:latin typeface="Arial"/>
            </a:endParaRPr>
          </a:p>
          <a:p>
            <a:pPr marL="893880" indent="-8938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06" name="Picture 3" descr="logo TEEB transparent print"/>
          <p:cNvPicPr/>
          <p:nvPr/>
        </p:nvPicPr>
        <p:blipFill>
          <a:blip r:embed="rId1"/>
          <a:stretch/>
        </p:blipFill>
        <p:spPr>
          <a:xfrm>
            <a:off x="2841480" y="907920"/>
            <a:ext cx="3969000" cy="3818160"/>
          </a:xfrm>
          <a:prstGeom prst="rect">
            <a:avLst/>
          </a:prstGeom>
          <a:ln w="0">
            <a:noFill/>
          </a:ln>
        </p:spPr>
      </p:pic>
      <p:sp>
        <p:nvSpPr>
          <p:cNvPr id="607"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SimSun"/>
              </a:rPr>
              <a:t>THANK YOU!</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206280" y="90756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Outline</a:t>
            </a:r>
            <a:endParaRPr b="0" lang="en-US" sz="3200" spc="-1" strike="noStrike">
              <a:solidFill>
                <a:srgbClr val="000532"/>
              </a:solidFill>
              <a:latin typeface="Arial"/>
            </a:endParaRPr>
          </a:p>
        </p:txBody>
      </p:sp>
      <p:sp>
        <p:nvSpPr>
          <p:cNvPr id="583"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Process of Valuation</a:t>
            </a:r>
            <a:endParaRPr b="0" lang="en-US" sz="26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sumptions</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oes the </a:t>
            </a:r>
            <a:r>
              <a:rPr b="0" i="1" lang="en-GB" sz="2400" spc="-1" strike="noStrike">
                <a:solidFill>
                  <a:srgbClr val="000000"/>
                </a:solidFill>
                <a:latin typeface="Times New Roman"/>
                <a:ea typeface="Times New Roman"/>
              </a:rPr>
              <a:t>process</a:t>
            </a:r>
            <a:r>
              <a:rPr b="0" lang="en-GB" sz="2400" spc="-1" strike="noStrike">
                <a:solidFill>
                  <a:srgbClr val="000000"/>
                </a:solidFill>
                <a:latin typeface="Times New Roman"/>
                <a:ea typeface="Times New Roman"/>
              </a:rPr>
              <a:t> of eliciting values change our perceptions? </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the </a:t>
            </a:r>
            <a:r>
              <a:rPr b="0" i="1" lang="en-GB" sz="2400" spc="-1" strike="noStrike">
                <a:solidFill>
                  <a:srgbClr val="000000"/>
                </a:solidFill>
                <a:latin typeface="Times New Roman"/>
                <a:ea typeface="Times New Roman"/>
              </a:rPr>
              <a:t>process</a:t>
            </a:r>
            <a:r>
              <a:rPr b="0" lang="en-GB" sz="2400" spc="-1" strike="noStrike">
                <a:solidFill>
                  <a:srgbClr val="000000"/>
                </a:solidFill>
                <a:latin typeface="Times New Roman"/>
                <a:ea typeface="Times New Roman"/>
              </a:rPr>
              <a:t> affects outcomes</a:t>
            </a:r>
            <a:endParaRPr b="0" lang="en-US" sz="2400" spc="-1" strike="noStrike">
              <a:solidFill>
                <a:srgbClr val="000532"/>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hat negative changes might the </a:t>
            </a:r>
            <a:r>
              <a:rPr b="0" i="1" lang="en-GB" sz="2400" spc="-1" strike="noStrike">
                <a:solidFill>
                  <a:srgbClr val="000000"/>
                </a:solidFill>
                <a:latin typeface="Times New Roman"/>
                <a:ea typeface="Times New Roman"/>
              </a:rPr>
              <a:t>process </a:t>
            </a:r>
            <a:r>
              <a:rPr b="0" lang="en-GB" sz="2400" spc="-1" strike="noStrike">
                <a:solidFill>
                  <a:srgbClr val="000000"/>
                </a:solidFill>
                <a:latin typeface="Times New Roman"/>
                <a:ea typeface="Times New Roman"/>
              </a:rPr>
              <a:t>of valuation provoke?</a:t>
            </a:r>
            <a:endParaRPr b="0" lang="en-US" sz="24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ation and time lags</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Drawing the boundary on what we can/should valu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How to choose how to value</a:t>
            </a:r>
            <a:endParaRPr b="0" lang="en-US" sz="2600" spc="-1" strike="noStrike">
              <a:solidFill>
                <a:srgbClr val="000532"/>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Assumptions: the process of valuation</a:t>
            </a:r>
            <a:endParaRPr b="0" lang="en-US" sz="3200" spc="-1" strike="noStrike">
              <a:solidFill>
                <a:srgbClr val="000532"/>
              </a:solidFill>
              <a:latin typeface="Arial"/>
            </a:endParaRPr>
          </a:p>
        </p:txBody>
      </p:sp>
      <p:sp>
        <p:nvSpPr>
          <p:cNvPr id="585"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When asking Willingness To Pay we assume that peopl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ld values in advance or can easily generate them</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ave sufficient information and understanding of what they are valuing</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n decide (alone) on the values they attribute to ecosystem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 consistently</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alue according to individual rationality</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104256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oes the </a:t>
            </a:r>
            <a:r>
              <a:rPr b="1" i="1" lang="en-GB" sz="2800" spc="-1" strike="noStrike">
                <a:solidFill>
                  <a:srgbClr val="323366"/>
                </a:solidFill>
                <a:latin typeface="Arial"/>
              </a:rPr>
              <a:t>process</a:t>
            </a:r>
            <a:r>
              <a:rPr b="1" lang="en-GB" sz="2800" spc="-1" strike="noStrike">
                <a:solidFill>
                  <a:srgbClr val="323366"/>
                </a:solidFill>
                <a:latin typeface="Arial"/>
              </a:rPr>
              <a:t> of eliciting values change our perceptions?</a:t>
            </a:r>
            <a:r>
              <a:rPr b="1" lang="en-GB" sz="2800" spc="-1" strike="noStrike">
                <a:solidFill>
                  <a:srgbClr val="333399"/>
                </a:solidFill>
                <a:latin typeface="Arial"/>
              </a:rPr>
              <a:t> </a:t>
            </a:r>
            <a:endParaRPr b="0" lang="en-US" sz="2800" spc="-1" strike="noStrike">
              <a:solidFill>
                <a:srgbClr val="000532"/>
              </a:solidFill>
              <a:latin typeface="Arial"/>
            </a:endParaRPr>
          </a:p>
        </p:txBody>
      </p:sp>
      <p:sp>
        <p:nvSpPr>
          <p:cNvPr id="587"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Valuation promotes a </a:t>
            </a:r>
            <a:r>
              <a:rPr b="0" i="1" lang="en-GB" sz="2600" spc="-1" strike="noStrike">
                <a:solidFill>
                  <a:srgbClr val="000000"/>
                </a:solidFill>
                <a:latin typeface="Times New Roman"/>
                <a:ea typeface="Times New Roman"/>
              </a:rPr>
              <a:t>universal</a:t>
            </a:r>
            <a:r>
              <a:rPr b="0" lang="en-GB" sz="2600" spc="-1" strike="noStrike">
                <a:solidFill>
                  <a:srgbClr val="000000"/>
                </a:solidFill>
                <a:latin typeface="Times New Roman"/>
                <a:ea typeface="Times New Roman"/>
              </a:rPr>
              <a:t> notion of the environment</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By placing values on nature we change existing concepts of ownership and property</a:t>
            </a:r>
            <a:endParaRPr b="0" lang="en-US" sz="26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As values have not been previously defined the </a:t>
            </a:r>
            <a:r>
              <a:rPr b="0" i="1" lang="en-GB" sz="2600" spc="-1" strike="noStrike">
                <a:solidFill>
                  <a:srgbClr val="000000"/>
                </a:solidFill>
                <a:latin typeface="Times New Roman"/>
                <a:ea typeface="Times New Roman"/>
              </a:rPr>
              <a:t>process of valuation changes how we appreciate natur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ividual preferences outweigh consensus building and collective decision making</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e we constructing markets that are set up to fail?</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Does the </a:t>
            </a:r>
            <a:r>
              <a:rPr b="1" i="1" lang="en-GB" sz="3200" spc="-1" strike="noStrike">
                <a:solidFill>
                  <a:srgbClr val="323366"/>
                </a:solidFill>
                <a:latin typeface="Arial"/>
              </a:rPr>
              <a:t>process</a:t>
            </a:r>
            <a:r>
              <a:rPr b="1" lang="en-GB" sz="3200" spc="-1" strike="noStrike">
                <a:solidFill>
                  <a:srgbClr val="323366"/>
                </a:solidFill>
                <a:latin typeface="Arial"/>
              </a:rPr>
              <a:t> of eliciting values change our perceptions?</a:t>
            </a:r>
            <a:r>
              <a:rPr b="1" lang="en-GB" sz="2800" spc="-1" strike="noStrike">
                <a:solidFill>
                  <a:srgbClr val="333399"/>
                </a:solidFill>
                <a:latin typeface="Arial"/>
              </a:rPr>
              <a:t> </a:t>
            </a:r>
            <a:r>
              <a:rPr b="1" lang="en-GB" sz="2800" spc="-1" strike="noStrike">
                <a:solidFill>
                  <a:srgbClr val="323366"/>
                </a:solidFill>
                <a:latin typeface="Arial"/>
              </a:rPr>
              <a:t>cont…</a:t>
            </a:r>
            <a:endParaRPr b="0" lang="en-US" sz="2800" spc="-1" strike="noStrike">
              <a:solidFill>
                <a:srgbClr val="000532"/>
              </a:solidFill>
              <a:latin typeface="Arial"/>
            </a:endParaRPr>
          </a:p>
        </p:txBody>
      </p:sp>
      <p:sp>
        <p:nvSpPr>
          <p:cNvPr id="589" name=""/>
          <p:cNvSpPr txBox="1"/>
          <p:nvPr/>
        </p:nvSpPr>
        <p:spPr>
          <a:xfrm>
            <a:off x="457200" y="203364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psychological viewpoint considers that valuation assumes (and champions) rational choice over intuition: </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nomics focuses on the </a:t>
            </a:r>
            <a:r>
              <a:rPr b="0" i="1" lang="en-GB" sz="2400" spc="-1" strike="noStrike">
                <a:solidFill>
                  <a:srgbClr val="000000"/>
                </a:solidFill>
                <a:latin typeface="Times New Roman"/>
                <a:ea typeface="Times New Roman"/>
              </a:rPr>
              <a:t>outcome</a:t>
            </a:r>
            <a:r>
              <a:rPr b="0" lang="en-GB" sz="2400" spc="-1" strike="noStrike">
                <a:solidFill>
                  <a:srgbClr val="000000"/>
                </a:solidFill>
                <a:latin typeface="Times New Roman"/>
                <a:ea typeface="Times New Roman"/>
              </a:rPr>
              <a:t> of decisions not the </a:t>
            </a:r>
            <a:r>
              <a:rPr b="0" i="1" lang="en-GB" sz="2400" spc="-1" strike="noStrike">
                <a:solidFill>
                  <a:srgbClr val="000000"/>
                </a:solidFill>
                <a:latin typeface="Times New Roman"/>
                <a:ea typeface="Times New Roman"/>
              </a:rPr>
              <a:t>proces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mpirical studies of behaviour do not back up economic theories of preference</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980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What negative changes might the </a:t>
            </a:r>
            <a:r>
              <a:rPr b="1" i="1" lang="en-GB" sz="2800" spc="-1" strike="noStrike">
                <a:solidFill>
                  <a:srgbClr val="323366"/>
                </a:solidFill>
                <a:latin typeface="Arial"/>
              </a:rPr>
              <a:t>process </a:t>
            </a:r>
            <a:r>
              <a:rPr b="1" lang="en-GB" sz="2800" spc="-1" strike="noStrike">
                <a:solidFill>
                  <a:srgbClr val="323366"/>
                </a:solidFill>
                <a:latin typeface="Arial"/>
              </a:rPr>
              <a:t>of valuation provoke?</a:t>
            </a:r>
            <a:endParaRPr b="0" lang="en-US" sz="2800" spc="-1" strike="noStrike">
              <a:solidFill>
                <a:srgbClr val="000532"/>
              </a:solidFill>
              <a:latin typeface="Arial"/>
            </a:endParaRPr>
          </a:p>
        </p:txBody>
      </p:sp>
      <p:sp>
        <p:nvSpPr>
          <p:cNvPr id="591"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On-going debate about attaching new forms of property rights to nature and culture</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inked to the granting of resource rights to ‘traditional’ indigenous groups and rural population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ften assumed that such groups have inherent knowledge that allows them to act as ‘stewards of nature’</a:t>
            </a:r>
            <a:endParaRPr b="0" lang="en-US" sz="2400" spc="-1" strike="noStrike">
              <a:solidFill>
                <a:srgbClr val="000532"/>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Such policies significantly change the relationships within and between groups over the rights to control, exclude and exploit resources</a:t>
            </a:r>
            <a:endParaRPr b="0" lang="en-US" sz="26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818640"/>
            <a:ext cx="8229600" cy="73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Valuation and time lags</a:t>
            </a:r>
            <a:endParaRPr b="0" lang="en-US" sz="2800" spc="-1" strike="noStrike">
              <a:solidFill>
                <a:srgbClr val="000532"/>
              </a:solidFill>
              <a:latin typeface="Arial"/>
            </a:endParaRPr>
          </a:p>
        </p:txBody>
      </p:sp>
      <p:sp>
        <p:nvSpPr>
          <p:cNvPr id="593" name=""/>
          <p:cNvSpPr txBox="1"/>
          <p:nvPr/>
        </p:nvSpPr>
        <p:spPr>
          <a:xfrm>
            <a:off x="457200" y="1854360"/>
            <a:ext cx="8229600" cy="427176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Potentially </a:t>
            </a:r>
            <a:r>
              <a:rPr b="0" i="1" lang="en-GB" sz="2600" spc="-1" strike="noStrike">
                <a:solidFill>
                  <a:srgbClr val="000000"/>
                </a:solidFill>
                <a:latin typeface="Times New Roman"/>
                <a:ea typeface="Times New Roman"/>
              </a:rPr>
              <a:t>critical time-lag </a:t>
            </a:r>
            <a:r>
              <a:rPr b="0" lang="en-GB" sz="2600" spc="-1" strike="noStrike">
                <a:solidFill>
                  <a:srgbClr val="000000"/>
                </a:solidFill>
                <a:latin typeface="Times New Roman"/>
                <a:ea typeface="Times New Roman"/>
              </a:rPr>
              <a:t>in the valuation feedback mechanism</a:t>
            </a:r>
            <a:endParaRPr b="0" lang="en-US" sz="26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values are an outcome of </a:t>
            </a:r>
            <a:r>
              <a:rPr b="0" i="1" lang="en-GB" sz="2400" spc="-1" strike="noStrike">
                <a:solidFill>
                  <a:srgbClr val="000000"/>
                </a:solidFill>
                <a:latin typeface="Times New Roman"/>
                <a:ea typeface="Times New Roman"/>
              </a:rPr>
              <a:t>existing, current </a:t>
            </a:r>
            <a:r>
              <a:rPr b="0" lang="en-GB" sz="2400" spc="-1" strike="noStrike">
                <a:solidFill>
                  <a:srgbClr val="000000"/>
                </a:solidFill>
                <a:latin typeface="Times New Roman"/>
                <a:ea typeface="Times New Roman"/>
              </a:rPr>
              <a:t>institutional, cultural and social constructs then adaptation to environmental change is required (when the change occurs)</a:t>
            </a:r>
            <a:endParaRPr b="0" lang="en-US" sz="2400" spc="-1" strike="noStrike">
              <a:solidFill>
                <a:srgbClr val="000532"/>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 ecosystems are degraded and biodiversity lost, attitudes and values towards nature will change, but the time-lag may be long</a:t>
            </a:r>
            <a:endParaRPr b="0" lang="en-US" sz="24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Drawing the boundary on what we can/should value</a:t>
            </a:r>
            <a:endParaRPr b="0" lang="en-US" sz="2800" spc="-1" strike="noStrike">
              <a:solidFill>
                <a:srgbClr val="000532"/>
              </a:solidFill>
              <a:latin typeface="Arial"/>
            </a:endParaRPr>
          </a:p>
        </p:txBody>
      </p:sp>
      <p:sp>
        <p:nvSpPr>
          <p:cNvPr id="595" name="PlaceHolder 2"/>
          <p:cNvSpPr>
            <a:spLocks noGrp="1"/>
          </p:cNvSpPr>
          <p:nvPr>
            <p:ph/>
          </p:nvPr>
        </p:nvSpPr>
        <p:spPr>
          <a:xfrm>
            <a:off x="457200" y="2276280"/>
            <a:ext cx="8229600" cy="92700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O’Connor and Frame (2008) propose two thresholds beyond which assessing trade-offs or monetary choice is inappropriate</a:t>
            </a:r>
            <a:endParaRPr b="0" lang="en-US" sz="2400" spc="-1" strike="noStrike">
              <a:solidFill>
                <a:srgbClr val="000532"/>
              </a:solidFill>
              <a:latin typeface="Arial"/>
            </a:endParaRPr>
          </a:p>
        </p:txBody>
      </p:sp>
      <p:pic>
        <p:nvPicPr>
          <p:cNvPr id="596" name="Picture 2" descr=""/>
          <p:cNvPicPr/>
          <p:nvPr/>
        </p:nvPicPr>
        <p:blipFill>
          <a:blip r:embed="rId1"/>
          <a:srcRect l="0" t="0" r="0" b="20822"/>
          <a:stretch/>
        </p:blipFill>
        <p:spPr>
          <a:xfrm>
            <a:off x="4076640" y="3203640"/>
            <a:ext cx="4846680" cy="3016080"/>
          </a:xfrm>
          <a:prstGeom prst="rect">
            <a:avLst/>
          </a:prstGeom>
          <a:ln w="0">
            <a:noFill/>
          </a:ln>
        </p:spPr>
      </p:pic>
      <p:sp>
        <p:nvSpPr>
          <p:cNvPr id="597" name="Rectangle 9"/>
          <p:cNvSpPr/>
          <p:nvPr/>
        </p:nvSpPr>
        <p:spPr>
          <a:xfrm>
            <a:off x="636480" y="3203640"/>
            <a:ext cx="3214800" cy="2768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SimSun"/>
              </a:rPr>
              <a:t>Either estimation is scientifically difficult; or</a:t>
            </a:r>
            <a:endParaRPr b="0" lang="en-US" sz="2200" spc="-1" strike="noStrike">
              <a:solidFill>
                <a:srgbClr val="ffffff"/>
              </a:solidFill>
              <a:latin typeface="Arial"/>
            </a:endParaRPr>
          </a:p>
          <a:p>
            <a:pPr marL="343080" indent="-34308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SimSun"/>
              </a:rPr>
              <a:t>The implied trade-off is deemed morally inappropriate</a:t>
            </a:r>
            <a:endParaRPr b="0" lang="en-US" sz="2200" spc="-1" strike="noStrike">
              <a:solidFill>
                <a:srgbClr val="ffffff"/>
              </a:solidFill>
              <a:latin typeface="Arial"/>
            </a:endParaRPr>
          </a:p>
          <a:p>
            <a:pPr lvl="1" marL="743040" indent="-285840">
              <a:lnSpc>
                <a:spcPct val="10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68360" y="773280"/>
            <a:ext cx="8229600" cy="73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How to choose how to value</a:t>
            </a:r>
            <a:endParaRPr b="0" lang="en-US" sz="3600" spc="-1" strike="noStrike">
              <a:solidFill>
                <a:srgbClr val="000532"/>
              </a:solidFill>
              <a:latin typeface="Arial"/>
            </a:endParaRPr>
          </a:p>
        </p:txBody>
      </p:sp>
      <p:sp>
        <p:nvSpPr>
          <p:cNvPr id="599" name=""/>
          <p:cNvSpPr txBox="1"/>
          <p:nvPr/>
        </p:nvSpPr>
        <p:spPr>
          <a:xfrm>
            <a:off x="457200" y="1854360"/>
            <a:ext cx="8229600" cy="4271760"/>
          </a:xfrm>
          <a:prstGeom prst="rect">
            <a:avLst/>
          </a:prstGeom>
          <a:noFill/>
          <a:ln w="0">
            <a:noFill/>
          </a:ln>
        </p:spPr>
        <p:txBody>
          <a:bodyPr anchor="t">
            <a:normAutofit/>
          </a:bodyPr>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ea typeface="Times New Roman"/>
              </a:rPr>
              <a:t>The choice of valuation method will define the outcome of the valuation process (Vatn, 2005)</a:t>
            </a:r>
            <a:endParaRPr b="0" lang="en-US" sz="2600" spc="-1" strike="noStrike">
              <a:solidFill>
                <a:srgbClr val="000532"/>
              </a:solidFill>
              <a:latin typeface="Arial"/>
            </a:endParaRPr>
          </a:p>
        </p:txBody>
      </p:sp>
      <p:pic>
        <p:nvPicPr>
          <p:cNvPr id="600" name="Picture 6" descr=""/>
          <p:cNvPicPr/>
          <p:nvPr/>
        </p:nvPicPr>
        <p:blipFill>
          <a:blip r:embed="rId1"/>
          <a:stretch/>
        </p:blipFill>
        <p:spPr>
          <a:xfrm>
            <a:off x="1511280" y="2619360"/>
            <a:ext cx="607536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5:12:51Z</dcterms:created>
  <dc:creator>KREBS</dc:creator>
  <dc:description/>
  <dc:language>en-US</dc:language>
  <cp:lastModifiedBy>KREBS</cp:lastModifiedBy>
  <dcterms:modified xsi:type="dcterms:W3CDTF">2013-08-05T15:13:40Z</dcterms:modified>
  <cp:revision>1</cp:revision>
  <dc:subject/>
  <dc:title>PowerPoint Presentation</dc:title>
</cp:coreProperties>
</file>