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552-BA14-47CB-8D64-C8E637DB6F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38CE-8DCE-4E78-99F6-DDE14EC2DE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D30-5FCB-4DD0-B641-946BE46B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F8B-7BD2-4F4D-9F7E-DDB1BFB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B58ED-C937-406D-88BF-1656260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053F1-6948-4CEB-8FEA-78E346D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95B35-9D73-48C0-AADB-C6D7B16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8B4B-E186-4DA5-AB96-D99BE77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2426-F431-4032-8958-699874B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C4D5-95E7-40CF-8713-7924307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41AC2-CC95-4D16-B63F-FFCFC48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2403B-C9A6-43EB-BE2E-96D6E672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9043D-A33A-49F3-A651-CAB22BA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E1A31-299D-4415-AF75-156FD23E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1FB-BA99-4065-A004-8B240928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F6F5-B67F-40C6-B0E2-629311D8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51C43-D74E-4985-A06A-00DEF85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4BE89-D0DE-4992-9FAE-4860A9F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631E-6688-4A6B-81B3-DB550A7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DB9C8-4E4B-4302-91EA-622343B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06C64-1895-4D6B-A5C7-2E6D0A2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1B7C0-2715-4F7B-98A8-9F40753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89CC-DF69-4B83-BD78-19A709A3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C8493-8C3C-4C85-82EF-43978FD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F3EBD-7F21-4DDF-9A33-837C1999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6C2-C5E5-492D-B7CE-E0A1307A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22542-787A-473C-9ECF-E1C559BA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130E4-8A51-415D-829A-56E96F6D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9DB2C-A018-4BC3-A0A6-E9558CB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7899-D8C4-4537-9EB6-1892589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B514A-AB81-4EC8-9A07-744D2D44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37C1-4233-4AD7-9EDE-692855A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EDC29-EBD7-4412-9DFB-64B0C522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19BE2-8FF2-4BD2-AB11-D66C863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FAAE-B93D-4A14-88C0-20AF62A6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CECD6-4557-4C42-94C8-25F228C7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7853-59E1-4E23-9F55-D8D049B4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ED473-F006-45FD-BD9B-DDCAD03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80966-535E-4255-AF09-B8BF87D5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7AAF8-DBDE-4605-8DA0-42CC911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A4460-12AA-4D27-B9B8-6088D7EE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D02C-BD54-4EAB-818C-32B6224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0382C-6F61-47CE-8B6D-CD01689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53606-3028-4188-BBFC-B13DA8E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E59DD-1348-4216-A17B-F965EF78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91F2A-5B22-4AC3-8887-DDACEA2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015C0-02FD-4B93-B6D5-26AA54F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A83F-2760-4650-B7ED-EC8DF35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6C49D-2884-4B02-BEBA-E044B2BF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4DBA4-F902-4970-9443-4570C98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5AFD9-3A42-40C4-B49E-180A4DA3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07FAF-5D36-468B-AE98-B4D55364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FD647-F93F-4C62-B3D8-879137B0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421C1-FAA1-44F1-8D15-1DCDF18A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12998-BE00-4DF0-9CEC-F0DB235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0B719-887B-4D6E-B7C6-84FC52C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2E24C-0DE1-420B-ADA5-4726174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242F9-4AD8-487F-8B92-C134A083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90D-1ADC-4FD5-A9B7-F4DF4C6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6E532-CA10-412A-B541-26EA426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74A1A-3421-4135-9732-E4A4F5C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423FB-0CB8-45C2-B8F5-2443DD2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68370-E821-45A8-9575-EBC3EC2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DF355-927F-402F-8C16-EE990A28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C936B-0223-4FAF-A772-A2303B7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F5F3A-5C1C-4166-A66C-F52974C6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FB1E-95B2-4C18-8C5D-F8E0DE97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8FBA-DF21-42FC-A870-64081D9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313-CBFD-4CF1-99AD-EEBE94B4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B0BF-8674-40E6-8FA0-D2DB2D9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950-4540-4934-B7E6-A5872F4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C1A-1154-46C1-A91C-5DFA957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2FC-0716-42F3-94C7-3E95209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908-956D-44BB-B53C-2DB8277D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C8A-9979-49F4-9EF4-9E0A84CF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4236-5A36-4C77-A4E7-7E1E45A2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FEB6-5A33-45BD-A710-BD691ADC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3301-0F58-456A-A4BA-90533AA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C8E5-36D2-4A92-BB05-8AC8AD3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8423-682F-4BC1-B5D9-A301483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529F-0FB7-4A6E-A488-BBC763F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99E-3C25-45EA-9D6F-C460911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8F48-70E3-4636-BAE2-29942D3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1516-EEE5-4643-A1FA-BC7E0D5A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0281-F83B-4F4B-ADBE-795FEC8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8DB0-4C0B-41A2-8D9E-607008B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EE7C-182E-4E63-9F04-8C44362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FBC1-26E2-46A4-86FF-223A7C59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8649-6330-406E-94FE-00CCAB4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0828-E1C6-4677-AAE3-536A3AD6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F71F-7AF3-474F-B05D-6FA3B2E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9937-2986-4141-B9BC-FFD64D4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C8B-2E9C-4570-BB64-02B17C2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8D3F-C3B9-4A37-8B08-E65E659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7D2F-E7B7-4BE9-BC5F-A4257B7D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1BE6-B682-482F-A8C8-16E2716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89BD-B414-4E84-876A-541383F3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159A-C447-43FE-8811-0C7CE0A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61F0-D780-4B69-BDC3-58587AC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5E69-66DD-4E8E-A148-B4A0589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126C-2899-4F4B-A95B-2D2B8FE6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149A-ED66-47B8-8471-2E61C5AE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2A73-C9DC-4D96-8986-770D0C69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2F6-9CA6-4FC0-8C4C-D8F6BD2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B56D7-9A18-458C-9E32-C2F9256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2AEF6-FA0F-4322-8C1E-FB7F94B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0BA4-1C60-453D-A9E8-63007EDE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9387-BBC2-4847-B3B7-30DDB52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1174-B2AA-4815-A680-B9E2EE1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3977-B99F-47CA-BA97-EC91E97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93BB-F29B-4716-B221-192A79D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98D9-C09F-4E3A-8A30-E93B2125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B374-7B54-47AB-8C39-BD000A12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51AB-5D1E-45EC-A35E-54F93FF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549-E443-436E-832E-5D10188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D527-3348-4152-948B-E8A08384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ADD1-F9D9-4CAA-96E6-7B0B5C8A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FA1E-4281-416D-8393-C3C00DB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AC70-687A-496E-BAAC-5AF18B0A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650B4-6692-499C-A0CB-66E7D74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3B73-6204-41AD-BF53-A197612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4F83-1A71-48A7-8626-B74FA73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E0B4-BEE5-432F-A4C7-65653131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04DB-EC79-43E7-A57D-1ADF01A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768F-7632-4533-AEE2-F3B5E54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726-C75A-4DBD-90C1-9234F7E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E50A4-A6A1-4C7C-839B-85CB4E2A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711C-8191-48D9-A80E-A98000E2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BCFD-269C-47CC-9652-54448B05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DC72-ED43-4363-8B40-D34C69A0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24E9-2F65-424C-9FD9-A49592D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74A0-206F-4231-ABDE-9FC2A3AF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93192-D19E-4E97-89E2-5141B642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385A4-B4F7-433B-B4DB-F310D572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B7CC-A41B-4CCF-B795-88EE9FC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1B1E-F766-48C7-801D-FE2499B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D59-CD72-4492-995F-A88F20F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3408-2EF3-4FCC-95C8-8A969A6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62E4-F542-43C9-876C-0F6F2FD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C0447-CE66-426B-AAF4-287D63B5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1BEE-C2DF-4D41-8D7C-61121157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CC1A-F10F-4D77-A269-6BC83238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63B3-2422-4622-BD4F-65FB726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81D0-17A1-4BF7-A625-C22C22B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DD5A-C5A7-4E16-BB4E-C138872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E6531-B9F6-4AB2-B9C5-C63AA4B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DFE64-8A97-4B4F-BA7C-4572004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0A3-C766-4BEF-8E3C-FDCE4B9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DD70-5EBD-447C-BB1C-9660144B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0038-33B8-494B-A036-E150638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A1D2-C471-405B-BA79-7A53F6D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2FB79-488B-47FA-A3FE-C7FDB8B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5F59-3FF5-4BA5-BC20-2364FA8E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5EE0-11F5-47C1-81F4-19EADE40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213A-D421-4B10-ABDF-84B3FF35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4382B-9283-43E7-8C26-85AF26CE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5D21F-58D6-4AF9-8D77-008E7C1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55EEF-8E0F-42E2-BCC8-2DB13AE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A0A-641E-4400-A2B4-12FFED13F153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AA0-167A-45C0-805C-2C66339A3405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59A9-4614-4800-9764-5ACD25E31FB2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81F-69CE-489C-9A6E-1EEFFECCCF73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6349-DBDB-4024-B5D4-9319B85BA6C2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149-5011-474C-9EF6-CBB311B624DC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C3A-1743-4C0D-BF9C-3E5AA8D90203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D16F-93CD-4E8F-B206-C2FC6AA3ADDD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A9E3-FB30-4597-B2BC-525B8DD77E44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FE9-0FF4-41C4-BB66-1694C3CCC612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B90-88BC-4A47-B810-18EFD8427B2D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683-BFF0-4B91-B219-2832D7CE22A4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64DF-F27A-41ED-8029-53A4DD2A734C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op.forest-trends.org/pages/biodiversity_offsets" TargetMode="External"/><Relationship Id="rId2" Type="http://schemas.openxmlformats.org/officeDocument/2006/relationships/hyperlink" Target="http://www.cbd.int/incentives/meetings/" TargetMode="External"/><Relationship Id="rId3" Type="http://schemas.openxmlformats.org/officeDocument/2006/relationships/hyperlink" Target="http://environment.yale.edu/TEEB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 Module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BOP, 2012. Biodiversity offsets;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bbop.forest-trends.org/pages/biodiversity_off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ccessed November 2012.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cbd.int/incentives/meetings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ast accessed November 201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Beukering et al, 2003. Economic valuation of the Leuser National Park on Sumatra, Indonesia. Ecological economics, 44, pp43 – 6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 In Local and Regional Policy and Management  Earthscan, Lond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3"/>
              </a:rPr>
              <a:t>http://environment.yale.edu/TEE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ast accessed November 201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14:17:36Z</dcterms:created>
  <dc:creator>KREBS</dc:creator>
  <dc:description/>
  <dc:language>en-US</dc:language>
  <cp:lastModifiedBy>KREBS</cp:lastModifiedBy>
  <dcterms:modified xsi:type="dcterms:W3CDTF">2013-08-12T14:19:12Z</dcterms:modified>
  <cp:revision>1</cp:revision>
  <dc:subject/>
  <dc:title>Bibliography Module</dc:title>
</cp:coreProperties>
</file>