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3155-7650-4076-B8FD-9E1BD0ACC7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8402-6E6D-42A6-9B1C-69E01EB7815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  <a:ea typeface="SimSu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FD44-3F81-470F-800B-7845B2DAA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C13-7E9D-44A5-B3A2-DE83166F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2D79B-458D-4045-ABF0-C042B11A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0A30C3-A715-4DF0-8DAD-D9A735E5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C5945-6BA7-4DF1-A8CB-AB7B7209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A291D-3582-4C27-BF6C-AB03640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ED569-525C-462E-8795-4DE79E59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54B41-C618-4403-B9C0-E65069F2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8318F-7B25-4311-935C-0ED67507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1E3C9-110F-499E-898F-143A04FD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E40655-E179-41BD-9A67-9815F739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AC007-E01F-4FA9-9055-0F466A4E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898-E523-4B0B-8A64-F090F52FE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B99D6-F5A6-4F31-A64A-19468650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60884-E8CC-4DBA-9E9E-7E3C83B3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703945-963F-4F11-A85B-702FE8DE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65196-3B82-47E7-B8DD-B41228E0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C586F-0114-48BE-BF26-D506DE52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CE734-5093-4C9C-9EBB-E8001E29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948FC-DC36-4385-874F-47E60D2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5D5E4-CB19-48BC-9759-3260300B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4354C-85B7-4B28-890E-0D7A05A7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3830BC-B6A9-4DAB-9B3D-830100F5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D387-9CDB-4A29-8C75-262846B7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E89F2-C2F0-47FB-A20E-D3D44828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00256-92DC-43FF-B573-4422E3BB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F6CB7-49CB-4C72-B55B-B1D5B96E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DDAF0-F8E8-4A14-92D2-09FBE4A3C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40B13-87B4-4C26-92AD-C8F958C8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F74DBE-74A6-433D-A3DE-C3D529D3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86718-A440-48B4-80BF-42A80BBC5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670648-6E68-479D-AD8E-EB38225A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345ED-9145-45FC-94F8-4CE26618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C0B51-D591-4A93-90D2-8F7A4E64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2400-69C8-42F4-89BC-FF8F5B63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24C6D-DDE1-4333-A085-D18824D7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E9B06-0452-45D3-AF9E-E06B2585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184DF0-B33D-41B0-BD61-A15A85409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3B26C5-5A3F-4773-8B3D-C8FBBEA2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0C41C-DBB9-4A42-B85B-CE0F4CF1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D3391-C959-4E6B-A911-172656A5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D6C66-DD8A-45C4-8CB2-8F50D7F0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64D1B4-9F1D-4DF7-AE62-5D2C0A21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2C53A-A320-4A4E-9D41-0B19F65A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B6549-F86D-4753-B9B8-079D5C31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E9D8-1301-4557-9A36-EAA45878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35F75-5883-4E3C-B9CF-13ABD3D2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65393-2D0B-4068-BE6D-293D4C86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679BF-C064-4B49-A15B-903AC9221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31E41-AC8B-4848-9CAF-0740A035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501DE5-7F46-4E2B-8804-57C82890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6BA2BC-8BD4-41D4-8414-1CF5D42E2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3FD0F-7702-4B18-A1F9-A7462682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4C2C90-235F-44D3-8335-E4C837AB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D36AB0-6E59-4318-9610-3B060ACB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83553B-1B00-4C63-B242-85A464A1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CE0B-AE62-4FD3-B84E-A0E0302B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B5E41-0F36-4390-98DC-8B2F285C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A67CF-F0DD-4C8F-BD55-C3F61930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A6977-FEA9-4AEE-B7C0-30353FE0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045CC-ED69-4308-9F8C-1393026F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72CC8-3FBE-4EA4-92FE-EB226360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9717EA-211A-48D6-803F-B7E44224D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C9984-80E6-41C9-AA1D-CD00945C0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E0C9-240A-4EB0-A5FA-01351CB4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7E38D-556F-42D1-84E7-BE25B516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D8F0-A99D-415B-A1E0-42F60A486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7690F-6BF6-41E5-AA64-5D494082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66E6-279F-4D0F-BD68-AADC5639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E9C1-1570-4F96-8FAD-21766672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D197-193B-4EBB-800F-74331867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2F8E-E580-42AA-A6E5-F5EDB073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F674D-C7EC-4692-8B74-6582557D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C34A-E57E-452E-A8A6-6C4E6798E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4329C-DD88-463C-B019-11A5E490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6255C-1520-4D55-86B6-18CE90AD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F6C81-7D41-4F97-85CD-0CAA0C02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AD1A1-F70A-4B89-8CC6-1EA90289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D95D5-8C7E-49C8-944B-45A435CD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5F5-B85E-4803-BC3C-6C929E3A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49E3F-B690-4AFF-A0E6-576D1D78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FD0E-9DA6-425A-8370-EDDE1834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CC05-14B9-4F55-828E-8532402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C2D6F-E389-40BE-B537-575A4DA7D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56E4-BF81-49C6-B08B-3DEAA0CE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4A299-94E2-4803-95EC-EAE2C7BC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43D5D-D797-4704-B57D-9A8A9B2A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12147-FAEF-4477-B43F-094F0037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FB662-0D21-4048-ACF8-726A7F16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AA64E-4544-438B-9BE4-8FB88940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4101-2F21-4A7A-B2E4-4B16447E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1AA1A-A08E-456D-B420-F031B456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A86EA4-A0D1-48D9-8E98-8C8D75EED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B1693-5254-4438-96D8-37ECEE5A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86799-127D-4C41-B57A-8E297FD5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3AD75-5112-4C6D-AE18-A6F32C5D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01E0B-B5D6-43F9-8D8F-01F48FA3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E28D0-BB3E-4D0A-AC91-E4844D39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7EB5C-03CE-4C9D-B270-BCDCAB94B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F9E81-EAD2-434A-8375-1222DBF36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567DF-7EAA-4F9A-88B7-A2EACA4D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0029-079F-4B3A-B8D4-2EBA871F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DFEE5-F65A-4059-BF8D-29A5E588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64B67-7293-4D99-891E-CC0D6B19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04D6-CC83-4F18-93AB-D2633073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1C4D0-9E93-43BD-A1D0-23E0BAD99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3FDA7-81AA-4FEA-9F30-6D9C42AE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A96FD-CE15-4E76-B148-208EED9B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21286-BBA3-496F-8FE0-F9669F7C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F64DD-4D48-4A10-B7EC-164C4815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0A897-BDB0-4443-BD94-2987E6C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B06D71-E407-4240-9316-A469F845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D2C3-B5C6-4571-9C6C-6299DB5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6EBD1-AC27-470F-9697-6CA06BBE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5F54B-345A-41F8-9A37-75D5AA954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222EE-C447-4101-A3E5-9F01A8A7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A495C-0BDE-4CFA-8532-1DC2201A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8A2C9-7AF5-4985-83D4-5D65F5F9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1E1DB-9D8E-4AD6-9D24-0806AD5D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9A56D-B6EE-443F-94B3-4939DF3D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4F18D-F546-4558-9DC2-D9CB7A6C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916CB-8684-48A3-A798-6D81913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1550C-6FAB-4934-A4FC-1545C3FD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54B-7C7A-484E-BFD5-06E463E6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A7D51-01FF-4DB7-ADDF-5E967E05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36C1B-407E-4153-A2BF-427C5192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0C5DF-A379-48A8-BD57-C4054D1E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A81B5-FE47-44A9-9E25-86077964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96FCB-0A29-46EA-A7DA-3D556482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F31A6-4D52-4002-BD76-95345ECD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356B6-C84C-43CE-B259-32442193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19EC4-149C-46B2-8045-79ACDE94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476311-78FC-4F89-BEA8-977A74EF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A6156-7E2A-4870-9E4E-F20263CC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080-7164-4CB4-BA65-E250F3B2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62B3F-69E0-4D71-BD84-CBF420C6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AE749-9F85-4566-8154-4BEE7BF3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7181B-1E5E-49DC-A00E-31E14291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BF563-4BB8-4F8C-9556-68CC71A5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A2E3D-265C-42C9-8F6C-E688EF0D0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D98D6-295F-4D97-B206-6CC7398F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B8BFF-11F4-4F90-85C3-9C925BF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B5D3C-5AB8-45E2-80F3-8CAE0B9C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CFECC-7943-447D-98A5-158A4550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0D65E-9750-4BA0-B3C6-43A92E19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C5C8-110F-43A4-A77C-79ED98FF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DF6BF-8AF2-4C84-9664-569EBD28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5EFC4-1A1F-4BDE-A077-06884918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8E025-C8C6-4FC4-86BC-58FF35FA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C21DC-B876-43BB-8EC3-D91078CA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53104-C371-4891-95AF-652024A4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2ED35-FFA9-4E5C-89CF-C74EE97C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14CC72-F8DF-4017-981A-A29F78F7C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BBB22-927C-444A-85EE-0EA73D11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DF8A2B-3033-4232-8810-D428F22F3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32482-9179-47B9-ACA8-BED7683D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4F38-F672-4E69-A1CB-C0DE0FB64C6F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6241-C561-46AB-A414-29B83A5C62C3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AC29B-81C1-4C4E-ABB8-9A774AA68474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4B21-EC85-4E2A-9455-3105CFC641CA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F360-74E7-4A92-89C2-82897FBDD0B2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6F3F-C766-4BE6-A4F7-99A81B2E3B75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1CF3-7CC2-46A5-96C2-B63D3AD99096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17BE-436C-4FCD-93AD-5E1D7E81F557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7915-62F5-4067-B61C-85AF7CA0DD5E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1E5A-853F-4E9A-AC7F-FC209C600FEE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4843-E21E-4796-8ADF-309C620E0891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8825-7B13-48D7-BA96-6BFD5FCF256D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C8D0-7582-4E37-BB50-38175B9FC561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bop.forest-trends.org/pages/biodiversity_offsets" TargetMode="External"/><Relationship Id="rId2" Type="http://schemas.openxmlformats.org/officeDocument/2006/relationships/hyperlink" Target="http://www.cbd.int/incentives/meetings/" TargetMode="External"/><Relationship Id="rId3" Type="http://schemas.openxmlformats.org/officeDocument/2006/relationships/hyperlink" Target="http://environment.yale.edu/TEEB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  <a:ea typeface="SimSun"/>
              </a:rPr>
              <a:t>Bibliography Module</a:t>
            </a:r>
            <a:endParaRPr b="0" lang="en-US" sz="40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0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BOP, 2012. Biodiversity offsets;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hlinkClick r:id="rId1"/>
              </a:rPr>
              <a:t>http://bbop.forest-trends.org/pages/biodiversity_offs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ccessed November 2012.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BD, 2011/12. Sub-regional Workshop on Valuation and Incentive Measures.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hlinkClick r:id="rId2"/>
              </a:rPr>
              <a:t>http://www.cbd.int/incentives/meetings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ast accessed November 2012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 Brink, P. (ed), 2010. The Economics of Ecosystem and Biodiversity in national and International Policy making. Earthscan, London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n Beukering et al, 2003. Economic valuation of the Leuser National Park on Sumatra, Indonesia. Ecological economics, 44, pp43 – 62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tmer, H. and Gundimeda, H. (eds), 2010. The Economics of Ecosystems and Biodiversity In Local and Regional Policy and Management  Earthscan, London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, 2008. Ecosystems and Human Well-being; A framework for Assessment. Island Press, Washington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ale University, 2011. The Economics of Ecosystems and Biodiversity. </a:t>
            </a:r>
            <a:r>
              <a:rPr b="0" lang="en-US" sz="2000" spc="-1" strike="noStrike" u="sng">
                <a:solidFill>
                  <a:srgbClr val="66ccff"/>
                </a:solidFill>
                <a:uFillTx/>
                <a:latin typeface="Times New Roman"/>
                <a:hlinkClick r:id="rId3"/>
              </a:rPr>
              <a:t>http://environment.yale.edu/TEE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last accessed November 2012</a:t>
            </a:r>
            <a:endParaRPr b="0" lang="en-US" sz="20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6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2T14:17:36Z</dcterms:created>
  <dc:creator>KREBS</dc:creator>
  <dc:description/>
  <dc:language>en-US</dc:language>
  <cp:lastModifiedBy>KREBS</cp:lastModifiedBy>
  <dcterms:modified xsi:type="dcterms:W3CDTF">2013-08-12T14:19:12Z</dcterms:modified>
  <cp:revision>1</cp:revision>
  <dc:subject/>
  <dc:title>Bibliography Module</dc:title>
</cp:coreProperties>
</file>