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CFDE9-0FD1-4418-BD9D-BE71E907953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BDFC-A99D-4FDC-B959-C8FA0922C14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03" name="PlaceHolder 1"/>
          <p:cNvSpPr>
            <a:spLocks noGrp="1"/>
          </p:cNvSpPr>
          <p:nvPr>
            <p:ph type="sldImg"/>
          </p:nvPr>
        </p:nvSpPr>
        <p:spPr>
          <a:xfrm>
            <a:off x="1144440" y="687240"/>
            <a:ext cx="4569120" cy="3427560"/>
          </a:xfrm>
          <a:prstGeom prst="rect">
            <a:avLst/>
          </a:prstGeom>
          <a:ln w="0">
            <a:noFill/>
          </a:ln>
        </p:spPr>
      </p:sp>
      <p:sp>
        <p:nvSpPr>
          <p:cNvPr id="604"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F39A-F7AF-4614-97E4-7952EC30604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Welcome</a:t>
            </a:r>
            <a:r>
              <a:rPr b="0" lang="en-US" sz="1200" spc="-1" strike="noStrike">
                <a:solidFill>
                  <a:srgbClr val="000000"/>
                </a:solidFill>
                <a:latin typeface="Calibri"/>
              </a:rPr>
              <a:t> participants to Module 5; Policy Responses to TEEB Findin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 </a:t>
            </a:r>
            <a:r>
              <a:rPr b="0" lang="en-US" sz="1200" spc="-1" strike="noStrike">
                <a:solidFill>
                  <a:srgbClr val="000000"/>
                </a:solidFill>
                <a:latin typeface="Calibri"/>
                <a:ea typeface="SimSun"/>
              </a:rPr>
              <a:t>what is meant by policy responses and why it is important by stating that it is the response to</a:t>
            </a:r>
            <a:r>
              <a:rPr b="0" lang="en-US" sz="1200" spc="-1" strike="noStrike">
                <a:solidFill>
                  <a:srgbClr val="ffffff"/>
                </a:solidFill>
                <a:latin typeface="Calibri"/>
              </a:rPr>
              <a:t> the information generated by a TEEB study e.g. economic information of biodiversity and ecosystem services generated from a valuation exercise with appropriate policy measures e.g. addressing harmful subsidies, the implementation of a PES scheme, strengthening national protected area system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why it is important by emphasizing the fact that a response </a:t>
            </a:r>
            <a:r>
              <a:rPr b="0" lang="en-US" sz="1200" spc="-1" strike="noStrike">
                <a:solidFill>
                  <a:srgbClr val="ffffff"/>
                </a:solidFill>
                <a:latin typeface="Calibri"/>
              </a:rPr>
              <a:t>to such findings can help address more policy issues effectively and further guide policy making towards more socially, economically and ecologically sustainable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83B7-B9CF-4BD5-B561-AF9593F24C7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the overall goal of the module is to demonstrate the importance of responding to TEEB findings and to provide a range of different policy options and instruments to use for improved stewardship of natural capit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A013-2DAC-4157-AD5B-66BF52C9EC2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specific objectives of the module (see objectives on sl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8192-02C5-4FC6-B3F0-C6AB87146D8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 </a:t>
            </a:r>
            <a:r>
              <a:rPr b="0" lang="en-US" sz="1200" spc="-1" strike="noStrike">
                <a:solidFill>
                  <a:srgbClr val="000000"/>
                </a:solidFill>
                <a:latin typeface="Calibri"/>
              </a:rPr>
              <a:t>on what each session of module 5 contains – see descriptions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1: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discusses in detail the importance of integrating biodiversity and ecosystem values into decision making processes. It highlights the need to conduct a policy assessment so decision makers can understand better the type of policy issues they are tackling. Leaning on the TEEB approach (recognize, demonstrate and capture), the session introduces and identifies some of the policy options/instruments that can be used to respond to TEEB finding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explores in more detail the range of policy options/instruments for improved stewardship of natural capital that were introduced in the first session and provides case studies examples of where these responses have been appli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Session 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ession considers the road ahead and what the next steps are for those stakeholders wishing to undertake a TEEB study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3486-7CC9-4C2D-A6AA-89167FABCC8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main learning outco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Demonstrate</a:t>
            </a:r>
            <a:r>
              <a:rPr b="0" lang="en-US" sz="1200" spc="-1" strike="noStrike">
                <a:solidFill>
                  <a:srgbClr val="000000"/>
                </a:solidFill>
                <a:latin typeface="Calibri"/>
              </a:rPr>
              <a:t> an understanding of the existing policy responses available for use when responding to TEEB fi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Recognize </a:t>
            </a:r>
            <a:r>
              <a:rPr b="0" lang="en-US" sz="1200" spc="-1" strike="noStrike">
                <a:solidFill>
                  <a:srgbClr val="000000"/>
                </a:solidFill>
                <a:latin typeface="Calibri"/>
              </a:rPr>
              <a:t>the main limitations and challenges of these policy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Identify</a:t>
            </a:r>
            <a:r>
              <a:rPr b="0" lang="en-US" sz="1200" spc="-1" strike="noStrike">
                <a:solidFill>
                  <a:srgbClr val="000000"/>
                </a:solidFill>
                <a:latin typeface="Calibri"/>
              </a:rPr>
              <a:t> and </a:t>
            </a:r>
            <a:r>
              <a:rPr b="0" lang="en-US" sz="1200" spc="-1" strike="noStrike" u="sng">
                <a:solidFill>
                  <a:srgbClr val="000000"/>
                </a:solidFill>
                <a:uFillTx/>
                <a:latin typeface="Calibri"/>
              </a:rPr>
              <a:t>understand</a:t>
            </a:r>
            <a:r>
              <a:rPr b="0" lang="en-US" sz="1200" spc="-1" strike="noStrike">
                <a:solidFill>
                  <a:srgbClr val="000000"/>
                </a:solidFill>
                <a:latin typeface="Calibri"/>
              </a:rPr>
              <a:t> some case study examples of where these policy responses are being put into 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Identify </a:t>
            </a:r>
            <a:r>
              <a:rPr b="0" lang="en-US" sz="1200" spc="-1" strike="noStrike">
                <a:solidFill>
                  <a:srgbClr val="000000"/>
                </a:solidFill>
                <a:latin typeface="Calibri"/>
              </a:rPr>
              <a:t>the suitable application of the various policy responses in their own country contex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986E1-3623-44A1-9B90-9C55A99793C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1" lang="en-US" sz="1200" spc="-1" strike="noStrike">
                <a:solidFill>
                  <a:srgbClr val="000000"/>
                </a:solidFill>
                <a:latin typeface="Calibri"/>
              </a:rPr>
              <a:t> </a:t>
            </a:r>
            <a:r>
              <a:rPr b="0" lang="en-US" sz="1200" spc="-1" strike="noStrike">
                <a:solidFill>
                  <a:srgbClr val="000000"/>
                </a:solidFill>
                <a:latin typeface="Calibri"/>
              </a:rPr>
              <a:t>agenda of module and timings of each session (this is a half day session on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importance of time keeping so to keep course on schedul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53B0-DAB6-4556-B0CA-F2C21C518A5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rganize</a:t>
            </a:r>
            <a:r>
              <a:rPr b="0" lang="en-US" sz="1200" spc="-1" strike="noStrike">
                <a:solidFill>
                  <a:srgbClr val="000000"/>
                </a:solidFill>
                <a:latin typeface="Calibri"/>
              </a:rPr>
              <a:t> participants into pairs and execute icebreaker outlined on the sl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Note </a:t>
            </a:r>
            <a:r>
              <a:rPr b="0" lang="en-US" sz="1200" spc="-1" strike="noStrike">
                <a:solidFill>
                  <a:srgbClr val="000000"/>
                </a:solidFill>
                <a:latin typeface="Calibri"/>
                <a:ea typeface="SimSun"/>
              </a:rPr>
              <a:t>down the information accordingly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1F77-C11F-4AF0-BDAA-162ADF0B961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Provide </a:t>
            </a:r>
            <a:r>
              <a:rPr b="0" lang="en-US" sz="1200" spc="-1" strike="noStrike">
                <a:solidFill>
                  <a:srgbClr val="000000"/>
                </a:solidFill>
                <a:latin typeface="Calibri"/>
                <a:ea typeface="SimSun"/>
              </a:rPr>
              <a:t>participants with key list of useful resources for module 5 as a handout and highlight some of the most useful references for the training course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711C37-CD14-407E-B6BB-89A072FA0E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D343F-0B62-48AD-9098-E5DCA58C5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0115DD-909A-4F71-BDF6-43F2F54CC5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EB1A4E-8745-45A2-8BD9-401034F26E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E97EC1E-75C3-4E9F-984D-0C551B01467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381400-6AB0-443C-8053-237B0D1F94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172D253-B439-4516-B5F1-6B1A337C9E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CAFBF0-425A-4E91-A956-DCE16A7766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FC724E-AA12-4C9E-AEC2-DCEA0FCC91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BC0A13-3300-44D4-A2FB-C64E8138E3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B29D16-D8FC-4A2A-AFF9-5EAB9F750A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8B330A-89DF-4FF7-A183-A424CDF03F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60ECF-2A51-4074-8CAB-4C4AF41DE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AE12C6-AB5A-4796-AE12-CCC10906833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8E1A62-C9D7-42BB-98A2-3F537730251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AE33713-C8BE-467D-B09C-79120C4EF5A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D5BDB4-A317-4EF2-ACEB-68431D72D8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FB32AB5-2E34-4CA1-BF83-436EF737DE0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589F2C-3796-408B-8B1C-545CFA67AC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A07E81-46C5-4769-8FF8-24E5B8EBD7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A7D037-F506-440A-8D31-39F1522D64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6EDBDE-1A9D-4483-98F8-16BBA4FED0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90B4B31-49F3-4D21-86D6-F994131FA3F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CC721-67DB-4F94-AF10-64F8B117C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95560CB-3476-4924-A866-41995FA0CB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4BA7DC-58AF-488F-8DB2-40BBD9498F6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C2398C-3470-456F-A40E-581D378961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CA74068-5900-415E-A670-2D125AC2EA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AA0488-7A23-44BC-808B-7FC9142075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871CE76-2D09-45AA-892A-8007AFDF56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35B80DF-8AFA-4157-8FCC-4D9702360D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024070-530E-4001-BAB1-0C769291F4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F7A6F7A-23C6-4D60-A649-7E255BFED1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D408AB-E1B5-45F4-B089-4682535324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2D9BB-179D-4B7D-82F4-B5678348E4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64B02A-33C5-42CD-B2EE-B79AB9D437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6937D2-A483-4B29-A658-99B386F249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6E42A8F-426A-4E46-A4B5-4E36346A8C6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B84AB6B-2444-4B44-88AA-A4A2BBC61A2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A5C0F7B-428B-4BC3-A081-33BBA8205F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6CBB89-D990-41FC-9A2D-EE6011502C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0782EB-979E-4AB5-885F-7416759F37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EF329C-9236-46CA-8896-04FC2C4639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9BAD6E-9329-48F3-811A-FE0D260D7C7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2C7E91-DF65-442B-974A-3AE75F2348C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2E44B4-6FCB-4D12-AB85-1D55BD461C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1787CB0-62E2-4855-BB1E-EC91B00449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6ACEADB-1A5E-47D7-8BE1-A3B73E3DD4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E9202D-51B4-4AE8-9189-9004C5B4F86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F188A3A-6D75-404F-8C2A-93947B03104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E163558-7052-486E-8603-5B8C3E2D457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5278BCC-B0F6-4F16-86CD-8749C1A979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F5238FD-E2C1-45AB-8044-334153F6E29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DECD080-DE3E-4254-BB53-9DF47563FF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7CB3616-7CA1-4CC3-A840-6B4A046A8F6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4D14D98-C502-4285-8CDE-A916319C6DC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2C14C-54C3-4AE7-A9CB-95E1B273AC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0930D2-77C6-4A59-81F9-24B6385287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124A303-104E-4B44-BF43-ED237FBE6E7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FE096D-81AE-4826-8EBE-94063BFD3AF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766247-CE90-47AA-BD03-A2D5048E3B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FF8FF2C-8DA3-46A7-9930-99541AA90C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F6D7AF1-633C-4712-9F92-F9B645F0EDD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F2954BF-65A4-4D3C-9DA0-639F5FD8355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40891B-3C4D-4671-92F0-C863F8521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45D53E-4EF5-45F2-899B-F32AB7B14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3E31D-C6D0-46F9-9822-0FF099C29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CF0BA-5AC6-49AA-95F8-5F70B0D76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E572C-72E9-44D9-9EA2-5CCC0478B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8F1FA-83C7-40F6-82D6-1C3149C34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2618D-D8DE-4213-8B94-7170882885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3E9FF0-5EB3-4E82-B211-C6996CC3E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7351CC-9EF8-49BC-92D8-443912948B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11304E-16AF-4318-AB69-8172BFBCD5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F0B8ED-9A2C-46F9-A345-7E1C28BF16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3EF3D7-CC1C-4FB6-BB2B-FB55E91C6D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F8CEC-2490-4626-A866-4A3558DA7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7AD7DF-B37D-40A3-9296-1FE2E2617D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D339A1-2782-4215-85E1-FA36A9A1DE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FD7E9-1BE6-4B73-95F1-4195E8655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DF932F-ED67-400B-AB0D-0442A427E9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50EA1-D492-479C-80DE-8DA8E5B13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294F9-7328-4AED-B33C-92BE12B9A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452C8B-0FE1-4F5A-AA91-B8528AB420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87E9B5-9106-43A0-AE71-D55C00FFF8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EA3645-FDF8-46F1-A7CF-C417323C1D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ED874B-6AF8-4745-B7E0-E6D7E1FB61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1D9DA5-AC7D-4A65-86FA-7104665A39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86C56D-D013-409E-ABC9-0FD76A3D2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D95235-6241-41B1-BB59-0DA3045BA1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A934C-83A1-44A0-BC34-B3A27A156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902551-F2BD-437C-9C7C-82152A680C8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4C99BD-B39C-4EA8-A2AB-237478CAC3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44472C-7E42-4224-8DF3-80C1DC9271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3BED0F-0A4A-42BC-A90C-85F5278DD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4DBC0-6C6D-4B81-9E4E-96B78D8F4B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CBE307-06BE-49DD-834D-C52F60DE2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DFC9AB-1BF5-4717-855C-019FD4C52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C44B91-087E-429E-8308-30DCFB20C2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78317D-23ED-4846-AF11-90573FE986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88AFB9-15C3-4931-8E5F-4F2056844F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9D1C6-3935-43B9-A03E-2F49DFFC5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090CB2-5C95-4012-BBC7-B7996A4529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50F71F-EC7B-41AD-9F7C-BD6B924AB2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1A1007-772A-4B02-AE2D-7BF99B86F4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E40AA5-D1B2-447F-A701-5BD531EC89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97C21-E70B-48E4-B6C8-435F4F35F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BB5F7-EA3B-46F0-9092-5B68091BE8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49302A-F22F-4BA4-841D-764AF234A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61D81A-9DEC-4CFD-9DB6-B9C354AB14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23A585-6235-4738-9BC9-31FDE3BF9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667DDF-2B9A-4C68-8290-94E244C78A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2D341-95C5-46EB-B0EB-346D143A6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044EED-C9AF-4AA1-895E-F520D39C41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7882DA0-875B-4FBE-97BC-405D4202D2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E6F619-3F0B-41B0-BCDB-8ED608E161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2E3329-9F6F-481D-AFB2-279A6BD3A3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9C44A0-1B26-4971-B4C7-52B79AB38E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9F2DF2-DA1D-4653-979F-17006C4339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C49042-9CC2-46A7-B814-390AABAF06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32C72-DC0F-4EE4-BCE9-1C954B5520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03931C-0617-4C1C-9CD5-C4845A2ADB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5F0C29-9685-48A5-9A91-3B9B8FC1A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AB895-65DD-4C0F-9E1C-A53048CE7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7D45E5-346F-4E39-BD4A-67666B15F1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1DD102-4AAF-4C0A-84EE-5E0B6811EE6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FDFDF3-9732-4381-886B-D3C791E6F4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467CD7-A9B3-4AC8-B537-8C3F3B06735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2819E0-F532-4290-B567-F8C4638A94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BC18C6F-F09F-4544-8D1B-FEA39AECD5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6D4031-F0AB-4E9D-B8A0-5118578B91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DB93D3-15AE-494D-ABB5-854BC05484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0A6BF-441B-40D6-8F3B-F6486249B1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F78100-42BC-4873-A73E-976A57B5D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B230B-922B-4D3D-AAA2-B8FAFFC2A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B02AA-281D-4E7F-BD67-A89F093682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F8033D-80A2-4CE7-914E-2FFDC9BF8F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F9542B-EDD7-402F-B94E-CD79384936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1C5417-AC49-45FD-A944-261B809273A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219C5D-38F0-4EA7-81BB-0EEFA6C290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728884-8F4C-4E51-9547-64ED676B01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8E292D-CB66-4176-A82B-4A86D875B9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A423A1-B867-4A90-806A-9F36DDD68C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D1C422-97C7-4D00-8AA8-EEB028D05D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50E7A1-0A4E-4627-9648-9901E94D1A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7101D-1F1A-42B8-99E6-33A5A8EFA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D008A3-521D-4B07-A306-46A186D003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919FC1-DCCA-4EAA-B959-0B4E866485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0F87FF-315A-4B43-810B-54145D65BE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D1AD4C-377D-416A-AEE6-684072E269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75D941-6436-4FCE-9C9B-3C1CC619AF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3FCAC0-785E-41C1-9D91-4E1C9EF78A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52BA40-18CF-4116-B162-CB1801F798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09C501-E7C8-421B-A4BB-E7B05037BB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756514-8CE1-4F4F-A042-FCE75FB24D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7F369-C4F3-4494-A157-53CF1F9885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0BD86-2C1B-4228-A705-F13B3534508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39BC-CE48-4B74-921C-336027E782D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7E47-9FA0-46F1-B0B0-699E021CA69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64DC-64DE-43ED-A3E6-8D7E2E07735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58049-CFC9-4054-9B2E-83E75391702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71930-1B1A-423C-B6BE-046D180C666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4D01-7359-4558-90A7-CFA05C023CD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353B-92E6-4CAF-B5CA-C448CAEA1EE3}"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8067-5DDC-46C7-9ECE-7FA0A9D4440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D29D-549F-4A49-BA1A-93C5532B1BF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BDD2-1592-408E-924D-88B1E1C40C7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D94E6-92CE-4E96-9891-3D948367A22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5502-F58A-4D14-A0D5-C3EFA22D3B6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Box 2"/>
          <p:cNvSpPr/>
          <p:nvPr/>
        </p:nvSpPr>
        <p:spPr>
          <a:xfrm>
            <a:off x="684360" y="5300640"/>
            <a:ext cx="784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Module 5:</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Policy Responses to TEEB Findings</a:t>
            </a:r>
            <a:endParaRPr b="0" lang="en-US" sz="2800" spc="-1" strike="noStrike">
              <a:solidFill>
                <a:srgbClr val="ffffff"/>
              </a:solidFill>
              <a:latin typeface="Times New Roman"/>
            </a:endParaRPr>
          </a:p>
        </p:txBody>
      </p:sp>
      <p:sp>
        <p:nvSpPr>
          <p:cNvPr id="581" name="TextBox 2"/>
          <p:cNvSpPr/>
          <p:nvPr/>
        </p:nvSpPr>
        <p:spPr>
          <a:xfrm>
            <a:off x="1763640" y="260280"/>
            <a:ext cx="626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TEEB Training for National Level Implementation</a:t>
            </a:r>
            <a:endParaRPr b="0" lang="en-US" sz="2800" spc="-1" strike="noStrike">
              <a:solidFill>
                <a:srgbClr val="ffffff"/>
              </a:solidFill>
              <a:latin typeface="Times New Roman"/>
            </a:endParaRPr>
          </a:p>
        </p:txBody>
      </p:sp>
      <p:pic>
        <p:nvPicPr>
          <p:cNvPr id="582" name="Picture 6" descr="logo TEEB transparent print"/>
          <p:cNvPicPr/>
          <p:nvPr/>
        </p:nvPicPr>
        <p:blipFill>
          <a:blip r:embed="rId1"/>
          <a:stretch/>
        </p:blipFill>
        <p:spPr>
          <a:xfrm>
            <a:off x="3203640" y="1484280"/>
            <a:ext cx="330048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684360" y="692280"/>
            <a:ext cx="7772400" cy="89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Responding to TEEB findings</a:t>
            </a:r>
            <a:endParaRPr b="0" lang="en-US" sz="3600" spc="-1" strike="noStrike">
              <a:solidFill>
                <a:srgbClr val="000532"/>
              </a:solidFill>
              <a:latin typeface="Arial"/>
            </a:endParaRPr>
          </a:p>
        </p:txBody>
      </p:sp>
      <p:sp>
        <p:nvSpPr>
          <p:cNvPr id="584" name="Rectangle 3"/>
          <p:cNvSpPr/>
          <p:nvPr/>
        </p:nvSpPr>
        <p:spPr>
          <a:xfrm>
            <a:off x="395280" y="1773360"/>
            <a:ext cx="8209080" cy="436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566"/>
                </a:solidFill>
                <a:latin typeface="Times New Roman"/>
              </a:rPr>
              <a:t>What does this mea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ponding to the information generated by a </a:t>
            </a:r>
            <a:r>
              <a:rPr b="1" lang="en-US" sz="2400" spc="-1" strike="noStrike">
                <a:solidFill>
                  <a:srgbClr val="000000"/>
                </a:solidFill>
                <a:latin typeface="Times New Roman"/>
              </a:rPr>
              <a:t>TEEB study</a:t>
            </a:r>
            <a:r>
              <a:rPr b="0" lang="en-US" sz="2400" spc="-1" strike="noStrike">
                <a:solidFill>
                  <a:srgbClr val="000000"/>
                </a:solidFill>
                <a:latin typeface="Times New Roman"/>
              </a:rPr>
              <a:t> with appropriate policy measures e.g. </a:t>
            </a:r>
            <a:endParaRPr b="0" lang="en-US" sz="2400" spc="-1" strike="noStrike">
              <a:solidFill>
                <a:srgbClr val="ffffff"/>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ressing harmful subsidies</a:t>
            </a:r>
            <a:endParaRPr b="0" lang="en-US" sz="2400" spc="-1" strike="noStrike">
              <a:solidFill>
                <a:srgbClr val="ffffff"/>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mplementation of a PES scheme</a:t>
            </a:r>
            <a:endParaRPr b="0" lang="en-US" sz="2400" spc="-1" strike="noStrike">
              <a:solidFill>
                <a:srgbClr val="ffffff"/>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rengthening national protected area systems</a:t>
            </a: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566"/>
                </a:solidFill>
                <a:latin typeface="Times New Roman"/>
              </a:rPr>
              <a:t>Why is it importa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ponding to such findings can help address policy issues more effectively and further guide policy making towards more socially, economically and ecologically sustainable action</a:t>
            </a:r>
            <a:r>
              <a:rPr b="0" lang="en-US" sz="2400" spc="-1" strike="noStrike">
                <a:solidFill>
                  <a:srgbClr val="000000"/>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68360" y="90756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Goal</a:t>
            </a:r>
            <a:endParaRPr b="0" lang="en-US" sz="4000" spc="-1" strike="noStrike">
              <a:solidFill>
                <a:srgbClr val="000532"/>
              </a:solidFill>
              <a:latin typeface="Arial"/>
            </a:endParaRPr>
          </a:p>
        </p:txBody>
      </p:sp>
      <p:sp>
        <p:nvSpPr>
          <p:cNvPr id="586" name="PlaceHolder 2"/>
          <p:cNvSpPr>
            <a:spLocks noGrp="1"/>
          </p:cNvSpPr>
          <p:nvPr>
            <p:ph/>
          </p:nvPr>
        </p:nvSpPr>
        <p:spPr>
          <a:xfrm>
            <a:off x="684360" y="2421000"/>
            <a:ext cx="7632720" cy="2520720"/>
          </a:xfrm>
          <a:prstGeom prst="rect">
            <a:avLst/>
          </a:prstGeom>
          <a:solidFill>
            <a:srgbClr val="66ccff">
              <a:alpha val="32000"/>
            </a:srgbClr>
          </a:solid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To Demonstrate</a:t>
            </a:r>
            <a:r>
              <a:rPr b="0" lang="en-US" sz="3200" spc="-1" strike="noStrike">
                <a:solidFill>
                  <a:srgbClr val="000000"/>
                </a:solidFill>
                <a:latin typeface="Times New Roman"/>
              </a:rPr>
              <a:t> </a:t>
            </a:r>
            <a:r>
              <a:rPr b="0" lang="en-US" sz="3200" spc="-1" strike="noStrike">
                <a:solidFill>
                  <a:srgbClr val="000532"/>
                </a:solidFill>
                <a:latin typeface="Times New Roman"/>
              </a:rPr>
              <a:t>the importance of responding to TEEB findings and provide a range of different policy options and instruments that can be used for improved stewardship of natural capital. </a:t>
            </a: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366"/>
                </a:solidFill>
                <a:latin typeface="Arial"/>
              </a:rPr>
              <a:t>Main objectives of module 5</a:t>
            </a:r>
            <a:endParaRPr b="0" lang="en-US" sz="4400" spc="-1" strike="noStrike">
              <a:solidFill>
                <a:srgbClr val="000532"/>
              </a:solidFill>
              <a:latin typeface="Arial"/>
            </a:endParaRPr>
          </a:p>
        </p:txBody>
      </p:sp>
      <p:sp>
        <p:nvSpPr>
          <p:cNvPr id="588" name="Rectangle 3"/>
          <p:cNvSpPr/>
          <p:nvPr/>
        </p:nvSpPr>
        <p:spPr>
          <a:xfrm>
            <a:off x="539640" y="1773360"/>
            <a:ext cx="7993080" cy="40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xplores </a:t>
            </a:r>
            <a:r>
              <a:rPr b="0" lang="en-US" sz="2400" spc="-1" strike="noStrike">
                <a:solidFill>
                  <a:srgbClr val="000000"/>
                </a:solidFill>
                <a:latin typeface="Times New Roman"/>
              </a:rPr>
              <a:t>the importance of integrating ecosystem services values into decision-mak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mphasizes</a:t>
            </a:r>
            <a:r>
              <a:rPr b="0" lang="en-US" sz="2400" spc="-1" strike="noStrike">
                <a:solidFill>
                  <a:srgbClr val="000000"/>
                </a:solidFill>
                <a:latin typeface="Times New Roman"/>
              </a:rPr>
              <a:t> the need to consider the policy context when making such decision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ntroduces</a:t>
            </a:r>
            <a:r>
              <a:rPr b="0" lang="en-GB" sz="2400" spc="-1" strike="noStrike">
                <a:solidFill>
                  <a:srgbClr val="000000"/>
                </a:solidFill>
                <a:latin typeface="Times New Roman"/>
              </a:rPr>
              <a:t> a range of different policy options and instruments for respond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Identifies</a:t>
            </a:r>
            <a:r>
              <a:rPr b="0" lang="en-GB" sz="2400" spc="-1" strike="noStrike">
                <a:solidFill>
                  <a:srgbClr val="000000"/>
                </a:solidFill>
                <a:latin typeface="Times New Roman"/>
              </a:rPr>
              <a:t> case studies where different these different policy responses and instruments have been applied across the glob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1267920"/>
            <a:ext cx="820728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Module is broken down into 3 sessions: </a:t>
            </a:r>
            <a:br>
              <a:rPr sz="3600"/>
            </a:br>
            <a:endParaRPr b="0" lang="en-US" sz="3600" spc="-1" strike="noStrike">
              <a:solidFill>
                <a:srgbClr val="000532"/>
              </a:solidFill>
              <a:latin typeface="Arial"/>
            </a:endParaRPr>
          </a:p>
        </p:txBody>
      </p:sp>
      <p:sp>
        <p:nvSpPr>
          <p:cNvPr id="590" name="PlaceHolder 2"/>
          <p:cNvSpPr>
            <a:spLocks noGrp="1"/>
          </p:cNvSpPr>
          <p:nvPr>
            <p:ph/>
          </p:nvPr>
        </p:nvSpPr>
        <p:spPr>
          <a:xfrm>
            <a:off x="539640" y="2492280"/>
            <a:ext cx="8229600" cy="341784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ssion 1:</a:t>
            </a:r>
            <a:r>
              <a:rPr b="0" lang="en-GB" sz="2800" spc="-1" strike="noStrike">
                <a:solidFill>
                  <a:srgbClr val="000000"/>
                </a:solidFill>
                <a:latin typeface="Times New Roman"/>
              </a:rPr>
              <a:t> Integrating ecosystem services values into decision making</a:t>
            </a:r>
            <a:endParaRPr b="0" lang="en-US" sz="28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ssion 2:</a:t>
            </a:r>
            <a:r>
              <a:rPr b="0" lang="en-GB" sz="2800" spc="-1" strike="noStrike">
                <a:solidFill>
                  <a:srgbClr val="000000"/>
                </a:solidFill>
                <a:latin typeface="Times New Roman"/>
              </a:rPr>
              <a:t> Instruments for improved Stewardship of Natural Capital</a:t>
            </a:r>
            <a:endParaRPr b="0" lang="en-US" sz="2800" spc="-1" strike="noStrike">
              <a:solidFill>
                <a:srgbClr val="000532"/>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ession 3:</a:t>
            </a:r>
            <a:r>
              <a:rPr b="0" lang="en-GB" sz="2800" spc="-1" strike="noStrike">
                <a:solidFill>
                  <a:srgbClr val="000000"/>
                </a:solidFill>
                <a:latin typeface="Times New Roman"/>
              </a:rPr>
              <a:t> The Road Ahead</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Learning Outcomes</a:t>
            </a:r>
            <a:endParaRPr b="0" lang="en-US" sz="4000" spc="-1" strike="noStrike">
              <a:solidFill>
                <a:srgbClr val="000532"/>
              </a:solidFill>
              <a:latin typeface="Arial"/>
            </a:endParaRPr>
          </a:p>
        </p:txBody>
      </p:sp>
      <p:sp>
        <p:nvSpPr>
          <p:cNvPr id="592" name="PlaceHolder 2"/>
          <p:cNvSpPr>
            <a:spLocks noGrp="1"/>
          </p:cNvSpPr>
          <p:nvPr>
            <p:ph/>
          </p:nvPr>
        </p:nvSpPr>
        <p:spPr>
          <a:xfrm>
            <a:off x="468360" y="1915920"/>
            <a:ext cx="8229600" cy="384948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monstrate</a:t>
            </a:r>
            <a:r>
              <a:rPr b="0" lang="en-US" sz="2400" spc="-1" strike="noStrike">
                <a:solidFill>
                  <a:srgbClr val="000000"/>
                </a:solidFill>
                <a:latin typeface="Times New Roman"/>
              </a:rPr>
              <a:t> an understanding of the existing policy responses available for use when responding to TEEB findings </a:t>
            </a:r>
            <a:endParaRPr b="0" lang="en-US" sz="2400" spc="-1" strike="noStrike">
              <a:solidFill>
                <a:srgbClr val="000532"/>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gnize</a:t>
            </a:r>
            <a:r>
              <a:rPr b="0" lang="en-US" sz="2400" spc="-1" strike="noStrike">
                <a:solidFill>
                  <a:srgbClr val="000000"/>
                </a:solidFill>
                <a:latin typeface="Times New Roman"/>
              </a:rPr>
              <a:t> the main limitations and challenges of these policy responses</a:t>
            </a:r>
            <a:endParaRPr b="0" lang="en-US" sz="2400" spc="-1" strike="noStrike">
              <a:solidFill>
                <a:srgbClr val="000532"/>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dentify </a:t>
            </a:r>
            <a:r>
              <a:rPr b="0" lang="en-US" sz="2400" spc="-1" strike="noStrike">
                <a:solidFill>
                  <a:srgbClr val="000000"/>
                </a:solidFill>
                <a:latin typeface="Times New Roman"/>
              </a:rPr>
              <a:t>and </a:t>
            </a:r>
            <a:r>
              <a:rPr b="1" lang="en-US" sz="2400" spc="-1" strike="noStrike" u="sng">
                <a:solidFill>
                  <a:srgbClr val="000000"/>
                </a:solidFill>
                <a:uFillTx/>
                <a:latin typeface="Times New Roman"/>
              </a:rPr>
              <a:t>understand</a:t>
            </a:r>
            <a:r>
              <a:rPr b="1" lang="en-US" sz="2400" spc="-1" strike="noStrike">
                <a:solidFill>
                  <a:srgbClr val="000000"/>
                </a:solidFill>
                <a:latin typeface="Times New Roman"/>
              </a:rPr>
              <a:t> </a:t>
            </a:r>
            <a:r>
              <a:rPr b="0" lang="en-US" sz="2400" spc="-1" strike="noStrike">
                <a:solidFill>
                  <a:srgbClr val="000000"/>
                </a:solidFill>
                <a:latin typeface="Times New Roman"/>
              </a:rPr>
              <a:t>some case study examples of where these policy responses are being put into action</a:t>
            </a:r>
            <a:endParaRPr b="0" lang="en-US" sz="2400" spc="-1" strike="noStrike">
              <a:solidFill>
                <a:srgbClr val="000532"/>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dentify</a:t>
            </a:r>
            <a:r>
              <a:rPr b="0" lang="en-US" sz="2400" spc="-1" strike="noStrike">
                <a:solidFill>
                  <a:srgbClr val="000000"/>
                </a:solidFill>
                <a:latin typeface="Times New Roman"/>
              </a:rPr>
              <a:t> the suitable application of the various policy responses in their own country context -group exercise</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11280" y="836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Agenda</a:t>
            </a:r>
            <a:endParaRPr b="0" lang="en-US" sz="4000" spc="-1" strike="noStrike">
              <a:solidFill>
                <a:srgbClr val="000532"/>
              </a:solidFill>
              <a:latin typeface="Arial"/>
            </a:endParaRPr>
          </a:p>
        </p:txBody>
      </p:sp>
      <p:graphicFrame>
        <p:nvGraphicFramePr>
          <p:cNvPr id="594" name=""/>
          <p:cNvGraphicFramePr/>
          <p:nvPr/>
        </p:nvGraphicFramePr>
        <p:xfrm>
          <a:off x="684360" y="1844640"/>
          <a:ext cx="7777080" cy="4363920"/>
        </p:xfrm>
        <a:graphic>
          <a:graphicData uri="http://schemas.openxmlformats.org/drawingml/2006/table">
            <a:tbl>
              <a:tblPr/>
              <a:tblGrid>
                <a:gridCol w="955440"/>
                <a:gridCol w="682164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Times New Roman"/>
                          <a:ea typeface="SimSun"/>
                        </a:rPr>
                        <a:t>Duration (mins)</a:t>
                      </a:r>
                      <a:endParaRPr b="0" lang="en-US" sz="12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468a4b"/>
                      </a:solidFill>
                    </a:lnT>
                    <a:lnB w="5760">
                      <a:solidFill>
                        <a:srgbClr val="000532"/>
                      </a:solidFill>
                    </a:lnB>
                    <a:solidFill>
                      <a:srgbClr val="001932"/>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Times New Roman"/>
                          <a:ea typeface="SimSun"/>
                        </a:rPr>
                        <a:t>Session</a:t>
                      </a:r>
                      <a:endParaRPr b="0" lang="en-US" sz="1200" spc="-1" strike="noStrike">
                        <a:solidFill>
                          <a:srgbClr val="ffffff"/>
                        </a:solidFill>
                        <a:latin typeface="Times New Roman"/>
                      </a:endParaRPr>
                    </a:p>
                  </a:txBody>
                  <a:tcPr anchor="b" marL="90000" marR="90000">
                    <a:lnL w="5760">
                      <a:solidFill>
                        <a:srgbClr val="468a4b"/>
                      </a:solidFill>
                    </a:lnL>
                    <a:lnR w="5760">
                      <a:solidFill>
                        <a:srgbClr val="468a4b"/>
                      </a:solidFill>
                    </a:lnR>
                    <a:lnT w="9360">
                      <a:solidFill>
                        <a:srgbClr val="ffffff"/>
                      </a:solidFill>
                    </a:lnT>
                    <a:lnB w="5760">
                      <a:solidFill>
                        <a:srgbClr val="000532"/>
                      </a:solidFill>
                    </a:lnB>
                    <a:solidFill>
                      <a:srgbClr val="001932"/>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2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Introduction and Icebreaker</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0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6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Session 1</a:t>
                      </a:r>
                      <a:r>
                        <a:rPr b="0" lang="en-GB" sz="1600" spc="-1" strike="noStrike">
                          <a:solidFill>
                            <a:srgbClr val="000000"/>
                          </a:solidFill>
                          <a:latin typeface="Times New Roman"/>
                          <a:ea typeface="SimSun"/>
                        </a:rPr>
                        <a:t>: Integrating ecosystem services values into decision making</a:t>
                      </a:r>
                      <a:r>
                        <a:rPr b="0" lang="en-US" sz="1600" spc="-1" strike="noStrike">
                          <a:solidFill>
                            <a:srgbClr val="000532"/>
                          </a:solidFill>
                          <a:latin typeface="Times New Roman"/>
                          <a:ea typeface="SimSun"/>
                        </a:rPr>
                        <a:t> </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2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Coffee Break</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6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Session 2: </a:t>
                      </a:r>
                      <a:r>
                        <a:rPr b="0" lang="en-GB" sz="1600" spc="-1" strike="noStrike">
                          <a:solidFill>
                            <a:srgbClr val="000000"/>
                          </a:solidFill>
                          <a:latin typeface="Times New Roman"/>
                          <a:ea typeface="SimSun"/>
                        </a:rPr>
                        <a:t>Instruments for improved Stewardship of Natural Capital</a:t>
                      </a:r>
                      <a:r>
                        <a:rPr b="0" lang="en-US" sz="1600" spc="-1" strike="noStrike">
                          <a:solidFill>
                            <a:srgbClr val="000532"/>
                          </a:solidFill>
                          <a:latin typeface="Times New Roman"/>
                          <a:ea typeface="SimSun"/>
                        </a:rPr>
                        <a:t> </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6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32"/>
                          </a:solidFill>
                          <a:latin typeface="Times New Roman"/>
                        </a:rPr>
                        <a:t>Lunch</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6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SimSun"/>
                        </a:rPr>
                        <a:t>Session 2</a:t>
                      </a:r>
                      <a:r>
                        <a:rPr b="0" lang="en-US" sz="1600" spc="-1" strike="noStrike">
                          <a:solidFill>
                            <a:srgbClr val="000000"/>
                          </a:solidFill>
                          <a:latin typeface="Times New Roman"/>
                          <a:ea typeface="SimSun"/>
                        </a:rPr>
                        <a:t> </a:t>
                      </a:r>
                      <a:r>
                        <a:rPr b="0" i="1" lang="en-US" sz="1600" spc="-1" strike="noStrike">
                          <a:solidFill>
                            <a:srgbClr val="000000"/>
                          </a:solidFill>
                          <a:latin typeface="Times New Roman"/>
                          <a:ea typeface="SimSun"/>
                        </a:rPr>
                        <a:t>(continued):</a:t>
                      </a:r>
                      <a:r>
                        <a:rPr b="0" lang="en-US" sz="1600" spc="-1" strike="noStrike">
                          <a:solidFill>
                            <a:srgbClr val="000000"/>
                          </a:solidFill>
                          <a:latin typeface="Times New Roman"/>
                          <a:ea typeface="SimSun"/>
                        </a:rPr>
                        <a:t> </a:t>
                      </a:r>
                      <a:r>
                        <a:rPr b="0" lang="en-GB" sz="1600" spc="-1" strike="noStrike">
                          <a:solidFill>
                            <a:srgbClr val="000000"/>
                          </a:solidFill>
                          <a:latin typeface="Times New Roman"/>
                          <a:ea typeface="SimSun"/>
                        </a:rPr>
                        <a:t>Instruments for improved Stewardship of Natural Capital</a:t>
                      </a:r>
                      <a:r>
                        <a:rPr b="0" lang="en-US" sz="1600" spc="-1" strike="noStrike">
                          <a:solidFill>
                            <a:srgbClr val="000532"/>
                          </a:solidFill>
                          <a:latin typeface="Times New Roman"/>
                          <a:ea typeface="SimSun"/>
                        </a:rPr>
                        <a:t> </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8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4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Group Exercise</a:t>
                      </a:r>
                      <a:endParaRPr b="0" lang="en-US" sz="16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99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5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ea typeface="SimSun"/>
                        </a:rPr>
                        <a:t>Session 3</a:t>
                      </a:r>
                      <a:r>
                        <a:rPr b="0" lang="en-GB" sz="1600" spc="-1" strike="noStrike">
                          <a:solidFill>
                            <a:srgbClr val="000000"/>
                          </a:solidFill>
                          <a:latin typeface="Times New Roman"/>
                          <a:ea typeface="SimSun"/>
                        </a:rPr>
                        <a:t>: </a:t>
                      </a:r>
                      <a:r>
                        <a:rPr b="0" lang="en-US" sz="1600" spc="-1" strike="noStrike">
                          <a:solidFill>
                            <a:srgbClr val="000000"/>
                          </a:solidFill>
                          <a:latin typeface="Times New Roman"/>
                          <a:ea typeface="SimSun"/>
                        </a:rPr>
                        <a:t>The Road Ahead</a:t>
                      </a:r>
                      <a:r>
                        <a:rPr b="0" lang="en-US" sz="1600" spc="-1" strike="noStrike">
                          <a:solidFill>
                            <a:srgbClr val="000532"/>
                          </a:solidFill>
                          <a:latin typeface="Times New Roman"/>
                          <a:ea typeface="SimSun"/>
                        </a:rPr>
                        <a:t> </a:t>
                      </a:r>
                      <a:endParaRPr b="0" lang="en-US" sz="16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40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10</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Summary and Questions</a:t>
                      </a:r>
                      <a:endParaRPr b="0" lang="en-US" sz="16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ea typeface="SimSun"/>
                        </a:rPr>
                        <a:t>5</a:t>
                      </a:r>
                      <a:endParaRPr b="0" lang="en-US" sz="1600" spc="-1" strike="noStrike">
                        <a:solidFill>
                          <a:srgbClr val="ffffff"/>
                        </a:solidFill>
                        <a:latin typeface="Times New Roman"/>
                      </a:endParaRPr>
                    </a:p>
                  </a:txBody>
                  <a:tcPr anchor="t"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Wrap up and closure</a:t>
                      </a:r>
                      <a:endParaRPr b="0" lang="en-US" sz="1600" spc="-1" strike="noStrike">
                        <a:solidFill>
                          <a:srgbClr val="ffffff"/>
                        </a:solidFill>
                        <a:latin typeface="Times New Roman"/>
                      </a:endParaRPr>
                    </a:p>
                  </a:txBody>
                  <a:tcPr anchor="b"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914400" y="836640"/>
            <a:ext cx="761832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Ice breaker</a:t>
            </a:r>
            <a:endParaRPr b="0" lang="en-US" sz="4000" spc="-1" strike="noStrike">
              <a:solidFill>
                <a:srgbClr val="000532"/>
              </a:solidFill>
              <a:latin typeface="Arial"/>
            </a:endParaRPr>
          </a:p>
        </p:txBody>
      </p:sp>
      <p:sp>
        <p:nvSpPr>
          <p:cNvPr id="596" name="PlaceHolder 2"/>
          <p:cNvSpPr>
            <a:spLocks noGrp="1"/>
          </p:cNvSpPr>
          <p:nvPr>
            <p:ph/>
          </p:nvPr>
        </p:nvSpPr>
        <p:spPr>
          <a:xfrm>
            <a:off x="457200" y="2276280"/>
            <a:ext cx="5122800" cy="384948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p:txBody>
      </p:sp>
      <p:sp>
        <p:nvSpPr>
          <p:cNvPr id="597" name="Rectangle 8"/>
          <p:cNvSpPr/>
          <p:nvPr/>
        </p:nvSpPr>
        <p:spPr>
          <a:xfrm>
            <a:off x="179280" y="1916280"/>
            <a:ext cx="5040360" cy="43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pairs, identify some useful policies/instruments that are already in place in your own country which have been effective at addressing/ contributed to improving the stewardship of natural capital e.g. certification schemes, park user fees etc</a:t>
            </a:r>
            <a:endParaRPr b="0" lang="en-US" sz="2800" spc="-1" strike="noStrike">
              <a:solidFill>
                <a:srgbClr val="ffffff"/>
              </a:solidFill>
              <a:latin typeface="Times New Roman"/>
            </a:endParaRPr>
          </a:p>
        </p:txBody>
      </p:sp>
      <p:pic>
        <p:nvPicPr>
          <p:cNvPr id="598" name="Picture 14" descr=""/>
          <p:cNvPicPr/>
          <p:nvPr/>
        </p:nvPicPr>
        <p:blipFill>
          <a:blip r:embed="rId1"/>
          <a:stretch/>
        </p:blipFill>
        <p:spPr>
          <a:xfrm>
            <a:off x="5219640" y="2133720"/>
            <a:ext cx="3600360" cy="2352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SimSun"/>
              </a:rPr>
              <a:t>Key Resources for Module</a:t>
            </a:r>
            <a:endParaRPr b="0" lang="en-US" sz="4000" spc="-1" strike="noStrike">
              <a:solidFill>
                <a:srgbClr val="000532"/>
              </a:solidFill>
              <a:latin typeface="Arial"/>
            </a:endParaRPr>
          </a:p>
        </p:txBody>
      </p:sp>
      <p:sp>
        <p:nvSpPr>
          <p:cNvPr id="600" name="Text Box 3"/>
          <p:cNvSpPr/>
          <p:nvPr/>
        </p:nvSpPr>
        <p:spPr>
          <a:xfrm>
            <a:off x="900000" y="2421000"/>
            <a:ext cx="763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1" name="PlaceHolder 2"/>
          <p:cNvSpPr>
            <a:spLocks noGrp="1"/>
          </p:cNvSpPr>
          <p:nvPr>
            <p:ph/>
          </p:nvPr>
        </p:nvSpPr>
        <p:spPr>
          <a:xfrm>
            <a:off x="394920" y="1700280"/>
            <a:ext cx="8497800" cy="43927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Reports/documents</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IZ, 2012. Integrating Ecosystem Services into Development Planning; A stepwise approach for practitioners based on the TEEB approach. GIZ, Germany</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n Brink, P. (ed), 2010. The Economics of Ecosystem and Biodiversity in national and International Policy making. Earthscan, London</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EP-WCMC, 2010. Ecosystems and Human Wellbeing: A Manual for Assessment Practitioners. Island Press, Washington</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tmer, H. and Gundimeda, H. (eds), 2010. The Economics of Ecosystems and Biodiversity In Local and Regional Policy and Management  Earthscan, London</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 2008. Ecosystems and Human Well-being; A framework for Assessment. Island Press, Washington</a:t>
            </a:r>
            <a:endParaRPr b="0" lang="en-US" sz="1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ebsites</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ale University: http://environment.yale.edu/TEEB</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BD: http://www.cbd.int/incentives/overview.shtml</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SPA: http://www.espa.ac.uk/</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BCSD: http://www.wbcsd.org/bet.aspx</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SE: http://www.cseindia.org/content/eia-training-programme-understanding-eiafrom-screening-decision-making-0</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UCN: http://www.iucn.org/about/work/programmes/gpap_home</a:t>
            </a:r>
            <a:r>
              <a:rPr b="0" lang="en-US" sz="1400" spc="-1" strike="noStrike">
                <a:solidFill>
                  <a:srgbClr val="000532"/>
                </a:solidFill>
                <a:latin typeface="Times New Roman"/>
              </a:rPr>
              <a:t>/</a:t>
            </a:r>
            <a:endParaRPr b="0" lang="en-US" sz="1400" spc="-1" strike="noStrike">
              <a:solidFill>
                <a:srgbClr val="000532"/>
              </a:solidFill>
              <a:latin typeface="Times New Roman"/>
            </a:endParaRPr>
          </a:p>
          <a:p>
            <a:pPr marL="343080" indent="-343080">
              <a:lnSpc>
                <a:spcPct val="8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EP-WCMC: </a:t>
            </a:r>
            <a:r>
              <a:rPr b="0" lang="en-US" sz="1200" spc="-1" strike="noStrike">
                <a:solidFill>
                  <a:srgbClr val="000532"/>
                </a:solidFill>
                <a:latin typeface="Times New Roman"/>
              </a:rPr>
              <a:t>http://</a:t>
            </a:r>
            <a:r>
              <a:rPr b="0" lang="en-US" sz="1400" spc="-1" strike="noStrike">
                <a:solidFill>
                  <a:srgbClr val="000000"/>
                </a:solidFill>
                <a:latin typeface="Times New Roman"/>
              </a:rPr>
              <a:t>www.unep-wcmc.org/protected-areas_24.html</a:t>
            </a:r>
            <a:endParaRPr b="0" lang="en-US" sz="1400" spc="-1" strike="noStrike">
              <a:solidFill>
                <a:srgbClr val="000532"/>
              </a:solidFill>
              <a:latin typeface="Times New Roman"/>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0" lang="en-US" sz="500" spc="-1" strike="noStrike">
              <a:solidFill>
                <a:srgbClr val="000532"/>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532"/>
              </a:solidFill>
              <a:latin typeface="Times New Roman"/>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13:19:07Z</dcterms:created>
  <dc:creator>KREBS</dc:creator>
  <dc:description/>
  <dc:language>en-US</dc:language>
  <cp:lastModifiedBy>KREBS</cp:lastModifiedBy>
  <dcterms:modified xsi:type="dcterms:W3CDTF">2013-08-12T13:24:28Z</dcterms:modified>
  <cp:revision>2</cp:revision>
  <dc:subject/>
  <dc:title>PowerPoint Presentation</dc:title>
</cp:coreProperties>
</file>