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6BB3-07D4-4624-9E4D-8A8336ED6F7C}"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AFD3-CA84-442B-81C4-8CEDEFE8BBE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4440" y="687240"/>
            <a:ext cx="4569120" cy="3427560"/>
          </a:xfrm>
          <a:prstGeom prst="rect">
            <a:avLst/>
          </a:prstGeom>
          <a:ln w="0">
            <a:noFill/>
          </a:ln>
        </p:spPr>
      </p:sp>
      <p:sp>
        <p:nvSpPr>
          <p:cNvPr id="610"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F1CB-EDF8-43A9-ADD1-960ED6CAEFB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Introduce </a:t>
            </a:r>
            <a:r>
              <a:rPr b="0" lang="en-GB" sz="1000" spc="-1" strike="noStrike">
                <a:solidFill>
                  <a:srgbClr val="000000"/>
                </a:solidFill>
                <a:latin typeface="Calibri"/>
              </a:rPr>
              <a:t>this session by recapping and emphasizing that biodiversity and ecosystems underpin the global economy, society and human well-being – </a:t>
            </a:r>
            <a:r>
              <a:rPr b="1" lang="en-GB" sz="1000" spc="-1" strike="noStrike" u="sng">
                <a:solidFill>
                  <a:srgbClr val="000000"/>
                </a:solidFill>
                <a:uFillTx/>
                <a:latin typeface="Calibri"/>
              </a:rPr>
              <a:t>stress </a:t>
            </a:r>
            <a:r>
              <a:rPr b="0" lang="en-GB" sz="1000" spc="-1" strike="noStrike">
                <a:solidFill>
                  <a:srgbClr val="000000"/>
                </a:solidFill>
                <a:latin typeface="Calibri"/>
              </a:rPr>
              <a:t>how essential it is therefore that they are properly valued and effectively protected.</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Remind </a:t>
            </a:r>
            <a:r>
              <a:rPr b="0" lang="en-GB" sz="1000" spc="-1" strike="noStrike">
                <a:solidFill>
                  <a:srgbClr val="000000"/>
                </a:solidFill>
                <a:latin typeface="Calibri"/>
              </a:rPr>
              <a:t>participants, as they have learned earlier on in the course, that the value of nature has long been overlooked in economic signals, policy instruments, public investments and national accounts – this has indeed contributed to unprecedented erosion of natural capital, causing economic loss and social hardship and undermining prospected for long-term prosperity and quality of lif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Highlight </a:t>
            </a:r>
            <a:r>
              <a:rPr b="0" lang="en-GB" sz="1000" spc="-1" strike="noStrike">
                <a:solidFill>
                  <a:srgbClr val="000000"/>
                </a:solidFill>
                <a:latin typeface="Calibri"/>
              </a:rPr>
              <a:t>that despite the high rates of current global biodiversity loss, attitudes and priorities are changing and awareness of these values is also growing and policymakers are beginning to change their approach to natural capital.</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lso </a:t>
            </a:r>
            <a:r>
              <a:rPr b="1" lang="en-GB" sz="1000" spc="-1" strike="noStrike" u="sng">
                <a:solidFill>
                  <a:srgbClr val="000000"/>
                </a:solidFill>
                <a:uFillTx/>
                <a:latin typeface="Calibri"/>
              </a:rPr>
              <a:t>emphasize</a:t>
            </a:r>
            <a:r>
              <a:rPr b="0" lang="en-GB" sz="1000" spc="-1" strike="noStrike">
                <a:solidFill>
                  <a:srgbClr val="000000"/>
                </a:solidFill>
                <a:latin typeface="Calibri"/>
              </a:rPr>
              <a:t> here that better estimates of these values are also becoming increasingly available (make reference to the achievements of TEEB initiative amongst others here) to policy makers to improve their land use decision mak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Stress</a:t>
            </a:r>
            <a:r>
              <a:rPr b="0" lang="en-GB" sz="1000" spc="-1" strike="noStrike" u="sng">
                <a:solidFill>
                  <a:srgbClr val="000000"/>
                </a:solidFill>
                <a:uFillTx/>
                <a:latin typeface="Calibri"/>
              </a:rPr>
              <a:t> </a:t>
            </a:r>
            <a:r>
              <a:rPr b="0" lang="en-GB" sz="1000" spc="-1" strike="noStrike">
                <a:solidFill>
                  <a:srgbClr val="000000"/>
                </a:solidFill>
                <a:latin typeface="Calibri"/>
              </a:rPr>
              <a:t>the fact that in order to work effectively with and fully reflect the value of nature  - there is a call for engagement by all actors, public and private, from the global to the local.</a:t>
            </a: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1C85-542E-4355-BD5A-5044C8EEE30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context of TEEB, </a:t>
            </a:r>
            <a:r>
              <a:rPr b="1" lang="en-GB" sz="1200" spc="-1" strike="noStrike" u="sng">
                <a:solidFill>
                  <a:srgbClr val="000000"/>
                </a:solidFill>
                <a:uFillTx/>
                <a:latin typeface="Calibri"/>
              </a:rPr>
              <a:t>explain</a:t>
            </a:r>
            <a:r>
              <a:rPr b="0" lang="en-GB" sz="1200" spc="-1" strike="noStrike">
                <a:solidFill>
                  <a:srgbClr val="000000"/>
                </a:solidFill>
                <a:latin typeface="Calibri"/>
              </a:rPr>
              <a:t> that a proposal for a framework for sustainable action would not only be multidimensional, but also multi sectoral/institutional and one which would operate from the global to the local scales. Some important components for this framework would include: </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 </a:t>
            </a:r>
            <a:r>
              <a:rPr b="1" lang="en-GB" sz="1400" spc="-1" strike="noStrike">
                <a:solidFill>
                  <a:srgbClr val="ffffff"/>
                </a:solidFill>
                <a:latin typeface="Calibri"/>
                <a:ea typeface="SimSun"/>
              </a:rPr>
              <a:t>Identifying common and differentiated responsibilities and interest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ea typeface="SimSun"/>
              </a:rPr>
              <a:t>- Understanding where partnerships can be built and cooperation and foster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Engaging business – halting biodiversity loss cannot be done without the private sector – policymakers need to combine encouragement and support for businesses with targeted regulation, standards, monitoring as well as the establishment of public-private partnership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urther engaging with and recognising the role of other key stakeholders (local communities, indigenous groups, academics) – e.g. policymakers can involve communities in EIA processes, protected area management, monitoring and capacity building and work with NGOs/academics to strengthen such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rough working with citizens – building public recognition of the value of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Identifying opportunities for action at the international level </a:t>
            </a:r>
            <a:r>
              <a:rPr b="0" lang="en-GB" sz="1400" spc="-1" strike="noStrike">
                <a:solidFill>
                  <a:srgbClr val="ffffff"/>
                </a:solidFill>
                <a:latin typeface="Calibri"/>
                <a:ea typeface="SimSun"/>
              </a:rPr>
              <a:t>– e.g. as set out by the CDB strategic plan, the need for integration of BES values into decisions making and planning. Also leveraging on other major international processes such as UNFCCC, UNCCD, IPBES that seek for a more sustainable use of global natural resour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ea typeface="SimSun"/>
              </a:rPr>
              <a:t>Identifying opportunities for action at the national level e.g. </a:t>
            </a:r>
            <a:r>
              <a:rPr b="0" lang="en-GB" sz="1400" spc="-1" strike="noStrike">
                <a:solidFill>
                  <a:srgbClr val="ffffff"/>
                </a:solidFill>
                <a:latin typeface="Calibri"/>
                <a:ea typeface="SimSun"/>
              </a:rPr>
              <a:t>passing legislation, create markets, green procurement and direct investment into natural capital as well as </a:t>
            </a:r>
            <a:r>
              <a:rPr b="0" lang="en-US" sz="1200" spc="-1" strike="noStrike">
                <a:solidFill>
                  <a:srgbClr val="000000"/>
                </a:solidFill>
                <a:latin typeface="Calibri"/>
              </a:rPr>
              <a:t>maximising biodiversity synergies through closer cooperation between international and regional environmental treaties organisations and process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AF421-9E47-4BD4-A050-9228FBB06D3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a:t>
            </a:r>
            <a:r>
              <a:rPr b="0" lang="en-GB" sz="900" spc="-1" strike="noStrike">
                <a:solidFill>
                  <a:srgbClr val="000000"/>
                </a:solidFill>
                <a:latin typeface="Calibri"/>
              </a:rPr>
              <a:t>order to implement a framework for sustainable action, and depending on your policy issues at hand (water scarcity, food security, poverty reduction, erosion and flood control) – </a:t>
            </a:r>
            <a:r>
              <a:rPr b="1" lang="en-GB" sz="900" spc="-1" strike="noStrike" u="sng">
                <a:solidFill>
                  <a:srgbClr val="000000"/>
                </a:solidFill>
                <a:uFillTx/>
                <a:latin typeface="Calibri"/>
              </a:rPr>
              <a:t>stress </a:t>
            </a:r>
            <a:r>
              <a:rPr b="0" lang="en-GB" sz="900" spc="-1" strike="noStrike">
                <a:solidFill>
                  <a:srgbClr val="000000"/>
                </a:solidFill>
                <a:latin typeface="Calibri"/>
              </a:rPr>
              <a:t>the fact that practical tools are required to help recognise, demonstrate and respond to the value of nature and transform our approach to natural capit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Draw attention</a:t>
            </a:r>
            <a:r>
              <a:rPr b="0" lang="en-US" sz="900" spc="-1" strike="noStrike">
                <a:solidFill>
                  <a:srgbClr val="000000"/>
                </a:solidFill>
                <a:latin typeface="Calibri"/>
              </a:rPr>
              <a:t> to the fact that whilst each country will have its own priorities, and experiences, a common list of achievable actions and tools includes steps to:</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ntegrate the evidence base for better measurement, monitoring and accounting– from BES indicators to natural capital accounts and more comprehensive national income account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Develop a culture of assessment taking wider ecosystem values into account over longer time periods, as well as the range of costs and benefits across affected parties, public and private, national and internation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djust incentives in line with environmental impacts, positive and negative – rewarding benefits through prices, payments and markets, and applying the polluter pays principle to address loss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Green the markets and the supply chain – developing and regulating markets, setting standards, supporting labeling and leading by example through green public procurement.</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Reform environmentally harmful subsidi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Use regulation and good governance to raise the baseline – i.e. improve the minimum level of environmental standards or performance</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mprove the implementation and enforcement of legal framework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Improve protected area networks and invest in wider ecosystems for climate change adaptation and to meet other objectives cost-effectively, including natural hazard management, poverty alleviation and other MDGz.</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vest in understanding and awareness of the value of nature via capacity building processes for example to stimulate and harness policy responses for business, communities and citizen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Reiterate</a:t>
            </a:r>
            <a:r>
              <a:rPr b="0" lang="en-US" sz="900" spc="-1" strike="noStrike">
                <a:solidFill>
                  <a:srgbClr val="000000"/>
                </a:solidFill>
                <a:latin typeface="Calibri"/>
              </a:rPr>
              <a:t> that the above steps are key inputs to transform our approach to natural capital and move towards a development path that integrates economic, social and environmental concerns in a resource efficient economy that works within the planets ecological capacities.</a:t>
            </a:r>
            <a:endParaRPr b="0" lang="en-US" sz="9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28DF-C490-4590-9567-DF5EEE16BF8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utting these tools for delivering change into practice means changing the mindset from “nature as a bountiful resource to be exploited” to “working with natures assets and within natures limi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u="sng">
                <a:solidFill>
                  <a:srgbClr val="000000"/>
                </a:solidFill>
                <a:uFillTx/>
                <a:latin typeface="Calibri"/>
              </a:rPr>
              <a:t> </a:t>
            </a:r>
            <a:r>
              <a:rPr b="0" lang="en-US" sz="1200" spc="-1" strike="noStrike">
                <a:solidFill>
                  <a:srgbClr val="000000"/>
                </a:solidFill>
                <a:latin typeface="Calibri"/>
              </a:rPr>
              <a:t>that, as the course has shown, policymakers at national and international levels can show leadership and foresight in their actions to support public goods provided by nature – such actions are needed at all levels of governance and across all key sectors and should harness energies of markets, business citizens and comm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nd</a:t>
            </a:r>
            <a:r>
              <a:rPr b="0" lang="en-US" sz="1200" spc="-1" strike="noStrike">
                <a:solidFill>
                  <a:srgbClr val="000000"/>
                </a:solidFill>
                <a:latin typeface="Calibri"/>
              </a:rPr>
              <a:t> by quoting the quote on th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A8C6F-8B19-4770-9A65-C439A8E6A01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eview</a:t>
            </a:r>
            <a:r>
              <a:rPr b="0" lang="en-GB" sz="1200" spc="-1" strike="noStrike">
                <a:solidFill>
                  <a:srgbClr val="000000"/>
                </a:solidFill>
                <a:latin typeface="Calibri"/>
                <a:ea typeface="SimSun"/>
              </a:rPr>
              <a:t> the key points of the module and highlight what has been learned so f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AA91F-E9FF-4A18-91E4-1696994ADAC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nd</a:t>
            </a:r>
            <a:r>
              <a:rPr b="0" lang="en-GB" sz="1200" spc="-1" strike="noStrike">
                <a:solidFill>
                  <a:srgbClr val="000000"/>
                </a:solidFill>
                <a:latin typeface="Calibri"/>
              </a:rPr>
              <a:t> the module on this sl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Let</a:t>
            </a:r>
            <a:r>
              <a:rPr b="0" lang="en-GB" sz="1200" spc="-1" strike="noStrike">
                <a:solidFill>
                  <a:srgbClr val="000000"/>
                </a:solidFill>
                <a:latin typeface="Calibri"/>
              </a:rPr>
              <a:t> participants read the quote themsel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ound</a:t>
            </a:r>
            <a:r>
              <a:rPr b="0" lang="en-GB" sz="1200" spc="-1" strike="noStrike">
                <a:solidFill>
                  <a:srgbClr val="000000"/>
                </a:solidFill>
                <a:latin typeface="Calibri"/>
                <a:ea typeface="SimSun"/>
              </a:rPr>
              <a:t> of applause for ending the cours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E29EC-70FB-40F1-8764-84A8F7C29884}" type="slidenum">
              <a:rPr b="0" lang="en-US" sz="1200" spc="-1" strike="noStrike">
                <a:solidFill>
                  <a:srgbClr val="000000"/>
                </a:solidFill>
                <a:latin typeface="Arial"/>
                <a:ea typeface="Arial"/>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14F4-8356-488F-97B8-FC01366A4FF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1" name="PlaceHolder 1"/>
          <p:cNvSpPr>
            <a:spLocks noGrp="1"/>
          </p:cNvSpPr>
          <p:nvPr>
            <p:ph type="sldImg"/>
          </p:nvPr>
        </p:nvSpPr>
        <p:spPr>
          <a:xfrm>
            <a:off x="1144440" y="687240"/>
            <a:ext cx="4569120" cy="3427560"/>
          </a:xfrm>
          <a:prstGeom prst="rect">
            <a:avLst/>
          </a:prstGeom>
          <a:ln w="0">
            <a:noFill/>
          </a:ln>
        </p:spPr>
      </p:sp>
      <p:sp>
        <p:nvSpPr>
          <p:cNvPr id="632"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B50A1-2A62-4425-A174-A77396659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49B70-D826-4247-BD8E-DB539482C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5E5D62-DD8F-47D0-8FBB-61C6770CC3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EA178-B3F4-4CAE-83F5-A6D7911BE7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D852C75-A3A8-45A3-830F-175035866A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0A54B-1723-4623-9A7B-947AA9D3F4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91D917-7BD0-47E3-91E6-BB16D6A608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908D2-9432-4D1C-B819-5418431A0F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67E6AD-6D2C-4C8D-BACB-0DD1D70589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DEA8869-EC77-420B-8C24-C527F67BA1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8C55F69-01BD-48AB-BCE0-31FAF03C23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5C01FAE-A161-4A1A-881D-CF5C4750E1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ACA868-5E6C-4E34-BF42-79162AB979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167B33D-605E-426C-911F-A834C3BED63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BB5323-4B55-4B1F-ABAD-9A73B40866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D67AFA1-44B8-41EA-A0F9-5C168B81EE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F29E7EF-97A5-4B46-80E0-B0870125C4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9D7E106-B2BA-4F16-A5AC-DAE121D992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575565-F5C2-43A5-9394-28F66AFD070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E5DABA-8581-4DB5-95F3-2BC1ACEFA2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B92D6DC-DD95-4CD0-A207-DA0801BC30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B610769-F77D-407C-A631-5D601880EB8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91CBD85-973A-4A3B-87CA-6B13DF1E92D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41CE0D-C134-41E1-AD67-F9CC811F71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96E2B18-B29C-41AB-8703-59729F3FF82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AD98FA-D89E-4AA6-96A7-9735A37D53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4D192F-4E34-4166-8288-A8F885039B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3231B9-DDF9-4174-8263-55D0EBF0969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15DE7D6-9B1B-457F-860B-446AF9B27F2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3C30A1-505D-4F6C-9725-4E0802CA24C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B44135-72F4-4DCD-93B5-CD46B5AF61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A231FE-B7FE-4608-862D-151EACB333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F400B-87F9-427B-8134-D0E58794CA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DC28696-23B5-4280-9C88-9507E785EB6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A1A9F4-CAC8-42EA-B40C-D80D3F9A1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5D6E19-D745-4825-B70F-AAA92FD663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3B7631-EA5B-4434-8B43-FD27B0DC7CA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AA0AB5-9DEC-489B-BE0B-525AF90777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5D5F371-C9DD-493B-B0BB-565FFE25E5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7AE7907-D11F-47EA-81C1-D6F92ABE8E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F8E35D9-170D-4093-BBC2-DDC09A119D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0CBBBF8-1E23-4558-98D7-5C8BB6A838B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29E704B-096B-4000-989D-EF84AD20CE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2805DB-61AD-4BE8-B6A3-6681CE60704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17E6FD-73FF-486B-B039-BE3D329F84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FE8F9C-0A8E-49ED-952D-3E6BCD1FBC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52171C-206A-4C08-B9F1-C1618C589A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A49AA0-57DB-4B71-A2BF-39BDCF91F8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D3C4DB0-9360-4E4C-924F-0920D1ECA1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AB901C5-5599-4A7C-A739-97139603B36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A966AC0-0C37-4819-A6AA-3ED990E042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6B81298-C0BA-483A-8B82-D60B7E153A0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CF9843-0EBC-4FC7-AA8C-8363904DC3C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CFE1F7C-B5FD-48D9-9A70-7E2E8230112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BBD74C-AAD2-452F-9E9B-6AEB58B05C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9788B8A-1EDC-4FE6-AE9F-558E88310D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FBB2F4-3307-4D43-87F5-A03981D0B7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3CECAF-9DE6-47CA-B564-FBAA6A07A12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E389A4-6C2B-45D2-B190-BA4B467B0CC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8B8D93-B5C8-4A32-ADBF-F4C13E02C1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20E242-C8DD-4CC0-947E-1C840B9544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7DA6BD-D2D0-48DA-9D4F-32A11EA8634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0180318-14DD-4F63-A14F-8D05170414A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B3787BB-6CDD-4782-918C-05CDB3D16E7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A4C2-D8C6-450B-BC5B-C14DCAB0E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76FF2-E559-4D26-9F23-762675D00F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5DD4F-1078-4D12-98D8-6D57CA667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15D8F-1063-4BDC-87DA-18569D301A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FDA9F-E29D-4E6A-AD4F-B9C834A5B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586375-E61F-4AE6-87FB-B961ADA30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3DC7-4A0E-48E2-A722-F1F5F9BD2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8EC65-3BB8-4489-89D8-D99A963DB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A5FC64-DB6C-4F71-B26A-08009A54B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200FE-1D77-4101-9284-23A30BCA29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E7F205-232B-466E-94F8-BBE2331F7D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0468A5-785A-4302-8408-FF4EFB747B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992E9-0BD5-4F12-8D71-E376E5CE03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8498F-D973-4669-BC65-87BC8B8E30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C8255D-E856-4D2A-A339-49D37B449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DA98D-7375-45A0-84BD-A81699D65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1AA58-F40A-4A14-A23D-502391313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363FA7-443D-47BF-8E11-82DE546F4A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43E72C-2940-4AA0-BFEB-E7872CC0EC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34DFE-98A0-4FE1-94EF-CDD5C9203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7FAEA7-A9B1-434C-BB91-751001F179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0BA8B3-C504-4D82-9CAE-CFC4C115AE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7D6D60-D1CF-45A9-B1A6-8371D2B0E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93765A-74F8-4B99-B0BA-5C61E0F3CA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FC7C01-DF41-4779-A349-E3E16C6F6B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32264-9BE8-46B1-BE65-A9EBE451E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8418-4001-420C-886A-E04BDDEA0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7C99A-66CA-4BB8-9763-237A4EE659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FD018-221E-4524-93B5-4D97569F51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12A561-783E-40FB-B455-087CFBE919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5718B2-4E1E-4B35-9FCB-D006183557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A8607-7926-421B-85EC-5465E4174D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03241-80D6-43B3-A22F-2A7292F8AD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66C198-ED02-4EF5-9839-5E157C4ABA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E5ABB-E1F6-4DF1-BC51-2AB8D2F09C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BB2EF2-C159-4839-904E-A46DB2902F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18F479-640B-4871-92B6-AAE1178B83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B7549-FE9F-4A07-9BE9-653F3FF9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BC0EFD-CAEB-486D-9D3E-0E8FF793E2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A82A47-460D-40D3-94F2-34F7CEA4C6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184E5D-AB03-4E36-9120-6A67B365D7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7E3710-F5E1-4BEF-9F3E-91B889C80B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992EA1-3177-4C9A-B6E2-83EAF4B310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2A3C98-DAC0-430B-A4BC-93EAD83EB9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D4AC0-5612-4FBA-B127-F1D90B3D9E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E62C4B-F43F-41D5-8261-DB545EC7B0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C0D466-41AC-4D8F-AC0B-6BF3400EAA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DC881E-E0BF-4FC3-A769-BB955DA388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4739E-F25A-4E20-B494-95856C865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682AF4-31F8-4245-9202-1E535249FA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8E3C42C-3DC7-49BF-A549-BFA22FB7749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932E7E-B285-43E5-9447-7FB229DD2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CB8140-2B54-46FF-BA81-15FCFB4B68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08795A-ADBA-43E2-BE53-554A39E0EA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A594E-381E-4274-8C4A-53488175B4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B3770-FF0E-489E-8D0C-4666CF39DF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C4022-ACE7-4433-811D-F91BEC6F4C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38F2A-4088-4BCA-92E6-A5504A6726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681917-5AED-4173-9C09-6AF54BEC5F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8EF1B-D180-4F47-8C03-C006FA6DC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3240A-598B-42AB-A8CA-9980E249F6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4C15B2-B50B-43B9-A6EF-1480473A021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2F38134-846D-4FBD-8BA5-7817A80BD55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86D6FD9-7A2C-4BD7-9B4F-E863BDC043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10F295-E961-4474-B1C2-8DC2CE889E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B30587-DC9A-4C10-B448-C6C61F3EA7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33C55B-7FFA-497C-8327-3D124B2B95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77F1C3-6AA5-45FE-B57B-10C73A780F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51298F-70AF-41FA-B297-247A8D8AD6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BF106-F6BC-404A-9ACE-AED4EDD57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6CF35-35D7-468B-B9DA-3EE71A117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F4985-04C7-427D-8E7F-CE0A0864A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92411-F90A-4451-A230-351B7CB9EE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EE21B-B7AF-421E-A44D-DB7FDE5012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80CBAB-0312-49A2-AE4F-4AD31473BF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15DE922-FC75-4D36-98A1-DB20BC9A2F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3158E9-504F-45FB-AF7C-915D19B770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A5A3E-8AEA-4773-A493-A0DA5B759B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208448-E339-40D8-BEEE-7DB9E39B18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1C1FD-D0BC-4E70-B0DF-DB1A3BA56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C9DCE7-C17A-443F-AA14-6884B9783E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9AE8-FCF1-4CCA-85B5-C81E2EF4C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34A524-0DF5-41CB-BDAD-0DF729DBED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12AA0-FA4D-4FC1-A0F4-CF17DB03F9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118B7-7494-47B3-94BC-03CA204021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9C126C-F33B-4BFA-9B96-BA722AEECB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303102-A38E-44FD-8A1C-7DF648E9D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F2C86D-4B7A-4F42-B480-93E4946EFD3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CAA3AD-F714-4F03-8D75-2E57E25465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EC320D-E41D-4C37-B0B1-ACE9873370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D2E96D7-495E-40C2-9003-AC74E4A470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3EA2F6-105A-49A7-BD39-DBC8A27C043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8E44-2CBC-4B84-86F0-A9AB73242F2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CA40A-7AC2-4416-B167-606F385D351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C060-2F6E-4327-8DCF-14AD4EEFF2B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6E6C-F87E-4DB1-88E5-579B8A48A77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61C83-3D9A-4BFA-9C15-C5CCAE3524F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1760-4BBA-4746-8761-C3FD23800A3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1EBB5-DE5C-4412-86C7-9CBBCF845A8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93646-09D7-4914-A39A-CEE825E287B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9CE5-4EEC-4A02-9562-D9AFFA10D84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D2B23-EC92-496E-8533-832C1D22101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F97A1-4FBD-4CB9-B567-F69558EBD26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611AF-4E07-494A-AA24-AC9E24E8AE0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AF40-FF92-4587-A123-EF2EBC3780A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2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The Road Ahead</a:t>
            </a:r>
            <a:endParaRPr b="0" lang="en-US" sz="2800" spc="-1" strike="noStrike">
              <a:solidFill>
                <a:srgbClr val="ffffff"/>
              </a:solidFill>
              <a:latin typeface="Times New Roman"/>
            </a:endParaRPr>
          </a:p>
        </p:txBody>
      </p:sp>
      <p:pic>
        <p:nvPicPr>
          <p:cNvPr id="581" name="Picture 5" descr="logo TEEB transparent print"/>
          <p:cNvPicPr/>
          <p:nvPr/>
        </p:nvPicPr>
        <p:blipFill>
          <a:blip r:embed="rId1"/>
          <a:stretch/>
        </p:blipFill>
        <p:spPr>
          <a:xfrm>
            <a:off x="3203640" y="1557360"/>
            <a:ext cx="3238560" cy="33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83628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Working with the value of nature</a:t>
            </a:r>
            <a:endParaRPr b="0" lang="en-US" sz="3200" spc="-1" strike="noStrike">
              <a:solidFill>
                <a:srgbClr val="000532"/>
              </a:solidFill>
              <a:latin typeface="Arial"/>
            </a:endParaRPr>
          </a:p>
        </p:txBody>
      </p:sp>
      <p:sp>
        <p:nvSpPr>
          <p:cNvPr id="583" name="PlaceHolder 2"/>
          <p:cNvSpPr>
            <a:spLocks noGrp="1"/>
          </p:cNvSpPr>
          <p:nvPr>
            <p:ph/>
          </p:nvPr>
        </p:nvSpPr>
        <p:spPr>
          <a:xfrm>
            <a:off x="-360" y="1557360"/>
            <a:ext cx="4932360" cy="53006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value of nature has been overlooked in economic signals, policy instruments, and public investments and national accounts</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wareness of these values is growing and policymakers are beginning to change their approach to natural capital</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Better estimates of these values are also becoming increasingly available to these decision makers are beginning to change their approach to natural capital</a:t>
            </a:r>
            <a:endParaRPr b="0" lang="en-US" sz="2200" spc="-1" strike="noStrike">
              <a:solidFill>
                <a:srgbClr val="000532"/>
              </a:solidFill>
              <a:latin typeface="Times New Roman"/>
            </a:endParaRPr>
          </a:p>
        </p:txBody>
      </p:sp>
      <p:pic>
        <p:nvPicPr>
          <p:cNvPr id="584" name="Picture 9" descr=""/>
          <p:cNvPicPr/>
          <p:nvPr/>
        </p:nvPicPr>
        <p:blipFill>
          <a:blip r:embed="rId1"/>
          <a:stretch/>
        </p:blipFill>
        <p:spPr>
          <a:xfrm>
            <a:off x="6877080" y="1989000"/>
            <a:ext cx="2016000" cy="1738440"/>
          </a:xfrm>
          <a:prstGeom prst="rect">
            <a:avLst/>
          </a:prstGeom>
          <a:ln w="0">
            <a:noFill/>
          </a:ln>
        </p:spPr>
      </p:pic>
      <p:pic>
        <p:nvPicPr>
          <p:cNvPr id="585" name="Picture 11" descr=""/>
          <p:cNvPicPr/>
          <p:nvPr/>
        </p:nvPicPr>
        <p:blipFill>
          <a:blip r:embed="rId2"/>
          <a:stretch/>
        </p:blipFill>
        <p:spPr>
          <a:xfrm>
            <a:off x="4859280" y="1989000"/>
            <a:ext cx="2081160" cy="1731960"/>
          </a:xfrm>
          <a:prstGeom prst="rect">
            <a:avLst/>
          </a:prstGeom>
          <a:ln w="0">
            <a:noFill/>
          </a:ln>
        </p:spPr>
      </p:pic>
      <p:pic>
        <p:nvPicPr>
          <p:cNvPr id="586" name="Picture 12" descr=""/>
          <p:cNvPicPr/>
          <p:nvPr/>
        </p:nvPicPr>
        <p:blipFill>
          <a:blip r:embed="rId3"/>
          <a:stretch/>
        </p:blipFill>
        <p:spPr>
          <a:xfrm>
            <a:off x="6948360" y="3716280"/>
            <a:ext cx="1944720" cy="1513080"/>
          </a:xfrm>
          <a:prstGeom prst="rect">
            <a:avLst/>
          </a:prstGeom>
          <a:ln w="0">
            <a:noFill/>
          </a:ln>
        </p:spPr>
      </p:pic>
      <p:pic>
        <p:nvPicPr>
          <p:cNvPr id="587" name="Picture 13" descr=""/>
          <p:cNvPicPr/>
          <p:nvPr/>
        </p:nvPicPr>
        <p:blipFill>
          <a:blip r:embed="rId4"/>
          <a:stretch/>
        </p:blipFill>
        <p:spPr>
          <a:xfrm>
            <a:off x="4859280" y="3716280"/>
            <a:ext cx="2087640" cy="1513080"/>
          </a:xfrm>
          <a:prstGeom prst="rect">
            <a:avLst/>
          </a:prstGeom>
          <a:ln w="0">
            <a:noFill/>
          </a:ln>
        </p:spPr>
      </p:pic>
      <p:sp>
        <p:nvSpPr>
          <p:cNvPr id="588" name="Text Box 14"/>
          <p:cNvSpPr/>
          <p:nvPr/>
        </p:nvSpPr>
        <p:spPr>
          <a:xfrm>
            <a:off x="4859280" y="5013360"/>
            <a:ext cx="2232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395280" y="6919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 framework for sustainable action</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590" name="PlaceHolder 2"/>
          <p:cNvSpPr>
            <a:spLocks noGrp="1"/>
          </p:cNvSpPr>
          <p:nvPr>
            <p:ph/>
          </p:nvPr>
        </p:nvSpPr>
        <p:spPr>
          <a:xfrm>
            <a:off x="457200" y="1557000"/>
            <a:ext cx="8229600" cy="4824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Arial"/>
                <a:ea typeface="SimSun"/>
              </a:rPr>
              <a:t>Essential compon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common and differentiated responsibilities and interests amongst stakeholders:</a:t>
            </a:r>
            <a:endParaRPr b="0" lang="en-US" sz="24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Understanding where partnerships can be built and cooperation fostere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Engaging business</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Further engaging with and recognising the role of other key stakeholders (local communities, indigenous groups, academics)</a:t>
            </a:r>
            <a:endParaRPr b="0" lang="en-US" sz="21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ea typeface="SimSun"/>
              </a:rPr>
              <a:t>Through working with citizens – building public recognition of the value of biodiversity</a:t>
            </a:r>
            <a:r>
              <a:rPr b="0" lang="en-GB" sz="2000" spc="-1" strike="noStrike">
                <a:solidFill>
                  <a:srgbClr val="000000"/>
                </a:solidFill>
                <a:latin typeface="Times New Roman"/>
                <a:ea typeface="SimSun"/>
              </a:rPr>
              <a:t> </a:t>
            </a:r>
            <a:endParaRPr b="0" lang="en-US" sz="2000" spc="-1" strike="noStrike">
              <a:solidFill>
                <a:srgbClr val="000532"/>
              </a:solidFill>
              <a:latin typeface="Times New Roman"/>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opportunities for action at the international level</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Identifying opportunities for action at the national level</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68360" y="981000"/>
            <a:ext cx="8229600" cy="49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Tools for delivering change</a:t>
            </a:r>
            <a:r>
              <a:rPr b="0" lang="en-US" sz="4000" spc="-1" strike="noStrike">
                <a:solidFill>
                  <a:srgbClr val="000532"/>
                </a:solidFill>
                <a:latin typeface="Arial"/>
                <a:ea typeface="SimSun"/>
              </a:rPr>
              <a:t> </a:t>
            </a:r>
            <a:endParaRPr b="0" lang="en-US" sz="4000" spc="-1" strike="noStrike">
              <a:solidFill>
                <a:srgbClr val="000532"/>
              </a:solidFill>
              <a:latin typeface="Arial"/>
            </a:endParaRPr>
          </a:p>
        </p:txBody>
      </p:sp>
      <p:sp>
        <p:nvSpPr>
          <p:cNvPr id="592" name="PlaceHolder 2"/>
          <p:cNvSpPr>
            <a:spLocks noGrp="1"/>
          </p:cNvSpPr>
          <p:nvPr>
            <p:ph/>
          </p:nvPr>
        </p:nvSpPr>
        <p:spPr>
          <a:xfrm>
            <a:off x="457200" y="1773360"/>
            <a:ext cx="8229600" cy="508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tegrate</a:t>
            </a:r>
            <a:r>
              <a:rPr b="0" lang="en-US" sz="2400" spc="-1" strike="noStrike">
                <a:solidFill>
                  <a:srgbClr val="000000"/>
                </a:solidFill>
                <a:latin typeface="Times New Roman"/>
              </a:rPr>
              <a:t> the evidence base for better measurement, monitoring and accounting</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veloping</a:t>
            </a:r>
            <a:r>
              <a:rPr b="0" lang="en-US" sz="2400" spc="-1" strike="noStrike">
                <a:solidFill>
                  <a:srgbClr val="000000"/>
                </a:solidFill>
                <a:latin typeface="Times New Roman"/>
              </a:rPr>
              <a:t> a cultural assessment that takes the wider ecosystem values into account over longer periods of time</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Adjusting</a:t>
            </a:r>
            <a:r>
              <a:rPr b="0" lang="en-US" sz="2400" spc="-1" strike="noStrike">
                <a:solidFill>
                  <a:srgbClr val="000000"/>
                </a:solidFill>
                <a:latin typeface="Times New Roman"/>
              </a:rPr>
              <a:t> incentives in line with positive and negative environmental impac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etting prices right</a:t>
            </a:r>
            <a:r>
              <a:rPr b="0" lang="en-US" sz="2400" spc="-1" strike="noStrike">
                <a:solidFill>
                  <a:srgbClr val="000000"/>
                </a:solidFill>
                <a:latin typeface="Times New Roman"/>
              </a:rPr>
              <a:t>, greening markets and greening the supply chai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forming </a:t>
            </a:r>
            <a:r>
              <a:rPr b="0" lang="en-US" sz="2400" spc="-1" strike="noStrike">
                <a:solidFill>
                  <a:srgbClr val="000000"/>
                </a:solidFill>
                <a:latin typeface="Times New Roman"/>
              </a:rPr>
              <a:t>subsidie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Using regulation</a:t>
            </a:r>
            <a:r>
              <a:rPr b="0" lang="en-US" sz="2400" spc="-1" strike="noStrike">
                <a:solidFill>
                  <a:srgbClr val="000000"/>
                </a:solidFill>
                <a:latin typeface="Times New Roman"/>
              </a:rPr>
              <a:t> and good governance to raise the baseline</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anding</a:t>
            </a:r>
            <a:r>
              <a:rPr b="0" lang="en-US" sz="2400" spc="-1" strike="noStrike">
                <a:solidFill>
                  <a:srgbClr val="000000"/>
                </a:solidFill>
                <a:latin typeface="Times New Roman"/>
              </a:rPr>
              <a:t> and managing protected area networks on land and at sea</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395280" y="2636640"/>
            <a:ext cx="8220240" cy="3849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It is not enough to know, one should always want; it is not enough to want, one should also act</a:t>
            </a:r>
            <a:r>
              <a:rPr b="0" lang="en-US" sz="3200" spc="-1" strike="noStrike">
                <a:solidFill>
                  <a:srgbClr val="000000"/>
                </a:solidFill>
                <a:latin typeface="Times New Roman"/>
              </a:rPr>
              <a:t>”</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Johann Wolfgang van Goethe, 1749-1832)</a:t>
            </a:r>
            <a:endParaRPr b="0" lang="en-US" sz="2000" spc="-1" strike="noStrike">
              <a:solidFill>
                <a:srgbClr val="000532"/>
              </a:solidFill>
              <a:latin typeface="Times New Roman"/>
            </a:endParaRPr>
          </a:p>
        </p:txBody>
      </p:sp>
      <p:pic>
        <p:nvPicPr>
          <p:cNvPr id="594" name="Picture 4" descr=""/>
          <p:cNvPicPr/>
          <p:nvPr/>
        </p:nvPicPr>
        <p:blipFill>
          <a:blip r:embed="rId1"/>
          <a:stretch/>
        </p:blipFill>
        <p:spPr>
          <a:xfrm>
            <a:off x="0" y="765000"/>
            <a:ext cx="2050920" cy="1584360"/>
          </a:xfrm>
          <a:prstGeom prst="rect">
            <a:avLst/>
          </a:prstGeom>
          <a:ln w="0">
            <a:noFill/>
          </a:ln>
        </p:spPr>
      </p:pic>
      <p:pic>
        <p:nvPicPr>
          <p:cNvPr id="595" name="Picture 8" descr=""/>
          <p:cNvPicPr/>
          <p:nvPr/>
        </p:nvPicPr>
        <p:blipFill>
          <a:blip r:embed="rId2"/>
          <a:stretch/>
        </p:blipFill>
        <p:spPr>
          <a:xfrm>
            <a:off x="6877080" y="765000"/>
            <a:ext cx="2266920" cy="1584360"/>
          </a:xfrm>
          <a:prstGeom prst="rect">
            <a:avLst/>
          </a:prstGeom>
          <a:ln w="0">
            <a:noFill/>
          </a:ln>
        </p:spPr>
      </p:pic>
      <p:pic>
        <p:nvPicPr>
          <p:cNvPr id="596" name="Picture 9" descr=""/>
          <p:cNvPicPr/>
          <p:nvPr/>
        </p:nvPicPr>
        <p:blipFill>
          <a:blip r:embed="rId3"/>
          <a:stretch/>
        </p:blipFill>
        <p:spPr>
          <a:xfrm>
            <a:off x="4500720" y="765000"/>
            <a:ext cx="2376360" cy="1584360"/>
          </a:xfrm>
          <a:prstGeom prst="rect">
            <a:avLst/>
          </a:prstGeom>
          <a:ln w="0">
            <a:noFill/>
          </a:ln>
        </p:spPr>
      </p:pic>
      <p:pic>
        <p:nvPicPr>
          <p:cNvPr id="597" name="Picture 10" descr=""/>
          <p:cNvPicPr/>
          <p:nvPr/>
        </p:nvPicPr>
        <p:blipFill>
          <a:blip r:embed="rId4"/>
          <a:stretch/>
        </p:blipFill>
        <p:spPr>
          <a:xfrm>
            <a:off x="2050920" y="765000"/>
            <a:ext cx="2449800" cy="158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5 Summary</a:t>
            </a:r>
            <a:endParaRPr b="0" lang="en-US" sz="3600" spc="-1" strike="noStrike">
              <a:solidFill>
                <a:srgbClr val="000532"/>
              </a:solidFill>
              <a:latin typeface="Arial"/>
            </a:endParaRPr>
          </a:p>
        </p:txBody>
      </p:sp>
      <p:sp>
        <p:nvSpPr>
          <p:cNvPr id="599" name="PlaceHolder 2"/>
          <p:cNvSpPr>
            <a:spLocks noGrp="1"/>
          </p:cNvSpPr>
          <p:nvPr>
            <p:ph/>
          </p:nvPr>
        </p:nvSpPr>
        <p:spPr>
          <a:xfrm>
            <a:off x="468360" y="1844280"/>
            <a:ext cx="8300880" cy="482436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order to improve the stewardship of natural capital, it is essential that biodiversity and ecosystem services values are integrated into decision making processes</a:t>
            </a:r>
            <a:endParaRPr b="0" lang="en-US" sz="2000" spc="-1" strike="noStrike">
              <a:solidFill>
                <a:srgbClr val="000532"/>
              </a:solidFill>
              <a:latin typeface="Times New Roman"/>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xecution of a TEEB study can help policymakers address more</a:t>
            </a:r>
            <a:r>
              <a:rPr b="1" lang="en-US" sz="2000" spc="-1" strike="noStrike" u="sng">
                <a:solidFill>
                  <a:srgbClr val="000000"/>
                </a:solidFill>
                <a:uFillTx/>
                <a:latin typeface="Times New Roman"/>
              </a:rPr>
              <a:t> </a:t>
            </a:r>
            <a:r>
              <a:rPr b="0" lang="en-US" sz="2000" spc="-1" strike="noStrike">
                <a:solidFill>
                  <a:srgbClr val="000000"/>
                </a:solidFill>
                <a:latin typeface="Times New Roman"/>
              </a:rPr>
              <a:t>effectively the policy issues at hand, assist with the selection of appropriate responses, and guide decision making processes more towards sustainable action</a:t>
            </a:r>
            <a:endParaRPr b="0" lang="en-US" sz="2000" spc="-1" strike="noStrike">
              <a:solidFill>
                <a:srgbClr val="000532"/>
              </a:solidFill>
              <a:latin typeface="Times New Roman"/>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ce these values are known, and depending on the policy context, there are a series of different ways to respond via a range of different policy options/instruments </a:t>
            </a:r>
            <a:endParaRPr b="0" lang="en-US" sz="20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lready exist many examples across the globe where responses have been successful </a:t>
            </a:r>
            <a:endParaRPr b="0" lang="en-US" sz="20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oad ahead is a road where we work </a:t>
            </a:r>
            <a:r>
              <a:rPr b="1" lang="en-US" sz="2000" spc="-1" strike="noStrike">
                <a:solidFill>
                  <a:srgbClr val="000000"/>
                </a:solidFill>
                <a:latin typeface="Times New Roman"/>
              </a:rPr>
              <a:t>WITH</a:t>
            </a:r>
            <a:r>
              <a:rPr b="0" lang="en-US" sz="2000" spc="-1" strike="noStrike">
                <a:solidFill>
                  <a:srgbClr val="000000"/>
                </a:solidFill>
                <a:latin typeface="Times New Roman"/>
              </a:rPr>
              <a:t> the value of nature rather than </a:t>
            </a:r>
            <a:r>
              <a:rPr b="1" lang="en-US" sz="2000" spc="-1" strike="noStrike">
                <a:solidFill>
                  <a:srgbClr val="000000"/>
                </a:solidFill>
                <a:latin typeface="Times New Roman"/>
              </a:rPr>
              <a:t>AGAINST</a:t>
            </a:r>
            <a:r>
              <a:rPr b="0" lang="en-US" sz="2000" spc="-1" strike="noStrike">
                <a:solidFill>
                  <a:srgbClr val="000000"/>
                </a:solidFill>
                <a:latin typeface="Times New Roman"/>
              </a:rPr>
              <a:t> it</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Date Placeholder 3"/>
          <p:cNvSpPr/>
          <p:nvPr/>
        </p:nvSpPr>
        <p:spPr>
          <a:xfrm>
            <a:off x="457200" y="6597720"/>
            <a:ext cx="2133720" cy="123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C090-E84A-4CDE-BC39-395AA715EEEA}" type="datetime">
              <a:rPr b="0" lang="en-US" sz="1000" spc="-1" strike="noStrike">
                <a:solidFill>
                  <a:srgbClr val="ffffff"/>
                </a:solidFill>
                <a:latin typeface="Tahoma"/>
                <a:ea typeface="Arial"/>
              </a:rPr>
              <a:t>07/28/26</a:t>
            </a:fld>
            <a:endParaRPr b="0" lang="en-US" sz="1000" spc="-1" strike="noStrike">
              <a:solidFill>
                <a:srgbClr val="ffffff"/>
              </a:solidFill>
              <a:latin typeface="Times New Roman"/>
            </a:endParaRPr>
          </a:p>
        </p:txBody>
      </p:sp>
      <p:sp>
        <p:nvSpPr>
          <p:cNvPr id="601" name="Slide Number Placeholder 4"/>
          <p:cNvSpPr/>
          <p:nvPr/>
        </p:nvSpPr>
        <p:spPr>
          <a:xfrm>
            <a:off x="6553080" y="6597720"/>
            <a:ext cx="2133720" cy="123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2DAEF-6EC9-4C7B-ABF3-BC73C826FBC7}" type="slidenum">
              <a:rPr b="0" lang="en-US" sz="1000" spc="-1" strike="noStrike">
                <a:solidFill>
                  <a:srgbClr val="ffffff"/>
                </a:solidFill>
                <a:latin typeface="Tahoma"/>
                <a:ea typeface="Arial"/>
              </a:rPr>
              <a:t>&lt;number&gt;</a:t>
            </a:fld>
            <a:endParaRPr b="0" lang="en-US" sz="1000" spc="-1" strike="noStrike">
              <a:solidFill>
                <a:srgbClr val="ffffff"/>
              </a:solidFill>
              <a:latin typeface="Times New Roman"/>
            </a:endParaRPr>
          </a:p>
        </p:txBody>
      </p:sp>
      <p:pic>
        <p:nvPicPr>
          <p:cNvPr id="602" name="Picture 4" descr="TEEB-SE_Pavan_DSC_0044"/>
          <p:cNvPicPr/>
          <p:nvPr/>
        </p:nvPicPr>
        <p:blipFill>
          <a:blip r:embed="rId1">
            <a:lum bright="10000"/>
          </a:blip>
          <a:srcRect l="10340" t="11498" r="9315" b="7989"/>
          <a:stretch/>
        </p:blipFill>
        <p:spPr>
          <a:xfrm>
            <a:off x="6516720" y="1989000"/>
            <a:ext cx="2257560" cy="3232440"/>
          </a:xfrm>
          <a:prstGeom prst="rect">
            <a:avLst/>
          </a:prstGeom>
          <a:ln w="0">
            <a:noFill/>
          </a:ln>
        </p:spPr>
      </p:pic>
      <p:sp>
        <p:nvSpPr>
          <p:cNvPr id="603" name="PlaceHolder 1"/>
          <p:cNvSpPr>
            <a:spLocks noGrp="1"/>
          </p:cNvSpPr>
          <p:nvPr>
            <p:ph/>
          </p:nvPr>
        </p:nvSpPr>
        <p:spPr>
          <a:xfrm>
            <a:off x="250920" y="1700280"/>
            <a:ext cx="5796000" cy="4248000"/>
          </a:xfrm>
          <a:prstGeom prst="rect">
            <a:avLst/>
          </a:prstGeom>
          <a:noFill/>
          <a:ln w="0">
            <a:noFill/>
          </a:ln>
        </p:spPr>
        <p:txBody>
          <a:bodyPr anchor="t">
            <a:normAutofit fontScale="95000"/>
          </a:bodyPr>
          <a:p>
            <a:pPr marL="325800" indent="0" algn="ctr">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a:t>
            </a:r>
            <a:r>
              <a:rPr b="0" lang="de-DE" sz="2400" spc="-1" strike="noStrike">
                <a:solidFill>
                  <a:srgbClr val="000000"/>
                </a:solidFill>
                <a:latin typeface="Times New Roman"/>
              </a:rPr>
              <a:t>Society must urgently replace its defective economic compass so that it does not jeopardize human well-being and planetary health through the under-valuation and consequent loss of ecosystems and biodiversity.”</a:t>
            </a:r>
            <a:endParaRPr b="0" lang="en-US" sz="2400" spc="-1" strike="noStrike">
              <a:solidFill>
                <a:srgbClr val="000532"/>
              </a:solidFill>
              <a:latin typeface="Times New Roman"/>
            </a:endParaRPr>
          </a:p>
          <a:p>
            <a:pPr marL="3258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Pavan Sukhdev, TEEB Study Leader </a:t>
            </a:r>
            <a:endParaRPr b="0" lang="en-US" sz="1800" spc="-1" strike="noStrike">
              <a:solidFill>
                <a:srgbClr val="000532"/>
              </a:solidFill>
              <a:latin typeface="Times New Roman"/>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29.5.2008, CBD COP9</a:t>
            </a:r>
            <a:endParaRPr b="0" lang="en-US" sz="1800" spc="-1" strike="noStrike">
              <a:solidFill>
                <a:srgbClr val="000532"/>
              </a:solidFill>
              <a:latin typeface="Times New Roman"/>
            </a:endParaRPr>
          </a:p>
        </p:txBody>
      </p:sp>
      <p:sp>
        <p:nvSpPr>
          <p:cNvPr id="604" name="Rectangle 6"/>
          <p:cNvSpPr/>
          <p:nvPr/>
        </p:nvSpPr>
        <p:spPr>
          <a:xfrm>
            <a:off x="6498720" y="5157720"/>
            <a:ext cx="1680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TEEB@CBD COP9, Bonn 2008</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06" name="Picture 3" descr="logo TEEB transparent print"/>
          <p:cNvPicPr/>
          <p:nvPr/>
        </p:nvPicPr>
        <p:blipFill>
          <a:blip r:embed="rId1"/>
          <a:stretch/>
        </p:blipFill>
        <p:spPr>
          <a:xfrm>
            <a:off x="3059280" y="1125360"/>
            <a:ext cx="3968640" cy="3818160"/>
          </a:xfrm>
          <a:prstGeom prst="rect">
            <a:avLst/>
          </a:prstGeom>
          <a:ln w="0">
            <a:noFill/>
          </a:ln>
        </p:spPr>
      </p:pic>
      <p:sp>
        <p:nvSpPr>
          <p:cNvPr id="607"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4:14:57Z</dcterms:created>
  <dc:creator>KREBS</dc:creator>
  <dc:description/>
  <dc:language>en-US</dc:language>
  <cp:lastModifiedBy>KREBS</cp:lastModifiedBy>
  <dcterms:modified xsi:type="dcterms:W3CDTF">2013-08-12T14:17:25Z</dcterms:modified>
  <cp:revision>1</cp:revision>
  <dc:subject/>
  <dc:title>PowerPoint Presentation</dc:title>
</cp:coreProperties>
</file>